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A6CD-2640-4230-A596-D71D57ABD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50E0-4543-4A3D-92D9-4CA51B3E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B76D-1180-4B6B-8FA3-35629D1D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8DB9-3BE8-491B-BFEB-0A16977F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D14C4-A591-4184-955E-5A6D9547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91E1-0E31-4EC3-A39B-4C61E3C9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27FF-1860-418C-8267-E46BFB73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D4E3-0F56-42E0-9A5D-C215834D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8A55-5BF9-40AA-B502-639C9B54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7602-4507-470D-A661-1515C3C6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78B6-F311-4616-B653-2A2BEE62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5D50-755E-4DE8-A661-4E03EE89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EC71-F72B-43C7-9335-A521A240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9D78-CFBF-4416-9572-49F85A0B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08B3-808A-4279-85C4-C3A1C567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1DD3-59B0-4B97-96FE-2364980E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B7A7-EB37-44D4-A341-56A0DB2D3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F76A-CBF8-4D9C-A5F3-DFBA80E2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750-E903-4CE2-86D3-DDF6E46D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3C5-3050-4179-8A9F-E33864DF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8ADC-01A4-4BF6-BFE7-2BA64FF5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3A9F-887F-4A5B-8C85-A83607DD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E76B-7D7A-40A0-AA7C-2CA782D1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544C-E6E0-4AC8-ACB4-C25A8BEF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FFD4-1EC2-4A16-9E81-D5544E4B3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9FC3-5874-4A7B-99BF-FC0DA6B1A4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branko.ratkovic@minrzs.gov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TRATEGIJ</a:t>
            </a:r>
            <a:r>
              <a:rPr b="1" lang="sr-Latn-CS" sz="36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D</a:t>
            </a:r>
            <a:r>
              <a:rPr b="1" lang="sr-Latn-CS" sz="3600" spc="-1" strike="noStrike">
                <a:solidFill>
                  <a:srgbClr val="000000"/>
                </a:solidFill>
                <a:latin typeface="Verdana"/>
              </a:rPr>
              <a:t>RUŠTVENO ODGOVORNOG POSLOVANJA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REPUBLIKE SRBIJ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Verdana"/>
              </a:rPr>
              <a:t>Beograd 27.04.201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000000"/>
                </a:solidFill>
                <a:latin typeface="Verdana"/>
              </a:rPr>
              <a:t>Kako do realizacij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6628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Svi akteri koji žele da se uključe u implementaciju mogu se obratiti nadležnom ministarstv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Partneri se mogu usmeriti na konkretne cilje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Za partnerske projekte Ministarstvo će omoguti sufinasiranje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000000"/>
                </a:solidFill>
                <a:latin typeface="Verdana"/>
              </a:rPr>
              <a:t>Zašto je važno da se uključim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Jedno sektorski pristup se pokazao ka neodrži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CSR je potrebno podići na viši n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Dobra prilika za razmenu informacija i učenje izmedju različitih sekto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160" y="16761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Kontakt osob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Branko Ratković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branko.ratkovic@minrzs.gov.rs</a:t>
            </a: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Hvala na pažnj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000000"/>
                </a:solidFill>
                <a:latin typeface="Verdana"/>
              </a:rPr>
              <a:t>Strategija DO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Važno je da postoji i pruža  okvir za delovanj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Ipak, ima određene nedostatke (mehanizmi i indikatori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Utisak je da svi relevantni akteri nisu bili uključeni u dovoljnoj meri u proces izrad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000000"/>
                </a:solidFill>
                <a:latin typeface="Verdana"/>
              </a:rPr>
              <a:t>Ključne intecije u Implementacij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6628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Otvoriti i učiniti CSR koncept dostupnim svi zainteresovanim aktri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Uspostaviti efikasne mehanizme kros-sektorske saradnj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Podići svest o potrebi integrisanja CSR u sžr poslavanja i delatnost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Verdana"/>
              </a:rPr>
              <a:t>Akcioni plan 2011-2013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000000"/>
                </a:solidFill>
                <a:latin typeface="Verdana"/>
              </a:rPr>
              <a:t>Akcioni plan 2011-2013 - ciljev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Cilj 1: Promocija koncepta DOP-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Cilj 2: Razvoj kapаcitetа DOP-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Cilj 3: Stvaranje podsticaja i zakonskih obaveza koji će osigurаti stvаrаnje okruženja pogodnоg za širenje DOP-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Verdana"/>
              </a:rPr>
              <a:t>Cilj 1: Promocija koncepta DOP-a (Ključne aktivnosti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reiranje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ehanizama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a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mociju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azvoj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Javne kampаnj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Istraživanje o Dоp-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0" i="1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800" spc="-1" strike="noStrike">
                <a:solidFill>
                  <a:srgbClr val="000000"/>
                </a:solidFill>
                <a:latin typeface="Verdana"/>
              </a:rPr>
              <a:t>Cilj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Stimulisanje saradnje i dijaloga</a:t>
            </a:r>
            <a:r>
              <a:rPr b="0" i="1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Obezbeđivanje obuke i obrazovanja o dop-u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Verdana"/>
              </a:rPr>
              <a:t>Cilj 2:Razvoj kapaciteta za DOP (Ključne aktivnosti)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6628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Obuka i razmena iskusta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Razvoj upravljanja performansom do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15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Verdana"/>
              </a:rPr>
              <a:t>Cilj 3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sr-Latn-CS" sz="2600" spc="-1" strike="noStrike">
                <a:solidFill>
                  <a:srgbClr val="000000"/>
                </a:solidFill>
                <a:latin typeface="Verdana"/>
              </a:rPr>
              <a:t>Stvaranje podsticaja i zakonskih obaveza koji će osigurati stvaranje okruženja pogodnog za širenje DOP-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Stvaranje podsticajа zа do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zrada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lementacija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pštih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mernica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poruka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ezanih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a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onsku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l</a:t>
            </a:r>
            <a:r>
              <a:rPr b="0" lang="sr-CS" sz="3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v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6:46:47Z</dcterms:created>
  <dc:creator>Sinisa Djuric</dc:creator>
  <dc:description/>
  <dc:language>en-US</dc:language>
  <cp:lastModifiedBy>Zeljko ILIC</cp:lastModifiedBy>
  <dcterms:modified xsi:type="dcterms:W3CDTF">2012-04-27T10:10:13Z</dcterms:modified>
  <cp:revision>25</cp:revision>
  <dc:subject/>
  <dc:title>RADIONICA REVIZIJA AKCIONOG PLANA STRATEGIJE DOP REPUBLIKE SRBIJE</dc:title>
</cp:coreProperties>
</file>