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B75-1B4A-44ED-A5B3-56D52ED1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399-4148-46E3-BD7B-B5853C4E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44B-0B0F-4E1D-B0E2-B7509828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7F8-E6B4-4741-A7E1-3CD51AB6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275D-EB24-4198-8398-41DF3FBD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610E-119F-400C-8F57-FC0B859B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1C43-DB92-44D4-83A7-FCA89E1F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3BD-2E0E-48BA-A288-F0060D7D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767B-8249-4B26-BBFE-4BDA6964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F47F-6D6F-40B4-BED7-28B45140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27D-CA7F-47FF-8433-E6435BA2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969-6451-484D-A856-40EA4DCB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8894-7E8A-4BC2-9060-85FBF65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EABE-E857-44B5-B720-419C16FB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E1B4-7EC2-466F-AB47-A609FA33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F835-32AD-4903-9A9C-4D2EA38F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3751-44C7-4C2D-8CC1-8A605A20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29D-BD08-4F18-A790-4E03C5EF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936-AC0E-4DF9-9A68-37738CF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D34-6579-442D-8193-00DF7640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13E-D54C-4416-BD22-3F77F071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53B-CE5E-4328-A831-EF6C4E8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00A-59B1-46D6-99CB-53D5502B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EF1-080A-439F-86D1-DBBE5D3A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8584-404F-4106-8043-A17760258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37C7-C3D7-491C-B33D-10808C64E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ranko.ratkovic@minrzs.gov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TRATEGIJ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RUŠTVENO ODGOVORNOG POSLOVANJA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REPUBLIKE SRBIJ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Beograd 27.04.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Kako do realizaci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Svi akteri koji žele da se uključe u implementaciju mogu se obratiti nadležnom ministarst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Partneri se mogu usmeriti na konkretne cilje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Za partnerske projekte Ministarstvo će omoguti sufinasiranje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Zašto je važno da se uključi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Jedno sektorski pristup se pokazao ka neodrži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CSR je potrebno podići na viši n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Dobra prilika za razmenu informacija i učenje izmedju različitih sekto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Kontakt osob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Branko Ratković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branko.ratkovic@minrzs.gov.rs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Hvala na pažnj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Strategija DO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Važno je da postoji i pruža  okvir za delov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pak, ima određene nedostatke (mehanizmi i indikator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Utisak je da svi relevantni akteri nisu bili uključeni u dovoljnoj meri u proces izra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Ključne intecije u Implementacij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Otvoriti i učiniti CSR koncept dostupnim svi zainteresovanim aktri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Uspostaviti efikasne mehanizme kros-sektorske saradn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Podići svest o potrebi integrisanja CSR u sžr poslavanja i delatnost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Verdana"/>
              </a:rPr>
              <a:t>Akcioni plan 2011-201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Akcioni plan 2011-2013 - cilje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Cilj 1: Promocija koncepta DOP-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Cilj 2: Razvoj kapаcitetа DOP-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Cilj 3: Stvaranje podsticaja i zakonskih obaveza koji će osigurаti stvаrаnje okruženja pogodnоg za širenje DOP-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Verdana"/>
              </a:rPr>
              <a:t>Cilj 1: Promocija koncepta DOP-a (Ključne aktivnosti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reiranje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hanizam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ociju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zvoj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Javne kampаn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Istraživanje o Dоp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Cilj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Stimulisanje saradnje i dijaloga</a:t>
            </a:r>
            <a:r>
              <a:rPr b="0" i="1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Obezbeđivanje obuke i obrazovanja o dop-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Verdana"/>
              </a:rPr>
              <a:t>Cilj 2:Razvoj kapaciteta za DOP (Ključne aktivnosti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Obuka i razmena iskusta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Razvoj upravljanja performansom do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Verdana"/>
              </a:rPr>
              <a:t>Cilj 3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Stvaranje podsticaja i zakonskih obaveza koji će osigurati stvaranje okruženja pogodnog za širenje DOP-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Stvaranje podsticajа zа do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zrad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cij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štih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ernic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poruk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zanih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sku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l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6:46:47Z</dcterms:created>
  <dc:creator>Sinisa Djuric</dc:creator>
  <dc:description/>
  <dc:language>en-US</dc:language>
  <cp:lastModifiedBy>Zeljko ILIC</cp:lastModifiedBy>
  <dcterms:modified xsi:type="dcterms:W3CDTF">2012-04-27T10:10:13Z</dcterms:modified>
  <cp:revision>25</cp:revision>
  <dc:subject/>
  <dc:title>RADIONICA REVIZIJA AKCIONOG PLANA STRATEGIJE DOP REPUBLIKE SRBIJE</dc:title>
</cp:coreProperties>
</file>