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534-2197-4C74-81AB-64CE704B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87EF-2CF2-47FF-9532-268F694A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C20-CFFE-4D5F-9A00-C31D5363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D4D3-87BB-44A1-B5DA-BEBD1110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BF85-B00B-4CEE-82B8-C7407A20D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235A-4F57-4D0B-9CF0-779FBBFB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EF0C-3A4F-453A-85E3-CCDEAE3A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8F6-3D72-4698-B62F-22AD090A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E032-89D7-4A6F-A098-CFE32E8E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6388-3F90-4CC2-B887-723CA19D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E352-9062-4F56-A323-5E9079B8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A2DA-BC6A-46A2-BDFD-C9EA114C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D174-B804-4F2E-8167-9DA26E9B8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491976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35320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5692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64048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564048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4:00:41Z</dcterms:created>
  <dc:creator>marija.petrovic</dc:creator>
  <dc:description/>
  <dc:language>en-US</dc:language>
  <cp:lastModifiedBy>marija.petrovic</cp:lastModifiedBy>
  <dcterms:modified xsi:type="dcterms:W3CDTF">2010-06-15T14:13:51Z</dcterms:modified>
  <cp:revision>5</cp:revision>
  <dc:subject/>
  <dc:title>Slide 1</dc:title>
</cp:coreProperties>
</file>