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A90-09C8-423D-8D79-70CE4CE0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D78-0186-4981-B927-83E8867A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F21-5B60-4EAE-B6F8-6D64E381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591-8E56-449A-BAC9-A4033386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9BB-5BD7-4E14-9002-B4F92965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840-1BE4-4883-A596-8D34477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188-2DAF-4CBC-B24F-93A6BDC7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F32-96B5-4113-826F-9438A2AA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3B0-2BA1-4173-9FD0-ED63A7C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60C-A088-45A1-802C-0A7D334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E7D-E2BC-44E9-9556-7F40F87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6FB-E88F-4970-B8CF-8C8B747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338-9331-4B21-8F74-E9716D1E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49197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353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692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404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404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4:00:41Z</dcterms:created>
  <dc:creator>marija.petrovic</dc:creator>
  <dc:description/>
  <dc:language>en-US</dc:language>
  <cp:lastModifiedBy>marija.petrovic</cp:lastModifiedBy>
  <dcterms:modified xsi:type="dcterms:W3CDTF">2010-06-15T14:13:51Z</dcterms:modified>
  <cp:revision>5</cp:revision>
  <dc:subject/>
  <dc:title>Slide 1</dc:title>
</cp:coreProperties>
</file>