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E024-BFFA-47E1-B662-ECEB96E91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0FB8-926D-4A0E-9167-15F6E9716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501480" y="401760"/>
            <a:ext cx="82267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8320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64920" y="159876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148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8320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64920" y="3748320"/>
            <a:ext cx="264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17080" y="374832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14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1598760"/>
            <a:ext cx="4014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480" y="3748320"/>
            <a:ext cx="822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7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0" y="1143000"/>
            <a:ext cx="2286000" cy="7632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0"/>
          <p:cNvSpPr/>
          <p:nvPr/>
        </p:nvSpPr>
        <p:spPr>
          <a:xfrm>
            <a:off x="2286000" y="1143000"/>
            <a:ext cx="2286000" cy="7632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4572000" y="1143000"/>
            <a:ext cx="2286000" cy="7632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6858000" y="1143000"/>
            <a:ext cx="2286000" cy="7632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304920" y="5867280"/>
            <a:ext cx="32004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501480" y="1598760"/>
            <a:ext cx="822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1" marL="743040" indent="-285840">
              <a:spcBef>
                <a:spcPts val="524"/>
              </a:spcBef>
              <a:buClr>
                <a:srgbClr val="47b3b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2" marL="1143000" indent="-228600">
              <a:spcBef>
                <a:spcPts val="524"/>
              </a:spcBef>
              <a:buClr>
                <a:srgbClr val="4c693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3" marL="1600200" indent="-228600">
              <a:spcBef>
                <a:spcPts val="524"/>
              </a:spcBef>
              <a:buClr>
                <a:srgbClr val="cd0921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4" marL="2057400" indent="-228600">
              <a:spcBef>
                <a:spcPts val="524"/>
              </a:spcBef>
              <a:buClr>
                <a:srgbClr val="063a4c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63a4c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63a4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-838080" y="0"/>
            <a:ext cx="9982080" cy="5334120"/>
          </a:xfrm>
          <a:prstGeom prst="rect">
            <a:avLst/>
          </a:prstGeom>
          <a:solidFill>
            <a:srgbClr val="063a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8"/>
          <p:cNvSpPr/>
          <p:nvPr/>
        </p:nvSpPr>
        <p:spPr>
          <a:xfrm>
            <a:off x="831960" y="594360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1351080" y="6000840"/>
            <a:ext cx="741204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685800" y="1066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7"/>
          <p:cNvSpPr/>
          <p:nvPr/>
        </p:nvSpPr>
        <p:spPr>
          <a:xfrm>
            <a:off x="0" y="6858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I</a:t>
            </a:r>
            <a:r>
              <a:rPr b="0" i="1" lang="sr-Latn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zveštaj o angažovanj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za neposlovne članice</a:t>
            </a:r>
            <a:r>
              <a:rPr b="0" i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mre</a:t>
            </a:r>
            <a:r>
              <a:rPr b="0" i="1" lang="sr-Latn-C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ž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Sanja Bunić, sekretarijat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Globalnog dogovora u Srb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18. decembar 201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sr-Latn-C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8"/>
          <p:cNvSpPr/>
          <p:nvPr/>
        </p:nvSpPr>
        <p:spPr>
          <a:xfrm>
            <a:off x="0" y="5257800"/>
            <a:ext cx="2286000" cy="152280"/>
          </a:xfrm>
          <a:prstGeom prst="rect">
            <a:avLst/>
          </a:prstGeom>
          <a:solidFill>
            <a:srgbClr val="e378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9"/>
          <p:cNvSpPr/>
          <p:nvPr/>
        </p:nvSpPr>
        <p:spPr>
          <a:xfrm>
            <a:off x="2286000" y="5257800"/>
            <a:ext cx="2286000" cy="152280"/>
          </a:xfrm>
          <a:prstGeom prst="rect">
            <a:avLst/>
          </a:prstGeom>
          <a:solidFill>
            <a:srgbClr val="47b3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0"/>
          <p:cNvSpPr/>
          <p:nvPr/>
        </p:nvSpPr>
        <p:spPr>
          <a:xfrm>
            <a:off x="4572000" y="5257800"/>
            <a:ext cx="2286000" cy="152280"/>
          </a:xfrm>
          <a:prstGeom prst="rect">
            <a:avLst/>
          </a:prstGeom>
          <a:solidFill>
            <a:srgbClr val="4c69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1"/>
          <p:cNvSpPr/>
          <p:nvPr/>
        </p:nvSpPr>
        <p:spPr>
          <a:xfrm>
            <a:off x="6858000" y="5257800"/>
            <a:ext cx="2286000" cy="152280"/>
          </a:xfrm>
          <a:prstGeom prst="rect">
            <a:avLst/>
          </a:prstGeom>
          <a:solidFill>
            <a:srgbClr val="cd09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Gradov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914040"/>
            <a:ext cx="89154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Gradovi bi trebali da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imenjuju principe Globalnog dogovora i rade na njihovoj promociji u upravljanju gradom ili regijom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održavaju poslovni sektor i druge zainteresovane strane  u uspostavljanju i implementaciji održivih inicijativa koje su transparentne i korisne za gradove i celokupno društvo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se uključe u rad lokalne mreže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javno objave svoje članstvo u Globalnom dogovoru i rade na promociji principa...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pic>
        <p:nvPicPr>
          <p:cNvPr id="314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Javni sektor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28600" y="1294920"/>
            <a:ext cx="815328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57480" indent="-343080">
              <a:spcBef>
                <a:spcPts val="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 lvl="2" marL="1257480" indent="-343080">
              <a:spcBef>
                <a:spcPts val="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 lvl="2" marL="1257480" indent="-343080">
              <a:spcBef>
                <a:spcPts val="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 lvl="2" marL="1257480" indent="-343080">
              <a:spcBef>
                <a:spcPts val="3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17" name="Content Placeholder 2"/>
          <p:cNvSpPr/>
          <p:nvPr/>
        </p:nvSpPr>
        <p:spPr>
          <a:xfrm>
            <a:off x="0" y="914400"/>
            <a:ext cx="891540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Javni sektor bi treba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učestvuje u radu lokalne mreže Globalnog dogovo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se priključi postojećem projektu mreže ili predloži partnerstvo u realizaciji projek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pruže podršku u internacionalizaciji kompanija – članica Globalnog dogovo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se priključe  i podrže specijalne inicijative i tokove poslovanj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  <a:ea typeface="ＭＳ Ｐゴシック"/>
              </a:rPr>
              <a:t>Da učestvuju u dogadjajima na globalnom, regionalnom i lokalnom nivou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1"/>
          <p:cNvSpPr/>
          <p:nvPr/>
        </p:nvSpPr>
        <p:spPr>
          <a:xfrm>
            <a:off x="2362320" y="4981680"/>
            <a:ext cx="4572000" cy="24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www.ung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c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www.unglobalcompact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globalni.dogovor</a:t>
            </a: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@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pks</a:t>
            </a: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s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  <a:ea typeface="Calibri"/>
              </a:rPr>
              <a:t>anja.bunic</a:t>
            </a:r>
            <a:r>
              <a:rPr b="0" lang="en-US" sz="2400" spc="-1" strike="noStrike">
                <a:solidFill>
                  <a:srgbClr val="063a4c"/>
                </a:solidFill>
                <a:latin typeface="Calibri"/>
                <a:ea typeface="Calibri"/>
              </a:rPr>
              <a:t>@pks.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397240" y="3048120"/>
            <a:ext cx="56545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Šta je Izveštaj o angažovan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522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1" lang="sr-Latn-CS" sz="2000" spc="-1" strike="noStrike">
                <a:solidFill>
                  <a:srgbClr val="063a4c"/>
                </a:solidFill>
                <a:latin typeface="Calibri"/>
              </a:rPr>
              <a:t>Izveštaj o angažovanju </a:t>
            </a: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je dokaz o aktivnostima koje neposlovni sektor sprovodi a kako bi podržao inicijativu Globalni dogovor;</a:t>
            </a: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Politika koja je uvedena </a:t>
            </a:r>
            <a:r>
              <a:rPr b="1" lang="sr-Latn-CS" sz="2000" spc="-1" strike="noStrike">
                <a:solidFill>
                  <a:srgbClr val="063a4c"/>
                </a:solidFill>
                <a:latin typeface="Calibri"/>
              </a:rPr>
              <a:t>31. oktobra 2013.</a:t>
            </a: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63a4c"/>
                </a:solidFill>
                <a:latin typeface="Calibri"/>
              </a:rPr>
              <a:t>Alatka kojom neposlovni sektor izražava svoju privrženost inicijativi, a kroz  transparentnost i komunikaciju načina na koji oni unapredjuju Globalni dogovor</a:t>
            </a:r>
            <a:endParaRPr b="0" lang="en-US" sz="20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83" name="Content Placeholder 2"/>
          <p:cNvSpPr/>
          <p:nvPr/>
        </p:nvSpPr>
        <p:spPr>
          <a:xfrm>
            <a:off x="4495680" y="11430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Svrha uvodjenja Izveštaja o angažovan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Maksimizirati potencijal neposlovnih članica u inicijativi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Razvijanje jasnih očekivanja od neposlovnih članica u Globalnom 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dogovoru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Sprečavanje zloupotreba u okviru kategorije neposlovni sektor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  </a:t>
            </a:r>
            <a:r>
              <a:rPr b="0" lang="sr-Latn-CS" sz="1800" spc="-1" strike="noStrike">
                <a:solidFill>
                  <a:srgbClr val="063a4c"/>
                </a:solidFill>
                <a:latin typeface="Verdana"/>
              </a:rPr>
              <a:t>Lokalne mreže su inicirale uvodjenje Izveštaja o angažovanju, a usled  manjka informacija i jasnih očekivanja od neposlovnih članica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63a4c"/>
                </a:solidFill>
                <a:latin typeface="Verdana"/>
              </a:rPr>
              <a:t>Napomena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63a4c"/>
                </a:solidFill>
                <a:latin typeface="Verdana"/>
              </a:rPr>
              <a:t>– </a:t>
            </a:r>
            <a:r>
              <a:rPr b="1" i="1" lang="sr-Latn-CS" sz="1800" spc="-1" strike="noStrike">
                <a:solidFill>
                  <a:srgbClr val="063a4c"/>
                </a:solidFill>
                <a:latin typeface="Verdana"/>
              </a:rPr>
              <a:t>Globalni dogovor ostaje inicijativa koja je primarna za poslovni sektor i koja se odnosi na uspostavljanje dijaloga najpre za poslovne članice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pic>
        <p:nvPicPr>
          <p:cNvPr id="287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438280" y="5715000"/>
            <a:ext cx="535644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Sadržaj zahteva Izveštaja o napretku i Izveštaja o angažovan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762120" y="1752480"/>
            <a:ext cx="350496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63a4c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63a4c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63a4c"/>
              </a:solidFill>
              <a:latin typeface="Calibri"/>
            </a:endParaRPr>
          </a:p>
          <a:p>
            <a:pPr lvl="1" marL="399960">
              <a:lnSpc>
                <a:spcPct val="100000"/>
              </a:lnSpc>
              <a:spcBef>
                <a:spcPts val="374"/>
              </a:spcBef>
              <a:buClr>
                <a:srgbClr val="47b3b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290" name="Content Placeholder 2"/>
          <p:cNvSpPr/>
          <p:nvPr/>
        </p:nvSpPr>
        <p:spPr>
          <a:xfrm>
            <a:off x="380880" y="1143000"/>
            <a:ext cx="8305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228600" y="1981080"/>
            <a:ext cx="380988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2060"/>
                </a:solidFill>
                <a:latin typeface="Arial"/>
              </a:rPr>
              <a:t>Za kompani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Izjava kontinuirane podrške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direktora kompan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O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pis akcija </a:t>
            </a:r>
            <a:r>
              <a:rPr b="1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u svim oblastima 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zaštita ljudskih prava, radnih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prava, životne sredine i borbe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potiv korupcije (Izvesti ili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objasni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	</a:t>
            </a:r>
            <a:r>
              <a:rPr b="0" lang="sr-Latn-CS" sz="2400" spc="-1" strike="noStrike" baseline="-25000">
                <a:solidFill>
                  <a:srgbClr val="002060"/>
                </a:solidFill>
                <a:latin typeface="Arial"/>
                <a:ea typeface="ＭＳ Ｐゴシック"/>
              </a:rPr>
              <a:t>Merljivi rez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952880" y="1981080"/>
            <a:ext cx="396252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2060"/>
                </a:solidFill>
                <a:latin typeface="Arial"/>
              </a:rPr>
              <a:t>Za neposlovni se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Izjava kontinuirane podrške 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z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vršnog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direktora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pis akcija </a:t>
            </a:r>
            <a:r>
              <a:rPr b="1" lang="sr-Latn-CS" sz="2400" spc="-1" strike="noStrike">
                <a:solidFill>
                  <a:srgbClr val="002060"/>
                </a:solidFill>
                <a:latin typeface="Arial"/>
              </a:rPr>
              <a:t>u najmanje jednoj 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aktivnosti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s</a:t>
            </a:r>
            <a:r>
              <a:rPr b="0" lang="sr-Latn-CS" sz="2400" spc="-1" strike="noStrike">
                <a:solidFill>
                  <a:srgbClr val="002060"/>
                </a:solidFill>
                <a:latin typeface="Arial"/>
              </a:rPr>
              <a:t>hodno obliku organizovanja (akademske institucije,poslovne asocijacije, gradovi, sindikati, NVO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0" lang="sr-Latn-CS" sz="2800" spc="-1" strike="noStrike">
                <a:solidFill>
                  <a:srgbClr val="002060"/>
                </a:solidFill>
                <a:latin typeface="Calibri"/>
              </a:rPr>
              <a:t>Merljivi rezul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eft-Right Arrow 14"/>
          <p:cNvSpPr/>
          <p:nvPr/>
        </p:nvSpPr>
        <p:spPr>
          <a:xfrm>
            <a:off x="4191120" y="3276720"/>
            <a:ext cx="609480" cy="228600"/>
          </a:xfrm>
          <a:prstGeom prst="left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Sadržaj zahteva Izveštaja o napretku i Izveštaja o angažovanju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01480" y="1598760"/>
            <a:ext cx="8226720" cy="4114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457200" y="1641600"/>
          <a:ext cx="8153280" cy="5052960"/>
        </p:xfrm>
        <a:graphic>
          <a:graphicData uri="http://schemas.openxmlformats.org/drawingml/2006/table">
            <a:tbl>
              <a:tblPr/>
              <a:tblGrid>
                <a:gridCol w="3913200"/>
                <a:gridCol w="4240080"/>
              </a:tblGrid>
              <a:tr h="56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dnošenje Izveštaja o napretku (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dnošenje Izveštaja o angažovanju (IO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b3e2"/>
                    </a:solidFill>
                  </a:tcPr>
                </a:tc>
              </a:tr>
              <a:tr h="316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Svak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Svake druge god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315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Onlajn podnošenje Izvešt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Onlajn podnošenje Izvešt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63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Samoocenjivanje uz </a:t>
                      </a: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stojanje nivoa izvešta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Samoocenjivanje uz </a:t>
                      </a:r>
                      <a:r>
                        <a:rPr b="1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nepostojanje nivoa izvešta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569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okument je obavezno u formi P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okument je obavezno u formi P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852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ropustili ste prvi rok za izveštavanje – kompanija je nekomunicirajuć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ropustili ste prvi rok za izveštavanje – neposlovni sektor  je nekomunicirajuć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946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Nakon isteka jedne godine sa statusom nekomunicirajući – izbacivanje iz inicij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Nakon isteka jedne godine sa statusom nekomunicirajući – izbacivanje iz inicijati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853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stojanje mogućnosti za izmenu roka postavljanja izvešt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Postojanje mogućnosti za izmenu roka postavljanja izvešta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1480" y="401760"/>
            <a:ext cx="8226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Calibri"/>
              </a:rPr>
              <a:t>Izveštaj o angažovanju – Onlajn upitni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488880" y="1371600"/>
            <a:ext cx="781704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Akademske institu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1920" y="11426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Akademski sektor bi trebao da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Ugradi principe Globalnog dogovora u svakodnevne operacije i izveštava o svom napretku sledeći kriterijume za Izveštaj o napretku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Radi na promociji Globalnog dogovora i 10 principa kroz podršku barem jedne od sledećih aktivnosti: 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  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 sprovodjenje edukacije na teme koje su u vezi sa Globalnim dogovorom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  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 sprovodjenje istraživanja i osmišljavanje  predvodništva u relaciji sa Globalnim dogovorom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   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 rad na širenju ideje - principa Globalnog dogovora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     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- pozajmi kapacitete lokalnoj mreži Globalnog dogovora ili Kancelariji Globalnog  dogovora u Njujorku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495680" y="11430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Organizacije civilnog društv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51920" y="11426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NVO sektor bi trebao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se uključi u aktivnosti lokalne mreže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se priključi projektima koje mreža realizuje ili predloži realizaciju novih projekata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bezbedi komentare poslovnom sektoru na njihove Izveštaje o napretku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Učestvuje na dogadjajima na lokalnom/globalnom nivou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Privuče kompanije da se uključe u teme u vezi sa Globalnim dogovorom...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495680" y="11430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4017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Predložene aktivnosti za neposlovni sektor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Calibri"/>
              </a:rPr>
              <a:t>- Poslovne asocijacij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2824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63a4c"/>
                </a:solidFill>
                <a:latin typeface="Calibri"/>
              </a:rPr>
              <a:t>Poslovna asocijacija bi trebala :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privuče nove članice u Globalni dogovor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Da organizuje dogadjaje, radionice, treninge za članice na temu koje su u vezi sa Globalnim dogovor i konceptom korporativne  održivosti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Obezbede ekspertizu i/ili svoj glas u radnim grupama Globalnog dogovora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Uključe svoje članice u kolektivnu akciju na teme od značaja za Globalni dogovor;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63a4c"/>
                </a:solidFill>
                <a:latin typeface="Calibri"/>
              </a:rPr>
              <a:t>Bude domaćin sekretarijata lokalne mreže Globalni dogovor...</a:t>
            </a: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e378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63a4c"/>
              </a:solidFill>
              <a:latin typeface="Calibri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4495680" y="1143000"/>
            <a:ext cx="41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r>
              <a:rPr b="0" lang="sr-Latn-CS" sz="2400" spc="-1" strike="noStrike">
                <a:solidFill>
                  <a:srgbClr val="063a4c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3782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C:\Documents and Settings\sanja.bunic\My Documents\ANA\GLOBALNI DOGOVOR\Logo Policy januar 2014\Serbia\LN_SRB_LOGO_wide.png"/>
          <p:cNvPicPr/>
          <p:nvPr/>
        </p:nvPicPr>
        <p:blipFill>
          <a:blip r:embed="rId1"/>
          <a:stretch/>
        </p:blipFill>
        <p:spPr>
          <a:xfrm>
            <a:off x="2568600" y="5538960"/>
            <a:ext cx="53560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02:32:09Z</dcterms:created>
  <dc:creator>Sven Biermann</dc:creator>
  <dc:description/>
  <dc:language>en-US</dc:language>
  <cp:lastModifiedBy>sanja.bunic</cp:lastModifiedBy>
  <dcterms:modified xsi:type="dcterms:W3CDTF">2014-11-20T15:02:45Z</dcterms:modified>
  <cp:revision>450</cp:revision>
  <dc:subject/>
  <dc:title>PowerPoint-Präsentation</dc:title>
</cp:coreProperties>
</file>