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0D14-8AAC-4772-82EB-D304D3203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2093-C2B9-4066-809C-0B46164E5F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8512-AA91-4B7B-9C0E-BBBE6B2E4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8F28-F00F-4D7C-8A41-EEB2C99D7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5F0D-E270-4BDA-B087-2C1186F3D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2EC7-925B-4684-8B90-E83532F8E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2B39-BA12-434F-93FD-E0C1CCA32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0D91-9DD3-45DE-B189-EAC74AB2D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EBD2-BC73-43D1-AC64-9892758E4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4784-6FEF-4E91-9A41-B542225AD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7C80-EBBC-4A31-A609-C67F02027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3B6D-E95A-4A86-82E8-BA2CB89E6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246E-E9AF-4EFE-9852-5BD44EFA4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E6B1-13A9-4AC3-9E34-3966B435D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1C21-CD79-4C59-9E3C-31E1068D2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3A0F-A857-4AF4-8A61-8104BE0D6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B875-3626-46FB-8915-B13BAC781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2ABF-4823-443D-8DEF-60BFCA288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5CFF-5B10-478A-B3EF-232A6FD39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A9B4-ACCA-47DE-9ED9-3F7A45F6D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DC27-328A-4A3A-9306-0384838C5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4984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2143-DC4D-476D-A3C6-B8C253496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731A-95FF-4913-929F-0F531CEA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D49F-0043-485B-A67B-90E77E98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20C5-FF9B-41B2-B172-A8CB4CEF5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B6FC-A96C-4E7B-B115-88EAE2A4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DA2B-279E-4CA6-94FF-FD58EF31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66AC-EC88-4D73-9CC2-61C082A3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14B5-15F8-4641-82DD-7991B629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FA3-820D-4516-A165-B926E257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C23A-774D-4B4F-BA87-2C466D6D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38E-EF5E-4B46-BFA4-BCE0FD7B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AED-2803-4D57-B17B-94443A02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AC3-0DD4-47D5-B6CE-33BF94D8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EBDF-082D-4E28-A221-B5EFC6A7EB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" descr="GCN_serbia.JPG"/>
          <p:cNvPicPr/>
          <p:nvPr/>
        </p:nvPicPr>
        <p:blipFill>
          <a:blip r:embed="rId2"/>
          <a:stretch/>
        </p:blipFill>
        <p:spPr>
          <a:xfrm>
            <a:off x="5562720" y="152280"/>
            <a:ext cx="340524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600120" y="236232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Go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dišnja skupština Globalnog dogovora u Srbi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3399"/>
                </a:solidFill>
                <a:latin typeface="Times New Roman"/>
              </a:rPr>
              <a:t>Privredna komora Srb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Beograd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14.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decembar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0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9"/>
          <p:cNvSpPr/>
          <p:nvPr/>
        </p:nvSpPr>
        <p:spPr>
          <a:xfrm flipH="1">
            <a:off x="685440" y="2895480"/>
            <a:ext cx="6551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09480" y="914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G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 za KDO u bankarstvu i finansijama – plan za 201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80880" y="1905120"/>
            <a:ext cx="8229600" cy="19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1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116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116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H="1">
            <a:off x="685440" y="1371600"/>
            <a:ext cx="7164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533520" y="19051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5800" y="1752480"/>
            <a:ext cx="7238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astavak saradnje sa školama u kojima postoji obrazovni profil “Bankarski službeni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davanja za učenike i profesor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po izabranim tema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Jednonedeljna /dvonedeljna 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aksa u bank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seta Centru za posetioce 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ro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n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ban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risustvo  predstavnika banaka na maturskom ispi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hađanje stručnih seminara Akademije za bankarstvo i finansi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ovi ciklus besplatnih radionica za građane pod nazivom “Upravljanje ličnim finansijama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alizovanje radionica po manjim gradovima u saradnji sa lokalnim organizacijama i partnerstvo sa AIESEC-o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ktiv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 promocija “E-learning” aplikaci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90400" y="99072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adna grupa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 za borbu protiv korup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1523880"/>
            <a:ext cx="8229600" cy="48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gencija za borbu protiv korupcije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merička privredna komora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nka Intes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entar za demokratiju, Centar za monitoring i evaluaciju,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entar za bezbednosne stud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Deloitte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Ecoprotexi, Hauska partners, Holcim Srbija, Industrijski sindikat Srbije, Jubmes banka, Kancelarija za evropske integracije, Kreativne inovacije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PMG, Merck Sharp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&amp; Dohm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Narodna banka Srbije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cewaterhouse Coopers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rivredna komora Srbije, Siemens Srbija, Transparentnost Srbija, Telekom Srbija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druženje Eutopija,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Princip 10 Globalnog dogovora UN i kompanijski aspekt borbe protiv korupcij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a korporacijskog aspekta postoje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tri nivoa borbe protiv korupc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interni, eksterni i zajednička akcij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Privredna komora Srb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 flipH="1">
            <a:off x="684000" y="144792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C:\Documents and Settings\sanja.bunic\My Documents\My Pictures\borba-protiv-korupcije.jpg"/>
          <p:cNvPicPr/>
          <p:nvPr/>
        </p:nvPicPr>
        <p:blipFill>
          <a:blip r:embed="rId1"/>
          <a:stretch/>
        </p:blipFill>
        <p:spPr>
          <a:xfrm>
            <a:off x="6095880" y="5181480"/>
            <a:ext cx="266724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85800" y="99072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 za borbu protiv korupcije – urađeno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u 201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33520" y="156060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klaracija o borbi protiv korupcije je potpisana od strane 13 članova Globalnog dogovora u Srbi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Učešće u radu Komisije za antikorupciju Međunarodne trgovinske komore-MTK, Pariz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</a:t>
            </a:r>
            <a:r>
              <a:rPr b="0" lang="pl-PL" sz="2000" spc="-1" strike="noStrike">
                <a:solidFill>
                  <a:srgbClr val="003399"/>
                </a:solidFill>
                <a:latin typeface="Times New Roman"/>
              </a:rPr>
              <a:t>redstavljen je članstvu novi koncept izveštavanja o desetom principu Globalnog dogovor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Times New Roman"/>
              </a:rPr>
              <a:t>Donošenje Deklaracije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 borbi protiv korupcije predstavljeno kao primer dobre prakse u Izveštaju o radu lokalnih mreža GD za 201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Times New Roman"/>
              </a:rPr>
              <a:t>Aktivno učešće u organizaciji i realizaciji javne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V </a:t>
            </a:r>
            <a:r>
              <a:rPr b="0" lang="pl-PL" sz="2000" spc="-1" strike="noStrike">
                <a:solidFill>
                  <a:srgbClr val="003399"/>
                </a:solidFill>
                <a:latin typeface="Times New Roman"/>
              </a:rPr>
              <a:t>debate : Kako suzbiti kompanijsku korupciju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3399"/>
                </a:solidFill>
                <a:latin typeface="Times New Roman"/>
              </a:rPr>
              <a:t>Prezentovanje nacrta planova integriteta za oblast privrednih društa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9"/>
          <p:cNvSpPr/>
          <p:nvPr/>
        </p:nvSpPr>
        <p:spPr>
          <a:xfrm flipH="1">
            <a:off x="762120" y="1447920"/>
            <a:ext cx="64008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4572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Myriad Pro"/>
              </a:rPr>
              <a:t>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 za borbu protiv korupcije – plan za 20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33520" y="1447920"/>
            <a:ext cx="8381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 algn="just">
              <a:buClr>
                <a:srgbClr val="003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7"/>
                </a:solidFill>
                <a:latin typeface="Times New Roman"/>
              </a:rPr>
              <a:t>Sprovoditi aktivnu kampanju potpisivanja Deklarac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buClr>
                <a:srgbClr val="003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7"/>
                </a:solidFill>
                <a:latin typeface="Times New Roman"/>
              </a:rPr>
              <a:t>Izveštavanje članica Globalnog dogovora u Srbiji po desetom principu Globalnog dogovora prema novom uputstvu o izveštavanju, kao mehanizmu za implementaciju Dekleracije o borbi protiv korupc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buClr>
                <a:srgbClr val="003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7"/>
                </a:solidFill>
                <a:latin typeface="Times New Roman"/>
              </a:rPr>
              <a:t>Aktivno učešće u radu Međunarodne radne grupe za borbu protiv korupcije UN G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buClr>
                <a:srgbClr val="003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7"/>
                </a:solidFill>
                <a:latin typeface="Times New Roman"/>
              </a:rPr>
              <a:t>Inicijative projekata u cilju korišćenja sredstava i implementacije programa u kontekstu Kolektivne akc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buClr>
                <a:srgbClr val="003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7"/>
                </a:solidFill>
                <a:latin typeface="Times New Roman"/>
              </a:rPr>
              <a:t>Ostvarivanje partnerstva sa Agencijom za borbu protiv korupcije u delu promocije i implementacije planova integriteta u institucijama i kompanijama u Srbi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buClr>
                <a:srgbClr val="003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7"/>
                </a:solidFill>
                <a:latin typeface="Times New Roman"/>
              </a:rPr>
              <a:t>Aktivna uloga u postupku donošenja nove Strategije i Akcionog pla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buClr>
                <a:srgbClr val="003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7"/>
                </a:solidFill>
                <a:latin typeface="Times New Roman"/>
              </a:rPr>
              <a:t>Podrška sistemu zaštite uzbunjivača u Srbi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 algn="just">
              <a:buClr>
                <a:srgbClr val="003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597"/>
                </a:solidFill>
                <a:latin typeface="Times New Roman"/>
              </a:rPr>
              <a:t>Proširenje aktivnog članstva Radne grupe, saradnja sa regionalnim i lokalnim antikorupcijskim timov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 flipH="1">
            <a:off x="609120" y="1371600"/>
            <a:ext cx="67057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92040" y="6858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životnu sredinu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1219320"/>
            <a:ext cx="8229600" cy="60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Automobilski klaster Srbije,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alkanski fond za lokalne inicijative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ožić i sinovi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arlsberg Srb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entar za monitoring i evaluaciju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ca Cola Hellenic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lta holding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Opština Vrbas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coist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konom:est Media Grou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nergoprojekt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rste bank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Fractal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Holcim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edicinski klaster Pro Vita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đ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narodna organizacija rad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inistarstvo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životne sredine i prostornog planiranja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ladi istraživači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rivredna komora 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ekopak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upernatural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elenor Srb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Victoria Consulting,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NDP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i WWF -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World Wildlife Foun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ktivno učešće u dijalogu i osmišljavanju javnih politika i programa u okviru kojih se zajedničkim akcijama, tj. partnerskim projektima uveća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vaju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sinergetski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efekti i pružaju primeri dobre prakse privredi i društvu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Promovisanje 3 “ekološka” principa 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Unapređenje praks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 kompanija – učesnic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Kontinuirana razmena iskust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Coca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Cola Helle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376200" y="1143000"/>
            <a:ext cx="579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86015602.jpg"/>
          <p:cNvPicPr/>
          <p:nvPr/>
        </p:nvPicPr>
        <p:blipFill>
          <a:blip r:embed="rId1"/>
          <a:stretch/>
        </p:blipFill>
        <p:spPr>
          <a:xfrm>
            <a:off x="5905440" y="5181480"/>
            <a:ext cx="3129120" cy="1551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4" descr="Energetska radionica.jpg"/>
          <p:cNvPicPr/>
          <p:nvPr/>
        </p:nvPicPr>
        <p:blipFill>
          <a:blip r:embed="rId1"/>
          <a:stretch/>
        </p:blipFill>
        <p:spPr>
          <a:xfrm>
            <a:off x="4648320" y="3200400"/>
            <a:ext cx="2895480" cy="19242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110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76320" y="228600"/>
            <a:ext cx="71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životnu sredinu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urađeno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52280" y="838080"/>
            <a:ext cx="4114800" cy="51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 u="sng">
                <a:solidFill>
                  <a:srgbClr val="003399"/>
                </a:solidFill>
                <a:uFillTx/>
                <a:latin typeface="Times New Roman"/>
                <a:ea typeface="맑은 고딕"/>
              </a:rPr>
              <a:t> </a:t>
            </a:r>
            <a:r>
              <a:rPr b="1" lang="sr-Latn-CS" sz="1500" spc="-1" strike="noStrike" u="sng">
                <a:solidFill>
                  <a:srgbClr val="003399"/>
                </a:solidFill>
                <a:uFillTx/>
                <a:latin typeface="Times New Roman"/>
                <a:ea typeface="맑은 고딕"/>
              </a:rPr>
              <a:t>Godina enegetske efikasnost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2011. godinu energetske efikasnosti u Srbiji je proglasila Agencija za </a:t>
            </a:r>
            <a:r>
              <a:rPr b="0" lang="en-US" sz="15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energetsku efikasnost 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Srbije na inicijativu Centra za monitoring i evaluaciju.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ktivnosti RG za životnu sredinu u okviru Godine EE 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u Srbiji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nergetska radionica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za 10 predstavnika medi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Windy Feet 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- četvorodnevna radionica o obnovljivim izvorima</a:t>
            </a:r>
            <a:r>
              <a:rPr b="0" lang="en-U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nergije za 25 predš</a:t>
            </a:r>
            <a:r>
              <a:rPr b="0" lang="en-U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o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l</a:t>
            </a:r>
            <a:r>
              <a:rPr b="0" lang="en-U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a u okviru evropske nedelje održive energije. Ukupno 18 medijskih objava za 1. i 2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1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Godišnja konferencija GD</a:t>
            </a:r>
            <a:r>
              <a:rPr b="0" lang="sr-Latn-C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u partnerstvu sa UNDP i WWF</a:t>
            </a:r>
            <a:r>
              <a:rPr b="0" lang="en-US" sz="15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: 85 učesnika, članica Globalnog dogovora i 9 medijskih redakcija. Preko 15 medijskih objava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9"/>
          <p:cNvSpPr/>
          <p:nvPr/>
        </p:nvSpPr>
        <p:spPr>
          <a:xfrm flipH="1">
            <a:off x="76320" y="685800"/>
            <a:ext cx="579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2" descr="C:\Documents and Settings\yu000291\My Documents\DESKTOP PPTS\EE za grupu\fotke externo\NES_5255.JPG"/>
          <p:cNvPicPr/>
          <p:nvPr/>
        </p:nvPicPr>
        <p:blipFill>
          <a:blip r:embed="rId2"/>
          <a:stretch/>
        </p:blipFill>
        <p:spPr>
          <a:xfrm>
            <a:off x="5105520" y="5105520"/>
            <a:ext cx="2523960" cy="167616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15" name="Picture 13" descr="C:\Documents and Settings\yu000291\My Documents\DESKTOP PPTS\EE za grupu\fotke externo\HIres\NES_5172.JPG"/>
          <p:cNvPicPr/>
          <p:nvPr/>
        </p:nvPicPr>
        <p:blipFill>
          <a:blip r:embed="rId3"/>
          <a:stretch/>
        </p:blipFill>
        <p:spPr>
          <a:xfrm>
            <a:off x="7628040" y="4613400"/>
            <a:ext cx="1439640" cy="21682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116" name="TextBox 13"/>
          <p:cNvSpPr/>
          <p:nvPr/>
        </p:nvSpPr>
        <p:spPr>
          <a:xfrm>
            <a:off x="7010280" y="3165480"/>
            <a:ext cx="2133720" cy="489960"/>
          </a:xfrm>
          <a:prstGeom prst="rect">
            <a:avLst/>
          </a:prstGeom>
          <a:solidFill>
            <a:srgbClr val="1f497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Times New Roman"/>
              </a:rPr>
              <a:t>Energetska radionic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Times New Roman"/>
              </a:rPr>
              <a:t>za medij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4" descr="D:\ND STUDIO_32.jpg"/>
          <p:cNvPicPr/>
          <p:nvPr/>
        </p:nvPicPr>
        <p:blipFill>
          <a:blip r:embed="rId4"/>
          <a:stretch/>
        </p:blipFill>
        <p:spPr>
          <a:xfrm>
            <a:off x="5680080" y="838080"/>
            <a:ext cx="3387600" cy="22622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118" name="TextBox 15"/>
          <p:cNvSpPr/>
          <p:nvPr/>
        </p:nvSpPr>
        <p:spPr>
          <a:xfrm>
            <a:off x="4800600" y="838080"/>
            <a:ext cx="2514600" cy="489960"/>
          </a:xfrm>
          <a:prstGeom prst="rect">
            <a:avLst/>
          </a:prstGeom>
          <a:solidFill>
            <a:srgbClr val="1f497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Times New Roman"/>
              </a:rPr>
              <a:t>Godišnja konferencija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Times New Roman"/>
              </a:rPr>
              <a:t>UNGC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4876920" y="6553080"/>
            <a:ext cx="2057400" cy="291960"/>
          </a:xfrm>
          <a:prstGeom prst="rect">
            <a:avLst/>
          </a:prstGeom>
          <a:solidFill>
            <a:srgbClr val="1f497d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ffffff"/>
                </a:solidFill>
                <a:latin typeface="Times New Roman"/>
              </a:rPr>
              <a:t>Windy Feet radioni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76320" y="5689440"/>
            <a:ext cx="4800600" cy="10065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2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Deklaraciju su potpisali: </a:t>
            </a:r>
            <a:r>
              <a:rPr b="0" i="1" lang="sr-Latn-CS" sz="12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Kabinet potpredsednika Vlade Republike Srbije za evropske integracije,</a:t>
            </a:r>
            <a:r>
              <a:rPr b="0" i="1" lang="en-US" sz="12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</a:t>
            </a:r>
            <a:r>
              <a:rPr b="0" i="1" lang="sr-Latn-CS" sz="12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Ministarstvo rudarstva i energetike Republike Srbije, Ministarstvo životne sredine i prostornog planiranja Republike Srbije, Ministarstvo za nauku i tehnološki razvoj Republike Srbije, UNDP i WWF i RG za životnu srdinu UNGC u Srbi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2F15-12EA-4AB3-8E7B-14E3041F0C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4920" y="838080"/>
            <a:ext cx="45720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8920" indent="-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Tim volontera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– </a:t>
            </a:r>
            <a:r>
              <a:rPr b="0" lang="sr-Latn-CS" sz="16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11. juna u okviru akcije Naš Beograd, volonteri GD-a su čistili Veliko ratno ostrvo zajedno sa volonterima iz jos 6 kompanija i institucija. U akciji skupljeno 5.200 galona otp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Podrška događajima</a:t>
            </a:r>
            <a:r>
              <a:rPr b="0" lang="sr-Latn-CS" sz="16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koji su vezani za životnu sredinu – Earth Hour, Dan planete zemlje - Supernatural festival,  Naš Beograd u organizaciji Foruma poslovnih lidera i SMART kolek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Kontinuirana saradnjama i razmena iskustava</a:t>
            </a:r>
            <a:r>
              <a:rPr b="0" lang="sr-Latn-CS" sz="16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i znanj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20" indent="-889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6352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Predstavljanje UNDP projekta “Ensuring Financial Sustainability of the Protected Area System of Serbia”, 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6352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Predstavljanje WWF projekta „Revitalizacija vlažnih staništa na području Specijanog rezarvata prirode Gornje Podunavlje”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442800" indent="-263520">
              <a:lnSpc>
                <a:spcPct val="100000"/>
              </a:lnSpc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Predstavljanje izveštaja o KDO kompanije Telenor Srbija ’’Dnevnik društvene odgovornosti’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76320" y="228600"/>
            <a:ext cx="71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životnu sredinu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urađeno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9"/>
          <p:cNvSpPr/>
          <p:nvPr/>
        </p:nvSpPr>
        <p:spPr>
          <a:xfrm flipH="1">
            <a:off x="76320" y="685800"/>
            <a:ext cx="579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4" descr="I:\5. External Relations\1. Projects\Corporate\2011\2. COMMUNITY\OUR BELGRADE\Nas Beograd\Veliko ratno ostrvo 1.jpg"/>
          <p:cNvPicPr/>
          <p:nvPr/>
        </p:nvPicPr>
        <p:blipFill>
          <a:blip r:embed="rId1"/>
          <a:stretch/>
        </p:blipFill>
        <p:spPr>
          <a:xfrm>
            <a:off x="5489640" y="1447920"/>
            <a:ext cx="3044880" cy="203184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pic>
        <p:nvPicPr>
          <p:cNvPr id="126" name="Picture 5" descr="I:\5. External Relations\1. Projects\Corporate\2011\2. COMMUNITY\OUR BELGRADE\Nas Beograd\Veliko ratno ostrvo 2.jpg"/>
          <p:cNvPicPr/>
          <p:nvPr/>
        </p:nvPicPr>
        <p:blipFill>
          <a:blip r:embed="rId2"/>
          <a:stretch/>
        </p:blipFill>
        <p:spPr>
          <a:xfrm>
            <a:off x="5489640" y="3987720"/>
            <a:ext cx="3044880" cy="203220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76320" y="152280"/>
            <a:ext cx="71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životnu sredinu 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plan za 201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 flipH="1">
            <a:off x="152280" y="609480"/>
            <a:ext cx="579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33520" y="1143000"/>
            <a:ext cx="82296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Relizacija zajedničkih projekat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članica R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Podrška programima i projekti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članica R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Podrška događaji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koji su vezani za životnu sredinu (Dan planete zemlje, Dan voda, Earth Hour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Gulim"/>
              </a:rPr>
              <a:t>,  Dan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ž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Gulim"/>
              </a:rPr>
              <a:t>ivotne sredine itd.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);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Gulim"/>
              </a:rPr>
              <a:t>Iniciranje novih projekata/programa/aktivnosti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Gulim"/>
              </a:rPr>
              <a:t>sa relevantnim zainteresovanim institucijama i organizacija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Edukacija članic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Globalnog dogovora po pitanju zaštite životne sredine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Gulim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izrada materijala i organizovanje radionica;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Gulim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Kontinuirana saradnja i razmena iskustav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맑은 고딕"/>
              </a:rPr>
              <a:t> i znanja sa organizacijama i udruženjima koji se bave zaštitom životne sredi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Proširenje članstv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R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90400" y="83808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edukaciju i razvoj DOP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80880" y="144792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Američka privredna komor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socijacija HR profesionalac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socijacija nezavisnih elektronskih med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Automobilski klaster 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alkanski fond za lokalne inicijativ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anka Intes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Beogradski univerzitet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arlsberg Srb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oca Cola Hellenic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entar za monitoring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evaluaciju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elta Holding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Delta Maxi Grup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Ecoist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konom:est Media Grou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rste bank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urobank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FG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Fakultet tehničkih nauka Novi Sad, Fakultet organizacionih nauka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rum mladih sa invaliditetom Beograd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Fractal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Holcim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Medicinski klaster Pro Vit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đ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unarodna organizacija rad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MERCK Srb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inistarstvo rada i socijalne politik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Narodna banka 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2000" spc="-1" strike="noStrike">
                <a:solidFill>
                  <a:srgbClr val="ff0000"/>
                </a:solidFill>
                <a:latin typeface="Times New Roman"/>
              </a:rPr>
              <a:t>Pricewaterhouse Coopers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Sekopak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mart Kolektiv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ociete Generale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rbija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ank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elenor Srb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im za socijalno uključivanje i smanjenje siromaštva, Vlada Republike 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i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U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Fokus: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Na nacionalnom nivou formulisanje platforme koja će služiti za dalji razvoj i unapređenje društveno odgovornog poslovanja u Srbij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akultet organizacionih nau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 flipH="1">
            <a:off x="684000" y="129528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590400" y="838080"/>
            <a:ext cx="8096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3399"/>
                </a:solidFill>
                <a:latin typeface="Times New Roman"/>
              </a:rPr>
              <a:t>RG za edukaciju i razvoj DOP-a – urađeno u 2011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80880" y="1447920"/>
            <a:ext cx="8458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457200" algn="just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Nakon promene mandata  RG prošireno je članstv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držan je jedan sastanak u toku godine,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na kome je dogovoreno o smernicama daljeg rada</a:t>
            </a:r>
            <a:r>
              <a:rPr b="0" lang="sr-C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 algn="just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icijativa za učlanjenje novih članica RG – obrazovnih instituc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 algn="just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Edukacija na temu “Društvena odgovornost obrazovnih institucija”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 algn="just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odizanje kapaciteta nastavnog kadra za edukovanje studenata u oblasti DO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 algn="just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rganizovanje gostujućih predavanja predstavnika na obrazovnim institucijama od oktobra 2011. godin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 algn="just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snivanje studentske sekcije u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sr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kviru Radne grup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H="1">
            <a:off x="685440" y="1295280"/>
            <a:ext cx="7451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6" descr="C:\Documents and Settings\sanja.bunic\My Documents\My Pictures\education.jpg"/>
          <p:cNvPicPr/>
          <p:nvPr/>
        </p:nvPicPr>
        <p:blipFill>
          <a:blip r:embed="rId1"/>
          <a:stretch/>
        </p:blipFill>
        <p:spPr>
          <a:xfrm>
            <a:off x="6400800" y="5181480"/>
            <a:ext cx="228600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90400" y="83808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lobalni dogovor u Srbi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04920" y="1371600"/>
            <a:ext cx="86104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Radne grupe</a:t>
            </a:r>
            <a:r>
              <a:rPr b="0" lang="sr-Latn-CS" sz="2000" spc="-1" strike="noStrike">
                <a:solidFill>
                  <a:srgbClr val="003399"/>
                </a:solidFill>
                <a:latin typeface="Arial"/>
              </a:rPr>
              <a:t>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z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ocijalno uključi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borbu protiv korupc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KDO u bankarstvu i finansij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edukaciju i razvoj DOP-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ž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ivotnu sredi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med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podršku u vanrednim situacij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G za radna prava (</a:t>
            </a:r>
            <a:r>
              <a:rPr b="0" i="1" lang="sr-Latn-CS" sz="2000" spc="-1" strike="noStrike">
                <a:solidFill>
                  <a:srgbClr val="003399"/>
                </a:solidFill>
                <a:latin typeface="Times New Roman"/>
              </a:rPr>
              <a:t>u osnivanju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Trenut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77 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lanic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koje zapošljavaju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ko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68.076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zaposlenih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7 kompan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6 nevladinih organiz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8 poslov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h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udru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ž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e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4 akademskih institu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1 gr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Times New Roman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1 organizacija 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684000" y="129528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 za edukaciju i razvoj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DOP-a – plan za 2012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iciranje učlanjenja novih članica RG – obrazovnih institucij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rganizovanje sastanka u Rektoratu Univerziteta u Beogradu, na kome bi se prisutnim predstavnicima akademske zajednice prezentovali prinicipi Akademske mreže Globalnog dogovora, kao i osnovne ideje uvođenja DOP-a u akademske kurikulum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rganizovanje istraživanja, kojim bi se utvrdilo trenutno stanje po pitanju zastupljenosti tema DOP u nastavnim i naučnim kurikulumima i identifikovali profesori i asistenti  senzibilisani za temu DO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drška studentskim organizacijama u planiranju i realizaciji studentskih seminara na temu DOP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9"/>
          <p:cNvSpPr/>
          <p:nvPr/>
        </p:nvSpPr>
        <p:spPr>
          <a:xfrm flipH="1">
            <a:off x="762120" y="1447920"/>
            <a:ext cx="7380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5904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med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33520" y="190512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konom:east Media Grou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B92, E-kapij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Medijsko istraživanje i izveštavanje o odabranim tem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konom:east Media Group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9"/>
          <p:cNvSpPr/>
          <p:nvPr/>
        </p:nvSpPr>
        <p:spPr>
          <a:xfrm flipH="1">
            <a:off x="684360" y="1371600"/>
            <a:ext cx="201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C:\Documents and Settings\sanja.bunic\My Documents\My Pictures\CSR\writing-2.jpg"/>
          <p:cNvPicPr/>
          <p:nvPr/>
        </p:nvPicPr>
        <p:blipFill>
          <a:blip r:embed="rId1"/>
          <a:stretch/>
        </p:blipFill>
        <p:spPr>
          <a:xfrm>
            <a:off x="5334120" y="3809880"/>
            <a:ext cx="350496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904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medije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plan za 201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33520" y="1905120"/>
            <a:ext cx="822960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Održati novu seriju sastanaka sa medijima kako bi se prezentovala ideja Radne grup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Registrovanje četiri medijske kuće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kao</a:t>
            </a: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 zvanične članove Globalnog dogovor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Uvesti program recikliranja po redakcijama medijskih kuć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roglasiti i nagraditi najuspešniju redakciju na kraju godine</a:t>
            </a:r>
            <a:r>
              <a:rPr b="0" lang="sr-Latn-C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9"/>
          <p:cNvSpPr/>
          <p:nvPr/>
        </p:nvSpPr>
        <p:spPr>
          <a:xfrm flipH="1">
            <a:off x="684000" y="1371600"/>
            <a:ext cx="3779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9DD5-3DC9-408D-AE51-420438DB64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\\Sr00w60\globalni dogovor\Radna grupa za Kraljevo\Slike Kraljevo-predaja knjiga i racunara\biblioteka u Kraljevu - ulaz.jpg"/>
          <p:cNvPicPr/>
          <p:nvPr/>
        </p:nvPicPr>
        <p:blipFill>
          <a:blip r:embed="rId1"/>
          <a:stretch/>
        </p:blipFill>
        <p:spPr>
          <a:xfrm>
            <a:off x="6019920" y="2514600"/>
            <a:ext cx="2819160" cy="236232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785520" y="91440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podršku u vanrednim situac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533520" y="1600200"/>
            <a:ext cx="525780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BCIF, Centar za monitoring i evaluaciju, Credit Agricole banka, Državna lutrija Srbije, Erste banka, Jubmes banka, Medicinski klaster Pro Vita, Narodna banka Srbije, Privredna komora Beograda, Societe General Srbija banka, Supernatural, Telekom Srbija, UN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odrška područjima koja su ugrožena prirodnim nepogod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8640" indent="230400">
              <a:lnSpc>
                <a:spcPct val="100000"/>
              </a:lnSpc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entar za monitoring i evaluaciju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 flipH="1">
            <a:off x="762120" y="1447920"/>
            <a:ext cx="7380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0564-498F-4D1F-A92A-FB1BD50DA0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788760" y="914400"/>
            <a:ext cx="778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podršku u vanrednim situacijama-uradjeno u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609480" y="1434600"/>
            <a:ext cx="8077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Prikupljeno je oko 3.000 knjiga i 11 računara za biblioteku 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iz Kraljeva, koja je direktno pogođena zamljotresom</a:t>
            </a: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; u volonterskoj akciji učestvovalo preko 1000 zaposlenih iz kompanija/organizacija članica Globalnog dogovor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Posredstvom sastanka Radne grupe ostvarena je saradnja između biblioteke iz Kraljeva i </a:t>
            </a:r>
            <a:r>
              <a:rPr b="0" lang="en-U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Radn</a:t>
            </a:r>
            <a:r>
              <a:rPr b="0" lang="sr-Latn-C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e </a:t>
            </a:r>
            <a:r>
              <a:rPr b="0" lang="en-U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grupa za KDO u bankarstvu i finansijama</a:t>
            </a:r>
            <a:r>
              <a:rPr b="0" lang="sr-Latn-C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, tako da je realizovana </a:t>
            </a:r>
            <a:r>
              <a:rPr b="0" lang="en-U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radionic</a:t>
            </a:r>
            <a:r>
              <a:rPr b="0" lang="sr-Latn-C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a</a:t>
            </a:r>
            <a:r>
              <a:rPr b="0" lang="en-U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 „Upravljanje ličnim finansijama“ za građane Kraljeva</a:t>
            </a:r>
            <a:r>
              <a:rPr b="0" lang="sr-Latn-C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;</a:t>
            </a:r>
            <a:r>
              <a:rPr b="0" lang="en-US" sz="2200" spc="-1" strike="noStrike">
                <a:solidFill>
                  <a:srgbClr val="003597"/>
                </a:solidFill>
                <a:latin typeface="Times New Roman"/>
                <a:ea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Održane humanitarne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 </a:t>
            </a:r>
            <a:r>
              <a:rPr b="0" lang="sr-Latn-CS" sz="2200" spc="-1" strike="noStrike">
                <a:solidFill>
                  <a:srgbClr val="003399"/>
                </a:solidFill>
                <a:latin typeface="Times New Roman"/>
                <a:ea typeface="Calibri"/>
              </a:rPr>
              <a:t>pozorišne predstave za decu u dve osnovne škole u Kraljev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 flipH="1">
            <a:off x="848880" y="1447920"/>
            <a:ext cx="7380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7AE5-664B-4E08-8E25-8B0E7576F9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762120" y="838080"/>
            <a:ext cx="72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podršku u vanrednim situacijama-plan za 20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762120" y="1490760"/>
            <a:ext cx="792468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Nastavak podrške na području Kraljev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Reagovanje na potencijalne vanredne situacije koje se mogu desiti u 2012. godini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Godišnja akcija sakupljanja knjiga prema potrebama odgovarajućih institucij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Uspostavljanje dugoročne saradnje sa drugim subjektima sa aspekta delovanja u vanrednim situacija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Edukacija članica RG za delovanje u vanrednim situacija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Proširenje radne grup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6040" indent="-176040" algn="just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Iniciranje zajedničkih aktivnosti sa drugim članicama i radnim grupama Globalnog dogovora Ujedinjenih nacija u Srbiji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9"/>
          <p:cNvSpPr/>
          <p:nvPr/>
        </p:nvSpPr>
        <p:spPr>
          <a:xfrm flipH="1">
            <a:off x="848880" y="1371600"/>
            <a:ext cx="738036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Text Box 4"/>
          <p:cNvGrpSpPr/>
          <p:nvPr/>
        </p:nvGrpSpPr>
        <p:grpSpPr>
          <a:xfrm>
            <a:off x="573120" y="987480"/>
            <a:ext cx="8242200" cy="6072120"/>
            <a:chOff x="573120" y="987480"/>
            <a:chExt cx="8242200" cy="6072120"/>
          </a:xfrm>
        </p:grpSpPr>
        <p:pic>
          <p:nvPicPr>
            <p:cNvPr id="167" name="Text Box 4" descr=""/>
            <p:cNvPicPr/>
            <p:nvPr/>
          </p:nvPicPr>
          <p:blipFill>
            <a:blip r:embed="rId1"/>
            <a:stretch/>
          </p:blipFill>
          <p:spPr>
            <a:xfrm>
              <a:off x="573120" y="987480"/>
              <a:ext cx="8242200" cy="607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77800" y="990720"/>
              <a:ext cx="8229600" cy="60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96720" indent="-39672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4000" spc="-1" strike="noStrike">
                  <a:solidFill>
                    <a:srgbClr val="003399"/>
                  </a:solidFill>
                  <a:latin typeface="Times New Roman"/>
                </a:rPr>
                <a:t>HVALA NA PAŽNJI!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www.unglobalcompact.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www.unglobalcompact.or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E - m</a:t>
              </a: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ail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globalni.dogovor</a:t>
              </a: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@</a:t>
              </a: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pks</a:t>
              </a: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.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ana.tomas</a:t>
              </a:r>
              <a:r>
                <a:rPr b="0" lang="en-US" sz="2400" spc="-1" strike="noStrike">
                  <a:solidFill>
                    <a:srgbClr val="003399"/>
                  </a:solidFill>
                  <a:latin typeface="Times New Roman"/>
                </a:rPr>
                <a:t>@</a:t>
              </a:r>
              <a:r>
                <a:rPr b="0" lang="sr-Latn-CS" sz="2400" spc="-1" strike="noStrike">
                  <a:solidFill>
                    <a:srgbClr val="003399"/>
                  </a:solidFill>
                  <a:latin typeface="Times New Roman"/>
                </a:rPr>
                <a:t>pks.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96720" indent="-396720"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904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lobalni dogovor u Srbiji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– ura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đeno u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04920" y="1523880"/>
            <a:ext cx="86104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dr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žano 10 sastanak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Upravnog odbora GD-a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kao i veliki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broj sastanaka pojedinih članova UO sa zainteresovanim stran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Godišnja konferencija Globalnog dogovora u Srbiji o životnoj sredini i energetskoj efikasnos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Učestvovanje predstavnika mreže na: IX Godišnjem skup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u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lokalnih mreža i GC Week-u u Kopenhagenu, kao i na godišnjem skupu evropskih mreža GD-a u Rim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redstavljanje Globalnog dogovora u Srbiji na konferencijama i skupovima u  zemlji i inostranstv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otpisivanje Protokola o saradnji s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Zajednic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om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ekonomskih, pravno-birotehničkih, trgovinskih i ugostiteljsko-turističkih škola Republike Srb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rganizovanje Godišnje skupštine Globalnog dogovora  u Srbiji (14. decembar 201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9"/>
          <p:cNvSpPr/>
          <p:nvPr/>
        </p:nvSpPr>
        <p:spPr>
          <a:xfrm flipH="1">
            <a:off x="684000" y="137160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904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lobalni dogovor u Srbiji 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–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plan za 20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1523880"/>
            <a:ext cx="861048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rganizovanje sastanka evropskih mreža Globalnog dogovora u Beogradu (septembar/oktobar 2012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Kontinuirani rad na promociji deset principa Globalnog dogovora sa akcentom na principe koji se odnose na radna prav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roširenje članstva (posebno iz sektora MSP), kao i podrška aktivnijem učešću pojedinih člani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rganizovanje tematskih seminara i radionic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ružanje podrške radu postojećih i osnivanju novih radnih grupa (osnivanje Radne grupa za radna prav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Pružanje podrške članicama u izradi Izveštaja o napretk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9"/>
          <p:cNvSpPr/>
          <p:nvPr/>
        </p:nvSpPr>
        <p:spPr>
          <a:xfrm flipH="1">
            <a:off x="684000" y="1371600"/>
            <a:ext cx="57956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533520" y="838080"/>
            <a:ext cx="715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 za socijalno uključi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9"/>
          <p:cNvSpPr/>
          <p:nvPr/>
        </p:nvSpPr>
        <p:spPr>
          <a:xfrm flipH="1">
            <a:off x="609480" y="1295280"/>
            <a:ext cx="60199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533520" y="1523880"/>
            <a:ext cx="822960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merička privredna komor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alkanski fond za lokaln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nicijativ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anca Intes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eogradska poslovna škol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entar za razvoj inkluzivnog društv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entar za monitoring i evaluaciju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Coca Cola Hellenic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edit Agricole banka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lta Holding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elta Maxi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uštvo za razvoj dece i mladih-Otvoreni klub Niš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Državna lutrija Srbij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konom:east Media Group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rste bank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urobank EFG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Forum mladih sa invaliditetom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Fractal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ustrijski sindikat Srbije,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BC bank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PMG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reativne inovacije,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Međunarodna organizacija rad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Narodna banka Srbije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iraeus bank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 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lovni klub Momentum, Medicinski klaster Pro Vita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vez slepih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avez distrofičar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,  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kopak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kills Training Center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lenor Srbija,  Telekom Srbija, 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CEF,  UN Women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, </a:t>
            </a:r>
            <a:r>
              <a:rPr b="0" lang="sr-Latn-C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druženje poslovnih žena,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VIP mo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Fokus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fikasnija socijalna zaštita socijalno ranjivih  grupa, unapređenje položaja, ukidanje d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kriminacije u pogledu zapošljavan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alkanski fond za lokalne inicij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2"/>
          <p:cNvSpPr/>
          <p:nvPr/>
        </p:nvSpPr>
        <p:spPr>
          <a:xfrm>
            <a:off x="304920" y="137160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90400" y="838080"/>
            <a:ext cx="71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G za socijalno uključivanje– urađeno u 20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57200" y="1584360"/>
            <a:ext cx="830592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G proširila svoj mandat na socijalno uključivanje svih ranjivi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h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grupa i u skladu sa tim preimenovana u RG za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cijalno uključivan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Značajno prošireno članstvo RG sa predstavnicima privatnog i civilnog sektora </a:t>
            </a:r>
            <a:r>
              <a:rPr b="0" lang="sr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lanice RG prisustvovale </a:t>
            </a:r>
            <a:r>
              <a:rPr b="0" lang="it-IT" sz="2000" spc="-1" strike="noStrike">
                <a:solidFill>
                  <a:srgbClr val="003399"/>
                </a:solidFill>
                <a:latin typeface="Times New Roman"/>
              </a:rPr>
              <a:t>nacionalnim konsultacijam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UNICEF-a</a:t>
            </a:r>
            <a:r>
              <a:rPr b="0" lang="sr-CS" sz="20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vi-VN" sz="2000" spc="-1" strike="noStrike">
                <a:solidFill>
                  <a:srgbClr val="003399"/>
                </a:solidFill>
                <a:latin typeface="Times New Roman"/>
              </a:rPr>
              <a:t>Razvoj međunarodnih principa poslovanja i prava detet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sr-C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Članice RG realizovale zajedničke aktivnosti RG-volonterske akcije, projekte i s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9"/>
          <p:cNvSpPr/>
          <p:nvPr/>
        </p:nvSpPr>
        <p:spPr>
          <a:xfrm flipH="1">
            <a:off x="685800" y="1295280"/>
            <a:ext cx="640224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C:\Documents and Settings\sanja.bunic\My Documents\My Pictures\socijalna inkluzija.jpg"/>
          <p:cNvPicPr/>
          <p:nvPr/>
        </p:nvPicPr>
        <p:blipFill>
          <a:blip r:embed="rId1"/>
          <a:stretch/>
        </p:blipFill>
        <p:spPr>
          <a:xfrm>
            <a:off x="5638680" y="5156280"/>
            <a:ext cx="274320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590400" y="914400"/>
            <a:ext cx="71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RG za socijalno uključivanje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- plan za 201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3520" y="1905120"/>
            <a:ext cx="8229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Konferencija članica RG za socijalno uključivanje, drugih članica Globalnog dogovora i UN Women-a na temu Principa osnaživanja žen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Obeležavanje Evropske godine aktivnog starenja i međugeneracijske saradnje 2012. volonterskim akcijama članica RG na lokalnom i nacionalnom nivo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Nastavak rada na međusobnom unapređivanju i razmeni znanja i veština članica RG koje pripadaju privatnom i civilnom sektor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"/>
          <p:cNvSpPr/>
          <p:nvPr/>
        </p:nvSpPr>
        <p:spPr>
          <a:xfrm flipH="1">
            <a:off x="685800" y="1371600"/>
            <a:ext cx="57960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609480" y="914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G 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za KDO u bankarstvu i finansij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457200" y="1484280"/>
            <a:ext cx="822960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Članic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Akademija za bankarstvo i finansije, Banca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Intesa, Beogradska trgovačka omladina,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redit Agricole,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Eurobank EFG, Erste Bank, Hypo-Alp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-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Adria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Bank,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 Jubmes banka, KBC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anka,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Komercijalna banka, KPMG, Narodna banka Srbij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, Piraeus Bank,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ociete General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Srbija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an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Fokus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Finansijska edukacij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ajednička saradnja po pitanju uvođenja novih </a:t>
            </a:r>
            <a:r>
              <a:rPr b="0" lang="sr-Latn-C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inovativnih proizvod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Organizovanje serije predavanja na temu KDO u bankarstvu i finansijam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održ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vanje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odabran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ih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projek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ta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i akcij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učešće u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realiz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aciji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pojedinih akcij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koje su organizovane od strane  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ostalih 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radnih grupa</a:t>
            </a: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;</a:t>
            </a: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3399"/>
                </a:solidFill>
                <a:latin typeface="Times New Roman"/>
              </a:rPr>
              <a:t>Učenje na iskustvima drugi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</a:rPr>
              <a:t>Radnom grupom predsedav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N</a:t>
            </a:r>
            <a:r>
              <a:rPr b="1" lang="sr-Latn-CS" sz="2000" spc="-1" strike="noStrike">
                <a:solidFill>
                  <a:srgbClr val="003399"/>
                </a:solidFill>
                <a:latin typeface="Times New Roman"/>
              </a:rPr>
              <a:t>arodna banka Srb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H="1" flipV="1">
            <a:off x="684000" y="1371600"/>
            <a:ext cx="6630840" cy="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6" descr="71080422.jpg"/>
          <p:cNvPicPr/>
          <p:nvPr/>
        </p:nvPicPr>
        <p:blipFill>
          <a:blip r:embed="rId1"/>
          <a:stretch/>
        </p:blipFill>
        <p:spPr>
          <a:xfrm>
            <a:off x="6170760" y="4724280"/>
            <a:ext cx="2820960" cy="1865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2"/>
          <p:cNvSpPr/>
          <p:nvPr/>
        </p:nvSpPr>
        <p:spPr>
          <a:xfrm>
            <a:off x="304920" y="1523880"/>
            <a:ext cx="71625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09480" y="914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RG</a:t>
            </a:r>
            <a:r>
              <a:rPr b="1" lang="sr-Latn-CS" sz="2400" spc="-1" strike="noStrike">
                <a:solidFill>
                  <a:srgbClr val="003399"/>
                </a:solidFill>
                <a:latin typeface="Times New Roman"/>
              </a:rPr>
              <a:t> za KDO u bankarstvu i finansijama – urađeno u 2011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80880" y="1676520"/>
            <a:ext cx="8229600" cy="55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S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radnja sa školama u kojima postoji obrazovni profil “Bankarski službenik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edavanja za učenike i profesor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po izabranim temama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Jednonedeljna /dvonedeljna 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aksa u bankam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oseta Centru za posetioce N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arodn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ban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e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 Srbije</a:t>
            </a: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risustvo predstavnika banaka na maturskom ispit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hađanje stručnih seminara Akademije za bankarstvo i finansij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Potpisivanje Protokola o saradnj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Besplatne radionice za građane pod nazivom “Upravljanje ličnim finansijam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Radionica u Narodnoj biblioteci “Stefan Prvovenčani” iz Kraljev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Koncipiranje “E-learning” radioni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04960" indent="-347760">
              <a:lnSpc>
                <a:spcPct val="100000"/>
              </a:lnSpc>
              <a:buClr>
                <a:srgbClr val="003399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Izrada “E-learning” aplikacije i postavljanje iste na sajt projek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47760" indent="-347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9"/>
          <p:cNvSpPr/>
          <p:nvPr/>
        </p:nvSpPr>
        <p:spPr>
          <a:xfrm flipH="1" flipV="1">
            <a:off x="684000" y="1325520"/>
            <a:ext cx="7545240" cy="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8T15:38:35Z</dcterms:created>
  <dc:creator>DC191NP</dc:creator>
  <dc:description/>
  <dc:language>en-US</dc:language>
  <cp:lastModifiedBy>sanja.bunic</cp:lastModifiedBy>
  <dcterms:modified xsi:type="dcterms:W3CDTF">2011-12-14T13:05:47Z</dcterms:modified>
  <cp:revision>392</cp:revision>
  <dc:subject/>
  <dc:title>PowerPoint Presentation</dc:title>
</cp:coreProperties>
</file>