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E650-201E-4CF3-BCB6-C160172EB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B756-110D-4178-ADC8-9BEB0BB85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862E-21BD-4B22-BFFA-283DD4AB5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51AF-4130-4D30-9330-566481AA5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E906-1DC9-41D5-B0A5-F1344288C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668-AB0E-4869-B921-B7E60ADE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6294-2B28-4A97-A27E-3F92A8631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E7F8-A796-4D39-BA30-3BE0E521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539D-DDD0-4C3A-B9FE-67393B45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14CF-4242-4FC0-A0E6-0F77FDBFA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48CA-6240-4CF1-9A11-B736BC6C6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317-3EE6-436F-B977-75EC70E42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0F30-39B1-4A03-A469-2F44E470A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F061-D546-42C3-988A-640ED98D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F28-F169-461C-8687-F8BF69F9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434-895E-4B00-AE51-CD1F267F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2143-2869-4697-A061-CE43FDA4E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5AA-EAA4-428D-8477-FEA65ABE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36A7-8557-4014-AB6A-D0B4B8620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5898-81E9-44A4-9BB3-ED669025A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EF9C-CEB3-467E-BC53-643DE9B63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7189-CD24-4AA3-89E1-79B12A46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17D-F390-488F-B698-8A1F40CD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785-211D-4201-80CE-ADFFB61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D5F-7037-43E8-A027-60D6D0E7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C14-6577-4103-A28C-D3603FAE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32E-B47E-4ED7-9D4C-0E96A8D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537-003D-4342-BB7D-E0F73EA9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413-8591-4342-959F-5E675127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95E-56BA-40AD-AB72-140649D0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356-67D4-40C9-939D-04C3B02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B27-A0AA-413C-A856-A506D77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366-FD7D-4EB7-ACB9-AAD0557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5BC-8AE7-41FE-A895-9EFF127B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9610-F7B4-49EE-8E88-3265B8CF84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GCN_serbia.JPG"/>
          <p:cNvPicPr/>
          <p:nvPr/>
        </p:nvPicPr>
        <p:blipFill>
          <a:blip r:embed="rId2"/>
          <a:stretch/>
        </p:blipFill>
        <p:spPr>
          <a:xfrm>
            <a:off x="5562720" y="152280"/>
            <a:ext cx="34052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0120" y="236232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Go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išnja skupština Globalnog dogovora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3399"/>
                </a:solidFill>
                <a:latin typeface="Times New Roman"/>
              </a:rPr>
              <a:t>Privredna komora Srb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Beograd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4.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ecembar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0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685440" y="2895480"/>
            <a:ext cx="6551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plan za 20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80880" y="1905120"/>
            <a:ext cx="82296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685440" y="1371600"/>
            <a:ext cx="7164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19051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5800" y="175248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stavak saradnje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sustvo  predstavnika banaka na maturskom ispi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ovi ciklus besplatnih radionica za građane pod nazivom “Upravljanje ličnim finansijam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alizovanje radionica po manjim gradovima u saradnji sa lokalnim organizacijama i partnerstvo sa AIESEC-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ktiv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promocija “E-learning” aplikac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904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adna grup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borbu protiv korup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1523880"/>
            <a:ext cx="822960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gencija za borbu protiv korupcij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nka Intes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demokratiju, Centar za monitoring i evaluaciju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ar za bezbednosne stud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Deloitte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Ecoprotexi, Hauska partners, Holcim Srbija, Industrijski sindikat Srbije, Jubmes banka, Kancelarija za evropske integracije, Kreativne inovacij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PMG, Merck Sharp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&amp; Dohm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Narodna banka Srbije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cewaterhouse Coopers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vredna komora Srbije, Siemens Srbija, Transparentnost Srbija, Telekom Srbija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druženje Eutopija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Princip 10 Globalnog dogovora UN i kompanijski aspekt borbe protiv korup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a korporacijskog aspekta postoje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tri nivoa borbe protiv korupc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interni, eksterni i zajednička ak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Privredna komora Srb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 flipH="1">
            <a:off x="684000" y="144792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C:\Documents and Settings\sanja.bunic\My Documents\My Pictures\borba-protiv-korupcije.jpg"/>
          <p:cNvPicPr/>
          <p:nvPr/>
        </p:nvPicPr>
        <p:blipFill>
          <a:blip r:embed="rId1"/>
          <a:stretch/>
        </p:blipFill>
        <p:spPr>
          <a:xfrm>
            <a:off x="6095880" y="5181480"/>
            <a:ext cx="2667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u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156060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klaracija o borbi protiv korupcije je potpisana od strane 13 članova Globalnog dogovor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češće u radu Komisije za antikorupciju Međunarodne trgovinske komore-MTK, Pariz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redstavljen je članstvu novi koncept izveštavanja o desetom principu Globalnog dogovor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Donošenje Deklaracije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 borbi protiv korupcije predstavljeno kao primer dobre prakse u Izveštaju o radu lokalnih mreža GD za 20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Aktivno učešće u organizaciji i realizaciji javne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V </a:t>
            </a: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debate : Kako suzbiti kompanijsku korupciju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Prezentovanje nacrta planova integriteta za oblast privrednih društ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 flipH="1">
            <a:off x="762120" y="1447920"/>
            <a:ext cx="64008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plan za 20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3520" y="144792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Sprovoditi aktivnu kampanju potpisivanja Deklara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Izveštavanje članica Globalnog dogovora u Srbiji po desetom principu Globalnog dogovora prema novom uputstvu o izveštavanju, kao mehanizmu za implementaciju Dekleracije o borbi protiv korup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Aktivno učešće u radu Međunarodne radne grupe za borbu protiv korupcije UN G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Inicijative projekata u cilju korišćenja sredstava i implementacije programa u kontekstu Kolektivne ak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Ostvarivanje partnerstva sa Agencijom za borbu protiv korupcije u delu promocije i implementacije planova integriteta u institucijama i kompanijam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Aktivna uloga u postupku donošenja nove Strategije i Akcionog pl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Podrška sistemu zaštite uzbunjivač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Proširenje aktivnog članstva Radne grupe, saradnja sa regionalnim i lokalnim antikorupcijskim timov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609120" y="1371600"/>
            <a:ext cx="67057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92040" y="6858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1219320"/>
            <a:ext cx="822960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Automobilski klaster Srbije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 inicijativ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ožić i sinov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Opština Vrbas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oist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st Media Grou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nergoprojekt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Holci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inski klaster Pro Vit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đ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inistarstvo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ivotne sredine i prostornog planiranj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ladi istraživač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vredna komora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upernatural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Victoria Consulting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D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 WWF -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orld Wildlife Fou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ktivno učešće u dijalogu i osmišljavanju javnih politika i programa u okviru kojih se zajedničkim akcijama, tj. partnerskim projektima uveć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aju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sinergetsk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efekti i pružaju primeri dobre prakse privredi i društv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romovisanje 3 “ekološka” principa 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napređenje praks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kompanija – učesn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Kontinuirana razmena iskust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ca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la Helle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376200" y="11430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86015602.jpg"/>
          <p:cNvPicPr/>
          <p:nvPr/>
        </p:nvPicPr>
        <p:blipFill>
          <a:blip r:embed="rId1"/>
          <a:stretch/>
        </p:blipFill>
        <p:spPr>
          <a:xfrm>
            <a:off x="5905440" y="5181480"/>
            <a:ext cx="3129120" cy="15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Energetska radionica.jpg"/>
          <p:cNvPicPr/>
          <p:nvPr/>
        </p:nvPicPr>
        <p:blipFill>
          <a:blip r:embed="rId1"/>
          <a:stretch/>
        </p:blipFill>
        <p:spPr>
          <a:xfrm>
            <a:off x="4648320" y="3200400"/>
            <a:ext cx="2895480" cy="1924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10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320" y="22860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838080"/>
            <a:ext cx="411480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 u="sng">
                <a:solidFill>
                  <a:srgbClr val="003399"/>
                </a:solidFill>
                <a:uFillTx/>
                <a:latin typeface="Times New Roman"/>
                <a:ea typeface="맑은 고딕"/>
              </a:rPr>
              <a:t> </a:t>
            </a:r>
            <a:r>
              <a:rPr b="1" lang="sr-Latn-CS" sz="1500" spc="-1" strike="noStrike" u="sng">
                <a:solidFill>
                  <a:srgbClr val="003399"/>
                </a:solidFill>
                <a:uFillTx/>
                <a:latin typeface="Times New Roman"/>
                <a:ea typeface="맑은 고딕"/>
              </a:rPr>
              <a:t>Godina enegetske efikasnos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2011. godinu energetske efikasnosti u Srbiji je proglasila Agencija za 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energetsku efikasnost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Srbije na inicijativu Centra za monitoring i evaluaciju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ktivnosti RG za životnu sredinu u okviru Godine EE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 Srbij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nergetska radionica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za 10 predstavnika medi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indy Feet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 četvorodnevna radionica o obnovljivim izvorima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nergije za 25 predš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o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a u okviru evropske nedelje održive energije. Ukupno 18 medijskih objava za 1. i 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Godišnja konferencija GD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u partnerstvu sa UNDP i WWF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85 učesnika, članica Globalnog dogovora i 9 medijskih redakcija. Preko 15 medijskih objav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 flipH="1">
            <a:off x="76320" y="6858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2" descr="C:\Documents and Settings\yu000291\My Documents\DESKTOP PPTS\EE za grupu\fotke externo\NES_5255.JPG"/>
          <p:cNvPicPr/>
          <p:nvPr/>
        </p:nvPicPr>
        <p:blipFill>
          <a:blip r:embed="rId2"/>
          <a:stretch/>
        </p:blipFill>
        <p:spPr>
          <a:xfrm>
            <a:off x="5105520" y="5105520"/>
            <a:ext cx="2523960" cy="16761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15" name="Picture 13" descr="C:\Documents and Settings\yu000291\My Documents\DESKTOP PPTS\EE za grupu\fotke externo\HIres\NES_5172.JPG"/>
          <p:cNvPicPr/>
          <p:nvPr/>
        </p:nvPicPr>
        <p:blipFill>
          <a:blip r:embed="rId3"/>
          <a:stretch/>
        </p:blipFill>
        <p:spPr>
          <a:xfrm>
            <a:off x="7628040" y="4613400"/>
            <a:ext cx="1439640" cy="2168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16" name="TextBox 13"/>
          <p:cNvSpPr/>
          <p:nvPr/>
        </p:nvSpPr>
        <p:spPr>
          <a:xfrm>
            <a:off x="7010280" y="3165480"/>
            <a:ext cx="2133720" cy="489960"/>
          </a:xfrm>
          <a:prstGeom prst="rect">
            <a:avLst/>
          </a:prstGeom>
          <a:solidFill>
            <a:srgbClr val="1f497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Energetska radionic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za medi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D:\ND STUDIO_32.jpg"/>
          <p:cNvPicPr/>
          <p:nvPr/>
        </p:nvPicPr>
        <p:blipFill>
          <a:blip r:embed="rId4"/>
          <a:stretch/>
        </p:blipFill>
        <p:spPr>
          <a:xfrm>
            <a:off x="5680080" y="838080"/>
            <a:ext cx="3387600" cy="2262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18" name="TextBox 15"/>
          <p:cNvSpPr/>
          <p:nvPr/>
        </p:nvSpPr>
        <p:spPr>
          <a:xfrm>
            <a:off x="4800600" y="838080"/>
            <a:ext cx="2514600" cy="489960"/>
          </a:xfrm>
          <a:prstGeom prst="rect">
            <a:avLst/>
          </a:prstGeom>
          <a:solidFill>
            <a:srgbClr val="1f497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Godišnja konferencij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UNGC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876920" y="6553080"/>
            <a:ext cx="2057400" cy="291960"/>
          </a:xfrm>
          <a:prstGeom prst="rect">
            <a:avLst/>
          </a:prstGeom>
          <a:solidFill>
            <a:srgbClr val="1f497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Windy Feet radion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76320" y="5689440"/>
            <a:ext cx="4800600" cy="1006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Deklaraciju su potpisali: </a:t>
            </a:r>
            <a:r>
              <a:rPr b="0" i="1" lang="sr-Latn-C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Kabinet potpredsednika Vlade Republike Srbije za evropske integracije,</a:t>
            </a:r>
            <a:r>
              <a:rPr b="0" i="1" lang="en-U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</a:t>
            </a:r>
            <a:r>
              <a:rPr b="0" i="1" lang="sr-Latn-C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Ministarstvo rudarstva i energetike Republike Srbije, Ministarstvo životne sredine i prostornog planiranja Republike Srbije, Ministarstvo za nauku i tehnološki razvoj Republike Srbije, UNDP i WWF i RG za životnu srdinu UNGC u Srbi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9379-52C2-4F3E-8665-278A9BBAA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838080"/>
            <a:ext cx="457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im volontera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1. juna u okviru akcije Naš Beograd, volonteri GD-a su čistili Veliko ratno ostrvo zajedno sa volonterima iz jos 6 kompanija i institucija. U akciji skupljeno 5.200 galona otp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događajima</a:t>
            </a: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koji su vezani za životnu sredinu – Earth Hour, Dan planete zemlje - Supernatural festival,  Naš Beograd u organizaciji Foruma poslovnih lidera i SMART kolek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Kontinuirana saradnjama i razmena iskustava</a:t>
            </a: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i znanj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635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redstavljanje UNDP projekta “Ensuring Financial Sustainability of the Protected Area System of Serbia”,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635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redstavljanje WWF projekta „Revitalizacija vlažnih staništa na području Specijanog rezarvata prirode Gornje Podunavlje”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635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redstavljanje izveštaja o KDO kompanije Telenor Srbija ’’Dnevnik društvene odgovornosti’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320" y="22860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H="1">
            <a:off x="76320" y="6858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I:\5. External Relations\1. Projects\Corporate\2011\2. COMMUNITY\OUR BELGRADE\Nas Beograd\Veliko ratno ostrvo 1.jpg"/>
          <p:cNvPicPr/>
          <p:nvPr/>
        </p:nvPicPr>
        <p:blipFill>
          <a:blip r:embed="rId1"/>
          <a:stretch/>
        </p:blipFill>
        <p:spPr>
          <a:xfrm>
            <a:off x="5489640" y="1447920"/>
            <a:ext cx="3044880" cy="203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6" name="Picture 5" descr="I:\5. External Relations\1. Projects\Corporate\2011\2. COMMUNITY\OUR BELGRADE\Nas Beograd\Veliko ratno ostrvo 2.jpg"/>
          <p:cNvPicPr/>
          <p:nvPr/>
        </p:nvPicPr>
        <p:blipFill>
          <a:blip r:embed="rId2"/>
          <a:stretch/>
        </p:blipFill>
        <p:spPr>
          <a:xfrm>
            <a:off x="5489640" y="3987720"/>
            <a:ext cx="3044880" cy="2032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" y="1522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 flipH="1">
            <a:off x="152280" y="60948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114300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Relizacija zajedničkih projekat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članica 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programima i projekt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članica 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događaj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koji su vezani za životnu sredinu (Dan planete zemlje, Dan voda, Earth Hou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,  Dan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ivotne sredine itd.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);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Iniciranje novih projekata/programa/aktivnost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sa relevantnim zainteresovanim institucijama i organizacij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Edukacija člani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Globalnog dogovora po pitanju zaštite životne sredine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izrada materijala i organizovanje radionica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Kontinuirana saradnja i razmena iskustav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i znanja sa organizacijama i udruženjima koji se bave zaštitom životne sredi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Proširenje članstv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edukaciju i razvoj DOP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80880" y="144792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Američka privredna komor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HR profesionala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nezavisnih elektronskih med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Automobilski klaster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lkanski fond za lokalne inicijativ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 Intes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Beogradski univerzitet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entar za monitoring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evaluacij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lta Holdin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lta Maxi Grup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Ecoist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konom:est Media Grou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rste 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uro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F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akultet tehničkih nauka Novi Sad, Fakultet organizacionih nauk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um mladih sa invaliditetom Beograd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Fractal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olci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Medicinski klaster Pro Vit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đ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MERCK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inistarstvo rada i socijalne politik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Narodna banka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Pricewaterhouse Cooper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Sekopak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mart Kolektiv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ociete Generale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rbija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m za socijalno uključivanje i smanjenje siromaštva, Vlada Republike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Na nacionalnom nivou formulisanje platforme koja će služiti za dalji razvoj i unapređenje društveno odgovornog poslovanj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akultet organizacionih nau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90400" y="838080"/>
            <a:ext cx="8096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RG za edukaciju i razvoj DOP-a – urađeno u 201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0880" y="144792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Nakon promene mandata  RG prošireno je članst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držan je jedan sastanak u toku godine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na kome je dogovoreno o smernicama daljeg rada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icijativa za učlanjenje novih članica RG – obrazovnih instituc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dukacija na temu “Društvena odgovornost obrazovnih institucija”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odizanje kapaciteta nastavnog kadra za edukovanje studenata u oblasti DO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rganizovanje gostujućih predavanja predstavnika na obrazovnim institucijama od oktobra 2011. godin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snivanje studentske sekcije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kviru Radne grup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H="1">
            <a:off x="685440" y="1295280"/>
            <a:ext cx="7451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C:\Documents and Settings\sanja.bunic\My Documents\My Pictures\education.jpg"/>
          <p:cNvPicPr/>
          <p:nvPr/>
        </p:nvPicPr>
        <p:blipFill>
          <a:blip r:embed="rId1"/>
          <a:stretch/>
        </p:blipFill>
        <p:spPr>
          <a:xfrm>
            <a:off x="6400800" y="5181480"/>
            <a:ext cx="22860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920" y="1371600"/>
            <a:ext cx="8610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Radne grupe</a:t>
            </a:r>
            <a:r>
              <a:rPr b="0" lang="sr-Latn-CS" sz="20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ocijalno uključ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borbu protiv korup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KDO u bankarstvu i finans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edukaciju i razvoj DOP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votnu sredi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med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podršku u vanrednim situac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radna prava (</a:t>
            </a:r>
            <a:r>
              <a:rPr b="0" i="1" lang="sr-Latn-CS" sz="2000" spc="-1" strike="noStrike">
                <a:solidFill>
                  <a:srgbClr val="003399"/>
                </a:solidFill>
                <a:latin typeface="Times New Roman"/>
              </a:rPr>
              <a:t>u osnivanj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Trenut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77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lani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koje zapošljavaju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k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68.076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zaposlen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7 kompan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6 nevladinih organi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8 poslov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udr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 akademskih institu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1 g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 organizacij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za edukaciju i razvoj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OP-a – plan za 2012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iciranje učlanjenja novih članica RG – obrazovnih instituc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rganizovanje sastanka u Rektoratu Univerziteta u Beogradu, na kome bi se prisutnim predstavnicima akademske zajednice prezentovali prinicipi Akademske mreže Globalnog dogovora, kao i osnovne ideje uvođenja DOP-a u akademske kurikulum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rganizovanje istraživanja, kojim bi se utvrdilo trenutno stanje po pitanju zastupljenosti tema DOP u nastavnim i naučnim kurikulumima i identifikovali profesori i asistenti  senzibilisani za temu DO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drška studentskim organizacijama u planiranju i realizaciji studentskih seminara na temu DO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med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3520" y="19051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ast Media Grou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B92, E-kapi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Medijsko istraživanje i izveštavanje o odabranim tem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ast Media Group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H="1">
            <a:off x="684360" y="1371600"/>
            <a:ext cx="201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C:\Documents and Settings\sanja.bunic\My Documents\My Pictures\CSR\writing-2.jpg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medije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3520" y="1905120"/>
            <a:ext cx="822960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Održati novu seriju sastanaka sa medijima kako bi se prezentovala ideja Radne grup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Registrovanje četiri medijske kuć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ao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zvanične članove Globalnog dogovor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Uvesti program recikliranja po redakcijama medijskih kuć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oglasiti i nagraditi najuspešniju redakciju na kraju godine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684000" y="1371600"/>
            <a:ext cx="3779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DE0-AE65-4D9A-B1E6-A199C72E9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\\Sr00w60\globalni dogovor\Radna grupa za Kraljevo\Slike Kraljevo-predaja knjiga i racunara\biblioteka u Kraljevu - ulaz.jpg"/>
          <p:cNvPicPr/>
          <p:nvPr/>
        </p:nvPicPr>
        <p:blipFill>
          <a:blip r:embed="rId1"/>
          <a:stretch/>
        </p:blipFill>
        <p:spPr>
          <a:xfrm>
            <a:off x="6019920" y="2514600"/>
            <a:ext cx="281916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785520" y="91440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533520" y="1600200"/>
            <a:ext cx="525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BCIF, Centar za monitoring i evaluaciju, Credit Agricole banka, Državna lutrija Srbije, Erste banka, Jubmes banka, Medicinski klaster Pro Vita, Narodna banka Srbije, Privredna komora Beograda, Societe General Srbija banka, Supernatural, Telekom Srbija, 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drška područjima koja su ugrožena prirodnim nepogod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3D9F-72B0-4908-B066-56A7ECF46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788760" y="9144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-uradjeno u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609480" y="14346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rikupljeno je oko 3.000 knjiga i 11 računara za biblioteku 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iz Kraljeva, koja je direktno pogođena zamljotresom</a:t>
            </a: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; u volonterskoj akciji učestvovalo preko 1000 zaposlenih iz kompanija/organizacija članica Globalnog dogovo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osredstvom sastanka Radne grupe ostvarena je saradnja između biblioteke iz Kraljeva i 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Radn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e 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grupa za KDO u bankarstvu i finansijama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, tako da je realizovana 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radionic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a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 „Upravljanje ličnim finansijama“ za građane Kraljeva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;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Održane humanitarne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 </a:t>
            </a: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ozorišne predstave za decu u dve osnovne škole u Kraljev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 flipH="1">
            <a:off x="848880" y="144792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94A-73C9-4B4B-9604-6337E9FB5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62120" y="83808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-plan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62120" y="1490760"/>
            <a:ext cx="79246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Nastavak podrške na području Kraljev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Reagovanje na potencijalne vanredne situacije koje se mogu desiti u 2012. godin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Godišnja akcija sakupljanja knjiga prema potrebama odgovarajućih instituci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Uspostavljanje dugoročne saradnje sa drugim subjektima sa aspekta delovanja u vanrednim situacij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Edukacija članica RG za delovanje u vanrednim situacij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Proširenje radne gru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Iniciranje zajedničkih aktivnosti sa drugim članicama i radnim grupama Globalnog dogovora Ujedinjenih nacija u Srbij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Text Box 4"/>
          <p:cNvGrpSpPr/>
          <p:nvPr/>
        </p:nvGrpSpPr>
        <p:grpSpPr>
          <a:xfrm>
            <a:off x="573120" y="987480"/>
            <a:ext cx="8242200" cy="6072120"/>
            <a:chOff x="573120" y="987480"/>
            <a:chExt cx="8242200" cy="6072120"/>
          </a:xfrm>
        </p:grpSpPr>
        <p:pic>
          <p:nvPicPr>
            <p:cNvPr id="167" name="Text Box 4" descr=""/>
            <p:cNvPicPr/>
            <p:nvPr/>
          </p:nvPicPr>
          <p:blipFill>
            <a:blip r:embed="rId1"/>
            <a:stretch/>
          </p:blipFill>
          <p:spPr>
            <a:xfrm>
              <a:off x="573120" y="987480"/>
              <a:ext cx="8242200" cy="60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77800" y="990720"/>
              <a:ext cx="8229600" cy="60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4000" spc="-1" strike="noStrike">
                  <a:solidFill>
                    <a:srgbClr val="003399"/>
                  </a:solidFill>
                  <a:latin typeface="Times New Roman"/>
                </a:rPr>
                <a:t>HVALA NA PAŽNJI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www.unglobalcompact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www.unglobalcompact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 - m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i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globalni.dogovor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na.toma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ur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đeno u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1523880"/>
            <a:ext cx="8610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d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ano 10 sastanak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pravnog odbora GD-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kao i velik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broj sastanaka pojedinih članova UO sa zainteresovanim stran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odišnja konferencija Globalnog dogovora u Srbiji o životnoj sredini i energetskoj efikasn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čestvovanje predstavnika mreže na: IX Godišnjem sku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lokalnih mreža i GC Week-u u Kopenhagenu, kao i na godišnjem skupu evropskih mreža GD-a u Rim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edstavljanje Globalnog dogovora u Srbiji na konferencijama i skupovima u  zemlji i inostranstv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tpisivanje Protokola o saradnji s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Zajedni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konomskih, pravno-birotehničkih, trgovinskih i ugostiteljsko-turističkih škola Republike Srb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Godišnje skupštine Globalnog dogovora  u Srbiji (14. decembar 20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plan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1523880"/>
            <a:ext cx="86104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sastanka evropskih mreža Globalnog dogovora u Beogradu (septembar/oktobar 2012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ntinuirani rad na promociji deset principa Globalnog dogovora sa akcentom na principe koji se odnose na radna pra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oširenje članstva (posebno iz sektora MSP), kao i podrška aktivnijem učešću pojedinih član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tematskih seminara i radion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užanje podrške radu postojećih i osnivanju novih radnih grupa (osnivanje Radne grupa za radna prav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užanje podrške članicama u izradi Izveštaja o napret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8380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lno uključ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609480" y="1295280"/>
            <a:ext cx="60199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3520" y="1523880"/>
            <a:ext cx="82296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icijativ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nca Intes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ogradska poslovna škol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razvoj inkluzivnog društv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dit Agricole bank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Maxi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štvo za razvoj dece i mladih-Otvoreni klub Niš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ržavna lutrij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ast Media Group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urobank EF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orum mladih sa invaliditetom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ustrijski sindikat Srbije,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BC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PM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reativne inovacije,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đunarodna organizacija ra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rodna bank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iraeus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lovni klub Momentum, Medicinski klaster Pro Vit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slepih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distrofiča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, 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ills Training Center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enor Srbija,  Telekom Srbija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CEF,  UN Women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druženje poslovnih žen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VIP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fikasnija socijalna zaštita socijalno ranjivih  grupa, unapređenje položaja, ukidanje d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riminacije u pogledu zapošljav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 inicij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"/>
          <p:cNvSpPr/>
          <p:nvPr/>
        </p:nvSpPr>
        <p:spPr>
          <a:xfrm>
            <a:off x="304920" y="137160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90400" y="838080"/>
            <a:ext cx="71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lno uključivanje– urađeno u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57200" y="1584360"/>
            <a:ext cx="83059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G proširila svoj mandat na socijalno uključivanje svih ranjiv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grupa i u skladu sa tim preimenovana u RG za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cijalno uključivan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Značajno prošireno članstvo RG sa predstavnicima privatnog i civilnog sektora 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lanice RG prisustvovale </a:t>
            </a: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nacionalnim konsultacijam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NICEF-a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vi-VN" sz="2000" spc="-1" strike="noStrike">
                <a:solidFill>
                  <a:srgbClr val="003399"/>
                </a:solidFill>
                <a:latin typeface="Times New Roman"/>
              </a:rPr>
              <a:t>Razvoj međunarodnih principa poslovanja i prava detet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lanice RG realizovale zajedničke aktivnosti RG-volonterske akcije, projekte i s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685800" y="1295280"/>
            <a:ext cx="64022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C:\Documents and Settings\sanja.bunic\My Documents\My Pictures\socijalna inkluzija.jpg"/>
          <p:cNvPicPr/>
          <p:nvPr/>
        </p:nvPicPr>
        <p:blipFill>
          <a:blip r:embed="rId1"/>
          <a:stretch/>
        </p:blipFill>
        <p:spPr>
          <a:xfrm>
            <a:off x="5638680" y="5156280"/>
            <a:ext cx="27432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socijalno uključivanj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1905120"/>
            <a:ext cx="82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nferencija članica RG za socijalno uključivanje, drugih članica Globalnog dogovora i UN Women-a na temu Principa osnaživanja že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beležavanje Evropske godine aktivnog starenja i međugeneracijske saradnje 2012. volonterskim akcijama članica RG na lokalnom i nacionalnom nivo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Nastavak rada na međusobnom unapređivanju i razmeni znanja i veština članica RG koje pripadaju privatnom i civilnom sekto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685800" y="13716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09480" y="914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za KDO u bankarstvu i finans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57200" y="1484280"/>
            <a:ext cx="82296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kademija za bankarstvo i finansije, Banc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ntesa, Beogradska trgovačka omladin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dit Agricole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urobank EFG, Erste Bank, Hypo-Alp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Adri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ank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Jubmes banka, KBC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mercijalna banka, KPMG, Narodna banka Srbij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, Piraeus Bank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ociete Genera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rbija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Finansijska edukacij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jednička saradnja po pitanju uvođenja novih </a:t>
            </a:r>
            <a:r>
              <a:rPr b="0" lang="sr-Latn-C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inovativnih proizvo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rganizovanje serije predavanja na temu KDO u bankarstvu i finansija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drž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vanje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odabran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roje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t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i akcij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šće u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realiz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cij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ojedinih akcij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koje su organizovane od strane 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stalih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radnih grup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nje na iskustvima drugi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arodna banka Srb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H="1" flipV="1">
            <a:off x="684000" y="1371600"/>
            <a:ext cx="66308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71080422.jpg"/>
          <p:cNvPicPr/>
          <p:nvPr/>
        </p:nvPicPr>
        <p:blipFill>
          <a:blip r:embed="rId1"/>
          <a:stretch/>
        </p:blipFill>
        <p:spPr>
          <a:xfrm>
            <a:off x="6170760" y="4724280"/>
            <a:ext cx="2820960" cy="186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urađeno u 201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0880" y="1676520"/>
            <a:ext cx="822960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adnja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d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sustvo predstavnika banaka na maturskom ispi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tpisivanje Protokola o saradn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splatne radionice za građane pod nazivom “Upravljanje ličnim finansija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dionica u Narodnoj biblioteci “Stefan Prvovenčani” iz Kralje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oncipiranje “E-learning” radion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zrada “E-learning” aplikacije i postavljanje iste na sajt projek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H="1" flipV="1">
            <a:off x="684000" y="1325520"/>
            <a:ext cx="75452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5:38:35Z</dcterms:created>
  <dc:creator>DC191NP</dc:creator>
  <dc:description/>
  <dc:language>en-US</dc:language>
  <cp:lastModifiedBy>sanja.bunic</cp:lastModifiedBy>
  <dcterms:modified xsi:type="dcterms:W3CDTF">2011-12-14T13:05:47Z</dcterms:modified>
  <cp:revision>392</cp:revision>
  <dc:subject/>
  <dc:title>PowerPoint Presentation</dc:title>
</cp:coreProperties>
</file>