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A474-5D53-49D5-B570-5814DAB3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8342-FEB4-45F6-B53D-DED07AF2F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60D-C6F8-4A61-8BB2-B248AD665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9F0-CF0D-4C7E-AE0B-6BA8B47E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47B8-650D-4826-9152-ABE2B1698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493-97AE-4898-8840-4C5E6FD3F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CEFA-3341-4E02-B54C-AF8FB2C2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5A7-33F0-4A51-A281-14A6F007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752-5732-4902-B26D-FF1844E3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A016-10EC-4529-8A58-F54F07FD9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C28-C3F3-4AFE-AF43-BF755833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FB76-CD33-4A36-8A6D-F01D7E8B7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1A7-F729-4D8E-BE30-1D6C6D9D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D0B-D4CC-47DB-8B9F-818AD52C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37B-3C7A-429F-8246-1961407C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68B6-D944-40F1-8E3F-11C90BCE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6267-ED6D-40AF-BC43-5150043B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9322-91C7-46BA-925C-B19506B4D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AE7-93D4-47CB-8A8F-667BCF5FD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961-C293-467F-845B-B9D0B39F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EC2-C605-410D-A1BE-33CC0811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7D5-98DF-4CE9-9392-A398CA24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AF4-D07F-4346-9D0F-CA232EB1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2FA-A37A-43F5-AF96-1431D544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5B9-DAA8-4F47-B64E-D786C279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CA2-4623-4505-B787-4038D66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E10-60AD-43B4-A281-6F2607F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161-DC16-498A-8EBE-520D98A5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BCE-D038-4112-9C86-59E2AD03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47B-B160-4865-B927-E124B9F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A00-A186-4E52-BCF8-893F45A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1D0B-86F1-43C4-BE5A-9A77FD66F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GCN_serbia.JPG"/>
          <p:cNvPicPr/>
          <p:nvPr/>
        </p:nvPicPr>
        <p:blipFill>
          <a:blip r:embed="rId2"/>
          <a:stretch/>
        </p:blipFill>
        <p:spPr>
          <a:xfrm>
            <a:off x="5562720" y="152280"/>
            <a:ext cx="34052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unglobalcompact.org/" TargetMode="External"/><Relationship Id="rId3" Type="http://schemas.openxmlformats.org/officeDocument/2006/relationships/hyperlink" Target="mailto:globalni.dogovor@pks.r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0120" y="236232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Go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išnja skupština Globalnog dogovora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3399"/>
                </a:solidFill>
                <a:latin typeface="Times New Roman"/>
              </a:rPr>
              <a:t>Privredna komora S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Beograd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7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ecembar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0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685440" y="2895480"/>
            <a:ext cx="6551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plan za 2013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0880" y="1905120"/>
            <a:ext cx="82296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685440" y="1371600"/>
            <a:ext cx="7164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19051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5800" y="1752480"/>
            <a:ext cx="72388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stavak saradnje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 Zavodu za izradu novčanica i kovanog novca - Topči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sustvo  predstavnika banaka na maturskom ispi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zrada i potpisivanje Protokola o saradnji za 2013/2014. g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ovi ciklus besplatnih radionica za građane pod nazivom “Upravljanje ličnim finansijam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stavak saradnje sa postojećim partneri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alizovanje radionica po manjim gradovima u saradnji sa lokalnim organizacijama i partnerima banaka članica 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904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adna grup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borbu protiv koru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523880"/>
            <a:ext cx="82296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gencija za borbu protiv korupcij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Banka Intes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entar za demokratiju, Centar za monitoring i evaluaciju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Centar za bezbednosne studije, Deloitte, Ecoprotexi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Ernst and Young</a:t>
            </a:r>
            <a:r>
              <a:rPr b="0" lang="sr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;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Hauska partners, Holcim Srbija, Industrijski sindikat Srbije, Jubmes banka, Kancelarija za evropske integracije, Kreativne inovacije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KPMG, Merck Sharp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&amp; Dohme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ercedes Benz Srbija i Crna Gora;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Narodna banka Srbije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Pricewaterhouse Coopers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Privredna komora Srbije, Siemens Srbija, Transparentnost Srbija, Telekom Srbija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druženje Eutopij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Princip 10 Globalnog dogovora UN i kompanijski aspekt borbe protiv korup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a korporacijskog aspekta postoje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tri nivoa borbe protiv korupc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interni, eksterni i zajednička ak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H="1">
            <a:off x="684000" y="144792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C:\Documents and Settings\sanja.bunic\My Documents\My Pictures\borba-protiv-korupcije.jpg"/>
          <p:cNvPicPr/>
          <p:nvPr/>
        </p:nvPicPr>
        <p:blipFill>
          <a:blip r:embed="rId1"/>
          <a:stretch/>
        </p:blipFill>
        <p:spPr>
          <a:xfrm>
            <a:off x="6095880" y="5181480"/>
            <a:ext cx="2667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u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520" y="156060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klaracija o borbi protiv korupcije je potpisana od strane 1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7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članova Globalnog dogovor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Jubmes banka, prva potpisnica Deklaracije je prva dostavila Izveštaj prema Principu 10. Izveštaj se nalazi  u prvih 100 izveštaja u svet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Tr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ći evropski sastanak evropskih mreža GD u Beogradu. Priprema skupa u     delu tema: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Izveštaj sa desetog sastanka medjunarodne RG za BPK, Ostvarivanje integriteta u MSP , Deklaracija o borbi protiv korupcije i Izveštavanje prema principu 10 (Jubmes banka)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Obeležavanje Medjunarodnog dana Borbe portiv korupcij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edstavljena inicijalna saradnja sa ruskom mrežom GD, RG za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ntikorupciju i Inicijativa za uspostavljanje Nagrade za antikorupciju - Verica Bar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9"/>
          <p:cNvSpPr/>
          <p:nvPr/>
        </p:nvSpPr>
        <p:spPr>
          <a:xfrm flipH="1">
            <a:off x="762120" y="1447920"/>
            <a:ext cx="64008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plan za 20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3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1447920"/>
            <a:ext cx="8305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movisanje aktivnog članstva i Deklaracije za borbu protiv korupcij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Izveštavanje članica Globalnog dogovora u Srbiji po 10. principu Globalnog dogovora prema novom uputstvu o izveštavanj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ktivno učešće u radu Medjunarodne radne grupe za borbu protiv korupcije UN G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Inicijative projekata u cilju korišćenja sredstava i implementacije programa u kontekstu  Kolektivne ak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Otvorena saradnja sa predstavnicima državnih organa u vezi sa problemima koji su od značaja u borbi protiv korupcije i etičkom poslovanju privrednih subjek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mocija i implementacija planova integriteta u institucijama i kompanijama u Srbij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609120" y="1371600"/>
            <a:ext cx="67057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92040" y="6858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" y="1219320"/>
            <a:ext cx="82296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: Automobilski klaster Srbije,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Balkanski fond za lokalne inicijative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Božić i sinovi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Opština Vrbas, Ecoist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Energoprojekt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Holcim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Medicinski klaster Pro Vit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đ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inistarstvo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životne sredine i prostornog planiranj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ladi istraživači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Srbij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Narodna banka Srbije, Privredna banka Beograd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Privredna komora Srbij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Represent Communications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Supernatural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Victoria Consulting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NDP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i WWF -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World Wildlife Foun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ktivno učešće u dijalogu i osmišljavanju javnih politika i programa u okviru kojih se zajedničkim akcijama, tj. partnerskim projektima uveć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aju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sinergetsk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efekti i pružaju primeri dobre prakse privredi i društv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romovisanje 3 “ekološka” principa 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napređenje praks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kompanija – učesn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Kontinuirana razmena iskust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ca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la Helle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376200" y="11430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86015602.jpg"/>
          <p:cNvPicPr/>
          <p:nvPr/>
        </p:nvPicPr>
        <p:blipFill>
          <a:blip r:embed="rId1"/>
          <a:stretch/>
        </p:blipFill>
        <p:spPr>
          <a:xfrm>
            <a:off x="5905440" y="5181480"/>
            <a:ext cx="3129120" cy="15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6320" y="1522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 flipH="1">
            <a:off x="152280" y="60948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1143000"/>
            <a:ext cx="8229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Relizacija zajedničkih projekat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članica RG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i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programima i projekt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članica 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Podrška događajim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 koji su vezani za životnu sredinu (Dan planete zemlje, Dan voda, Earth Hour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,  Dan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ž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ivotne sredine itd.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);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</a:rPr>
              <a:t>Lansiranje jednog projekta koji će biti osmišljen i podržan od članica RG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sa relevantnim zainteresovanim institucijama i organizacijama a koji bi postao tradicionalna aktivnost Radne gru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Iniciranje novih projekata/programa/aktivnosti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sa relevantnim zainteresovanim institucijama i organizacijam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Edukacija članic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 Globalnog dogovora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kroz organizovanje jednodnevnog izleta</a:t>
            </a:r>
            <a:r>
              <a:rPr b="0" lang="sr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edukaciju i razvoj DOP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0880" y="1447920"/>
            <a:ext cx="845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merička privredna komor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HR profesionala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nezavisnih elektronskih med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utomobilski klaster Srbije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Balkanski fond za lokalne inicijativ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Banka Intes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Beogradska poslovna škola, Beogradski univerzitet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Centar za monitoring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evaluacij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elta Holding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elta Maxi Grup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Ecoist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konom:est Media Group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rste 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uro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FG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Fakultet tehničkih nauka Novi Sad, Fakultet organizacionih nauk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Forum mladih sa invaliditetom Beograd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Fractal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Holcim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Medicinski klaster Pro Vit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M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đ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MERCK Srbij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Ministarstvo rada i socijalne politik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Narodna banka Srbije, Pricewaterhouse Coopers, Sekopak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Smart Kolektiv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Societe Generale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Srbija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Tim za socijalno uključivanje i smanjenje siromaštv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</a:t>
            </a:r>
            <a:r>
              <a:rPr b="1" lang="sr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vi-VN" sz="2000" spc="-1" strike="noStrike">
                <a:solidFill>
                  <a:srgbClr val="003399"/>
                </a:solidFill>
                <a:latin typeface="Times New Roman"/>
              </a:rPr>
              <a:t>Javno zagovaranje i podrška obrazovnim institucijama za uvođenje DOP-a u formalni sistem obrazovanja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 као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 unapređenje društveno odgovornog poslovanj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Beogradska poslovna šk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za edukaciju i razvoj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OP– plan za 2013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Inicijativa za učlanjenje novih članica Radne grupe sa fokusom na obrazovne instituci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Povezivanje sa krovnom studentskom organizacijom-Studentska konferencija univerziteta Srbi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Edukacija i podizanje nivoa svesti o društveno odgovornom poslovanju uz saradnju sa univerzitetima i studentskim organizacijam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Organizacija istraživanja radi utvrdjivanja trenutnog stanja po pitanju zastupeljnosti DOP u nastavnim i naučnim programima i medju studentskom populacijom</a:t>
            </a:r>
            <a:r>
              <a:rPr b="0" lang="en-US" sz="2000" spc="-1" strike="noStrike">
                <a:solidFill>
                  <a:srgbClr val="0035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C:\Documents and Settings\sanja.bunic\My Documents\My Pictures\education.jpg"/>
          <p:cNvPicPr/>
          <p:nvPr/>
        </p:nvPicPr>
        <p:blipFill>
          <a:blip r:embed="rId1"/>
          <a:stretch/>
        </p:blipFill>
        <p:spPr>
          <a:xfrm>
            <a:off x="6248520" y="5257800"/>
            <a:ext cx="2286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med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33520" y="190512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92, E-kapija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TV, Represent Communications, Privredna banka Beogr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Medijsko istraživanje i izveštavanje o odabranim tem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present Communications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684360" y="1371600"/>
            <a:ext cx="201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C:\Documents and Settings\sanja.bunic\My Documents\My Pictures\CSR\writing-2.jpg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E76-A394-448D-8201-78D9AF987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85520" y="91440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3520" y="1600200"/>
            <a:ext cx="59436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BCIF, Centar za monitoring i evaluaciju, Credit Agricole banka, Državna lutrija Srbije, Erste banka, Jubmes banka, Medicinski klaster Pro Vita, Narodna banka Srbije, Privredna komora Beograda, Societe General Srbija banka, Supernatural, Telekom Srbija, 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drška područjima koja su ugrožena prirodnim nepogod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U sredu 29. februara 2012. godine sa početkom u 13h u prostorijama Privredne komore Srbije održan je šesti po redu sastanak Radne grupe za podršku u vanrednim situacijama.   Članice..."/>
          <p:cNvPicPr/>
          <p:nvPr/>
        </p:nvPicPr>
        <p:blipFill>
          <a:blip r:embed="rId1"/>
          <a:stretch/>
        </p:blipFill>
        <p:spPr>
          <a:xfrm>
            <a:off x="6705720" y="22096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1371600"/>
            <a:ext cx="86104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Radne grupe</a:t>
            </a:r>
            <a:r>
              <a:rPr b="0" lang="sr-Latn-CS" sz="20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ocijalno uključ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borbu protiv korup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KDO u bankarstvu i finans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edukaciju i razvoj DOP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votnu sredi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med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radna pr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Trenut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84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lanic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je zapošljavaju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k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72.330 zaposlen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0 kompan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(od toga 20 M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26 nevladinih organ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8 poslov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udr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 akademskih institu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2 g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 sindik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8C9B-8F5D-4508-AEF6-593C0F83C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788760" y="9144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-uradjeno u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09480" y="1774080"/>
            <a:ext cx="7696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rikupljeno je preko 500 knjiga od strane 10 članica za Narodnu biblioteku u Bor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Odr</a:t>
            </a: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žan jedan sastanak RG u 2012. godin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Održano nekoliko bilateralnih sastanaka vezanih za realizaciju Godišnje akcije prikupljanja knjiga i uspostavljanja saradnje sa institucijama i organizacijama nadležnim za vanredne situaci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Uspostavljena saradnja sa Crvenim Krstom Srbi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Uspostavljena komunikacija sa Upravom za vanredne situacije RS i grada Beogr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848880" y="144792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64C9-57BD-4BB8-AA60-31357A3A5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61760" y="914400"/>
            <a:ext cx="74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Tim za podršku u vanrednim situacijama- plan za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848880" y="144792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762120" y="1445760"/>
            <a:ext cx="7848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Iniciranje i razvoj strateškog plana Ti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Aktivna podrška ugroženim područjima u slučaju vanrednih situacij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Nastavak komunikacije i uspostavljanje stalne saradnje sa relevantnim institucija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Realizacija Godišnje akcije prikupljanja knjig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Iniciranje dve nove godišnje akcije u saradnji sa RG za životnu sredinu i RG za socijalno uključivan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Edukacija članova/team building o reagovanju u vanrednim situacijama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Proširenje Ti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415E-7CF9-4880-90F9-CD133E0AF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24400" y="83808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radna prava – izveštaj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609480" y="1692720"/>
            <a:ext cx="80773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socijacija HR profesionalaca, Erste banka, Eco Protexi, Fondacija Centar za demokratiju, , Industrijski sindikat Srbije, Medjunarodna organizacija rada, Privredna komora Beograda, Samostalni sindikat trgovine Metro Cash and Carry, Samostalni sindikat Idea, Udruženje Eutopija, UN Women, Ujedinjeni sindikati Srb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etiri principa Globalnog dogovora posvećena radnim prav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narodna organizacij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U sredu 14. marta 2012. sa početkom u 10.00h u prostorijama Privredne komore Srbije  održan je treći sastanak Radne grupe za radna prava. Gost Radne grupe je bila  g-dja Christina..."/>
          <p:cNvPicPr/>
          <p:nvPr/>
        </p:nvPicPr>
        <p:blipFill>
          <a:blip r:embed="rId1"/>
          <a:stretch/>
        </p:blipFill>
        <p:spPr>
          <a:xfrm>
            <a:off x="6324480" y="46483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9A9-23AA-42EA-88ED-9AF02E78A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824400" y="83808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radna prava – izveštaj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609480" y="167940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Učešće u radu konferencije o Principima osnaživanja ž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Razmatranje Konvencije MOR br. 171 o Noćnom radu i njenog prevođenja u radno zakonodavstvo Srbije sa g-đom Kristinom Miheš, Višim specijalistom MOR za socijalni dijalog i radne odno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Razmatranje aktuelne situacije i novih propisa u oblasti bezbednosti i zaštite zdravlja na radu sa g-đom Verom Božić-Trefalt, direktorkom Uprave za bezbednost i zdravlje na rad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Učešće u radu konferencije o zapošljavanju mladih, povodom završetka programa UN o zapošljavanju mladih i migrac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Učešće u radu okruglog stola o dostojanstvenom radu Fondacije Centar za demokrat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D6B-009E-4C1F-8E36-23105EAB3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788760" y="838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radna prava – plan rada za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09480" y="192096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edlog Upravnom odboru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a Godišnja konferencija Globalnog dogovora u Srbiji u 2013. bude na temu radnog prav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va sastanka u prvoj polovini 2013. sa temama: Cena nepoštovanja zakona o radu iz ugla poslodavaca i Sindikalno udruživanje u privatnom sektor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va sastanka u drugoj polovini  2013. godine na kojima će biti razmatran sistem  mirnog rešavanja radnih sporova, odnosno ratifikacija i primena Konvencije MOR br. 151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o radnim odnosima u javnoj službi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Text Box 4"/>
          <p:cNvGrpSpPr/>
          <p:nvPr/>
        </p:nvGrpSpPr>
        <p:grpSpPr>
          <a:xfrm>
            <a:off x="573120" y="987480"/>
            <a:ext cx="8242200" cy="6967440"/>
            <a:chOff x="573120" y="987480"/>
            <a:chExt cx="8242200" cy="6967440"/>
          </a:xfrm>
        </p:grpSpPr>
        <p:pic>
          <p:nvPicPr>
            <p:cNvPr id="157" name="Text Box 4" descr=""/>
            <p:cNvPicPr/>
            <p:nvPr/>
          </p:nvPicPr>
          <p:blipFill>
            <a:blip r:embed="rId1"/>
            <a:stretch/>
          </p:blipFill>
          <p:spPr>
            <a:xfrm>
              <a:off x="573120" y="987480"/>
              <a:ext cx="82422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77800" y="990720"/>
              <a:ext cx="8229600" cy="68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4000" spc="-1" strike="noStrike">
                  <a:solidFill>
                    <a:srgbClr val="003399"/>
                  </a:solidFill>
                  <a:latin typeface="Times New Roman"/>
                </a:rPr>
                <a:t>HVALA NA PAŽNJI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www.unglobalcompact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2"/>
                </a:rPr>
                <a:t>www.unglobalcompact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 - m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i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/>
                </a:rPr>
                <a:t>globalni.dogovor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na.toma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nja.bunic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pks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ur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đeno u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1523880"/>
            <a:ext cx="861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d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ano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sastanak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pravnog odbora GD-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kao i velik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br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astanaka pojedinih članova UO sa zainteresovanim stran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odišnja konferencija Globalnog dogovora u Srbiji organizaciji sa UN Women – 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incipi osnaživanja žena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Organizacija Trećeg godišnjeg sastanka evropskih mreža Globalnog dogovora, Beograd 18-19. oktobra 2012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tpisivanje Protokola o saradnji s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Zajedni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konomskih, pravno-birotehničkih, trgovinskih i ugostiteljsko-turističkih škola Republike Srb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Godišnje skupštine Globalnog dogovora  u Srbiji (17. decembar 20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Evropske mreže Globalnog dogovora su 2010. godine potpisale Deklaraciju o namerama (Declaration of Intent – DOI) u Briselu sa zajedničkim ciljem da se poboljša komunikacija i saradnja izmedju mreža i..."/>
          <p:cNvPicPr/>
          <p:nvPr/>
        </p:nvPicPr>
        <p:blipFill>
          <a:blip r:embed="rId1"/>
          <a:stretch/>
        </p:blipFill>
        <p:spPr>
          <a:xfrm>
            <a:off x="7162920" y="685800"/>
            <a:ext cx="1628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plan za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04920" y="152388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mociji deset principa Globalnog dogov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širenju članstva (naročito iz sektora MS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odršci aktivnijem učešću pojedinačnih čla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Organizovanju tematskih seminara i radionic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užanju podrške radu postojećih radnih grup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užanju podrške članicama u izradi Izveštaja o napretk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8380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lno uklju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č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609480" y="1295280"/>
            <a:ext cx="60199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1523880"/>
            <a:ext cx="822960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icijativ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nca Intes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ogradska poslovna škol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razvoj inkluzivnog društv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Credit  Agricole bank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Dečije src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haize Group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Društvo za razvoj dece i mladih –Niš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ržavna lutrij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urobanka EF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orum mladih sa invaliditetom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Industrijski sindikat Srbij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BC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PM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narodna organizacija ra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Ministarstvo rada i socijaklne politik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rodna bank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iraeus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vredna banka Beograd, </a:t>
            </a:r>
            <a:r>
              <a:rPr b="0" lang="sr-Latn-C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ro Vite klaster, </a:t>
            </a:r>
            <a:r>
              <a:rPr b="0" lang="sr-Latn-C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present Communications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ills Training Center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slepih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distrofiča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, Savez slepih i slabovidih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Telekom Srbija, Telenor, Udruženje poslovnih žena Srbij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DP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UN Women, UNICEF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VIP mobil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fikasnija socijalna zaštita socijalno ranjivih  grupa, unapređenje položaja, ukidanje d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riminacije u pogledu zapošljava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rupom je predsedava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 inicijative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d oktobra 2010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o novembra 2012. , a od decembra 2012. RG predsedava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nca Int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304920" y="137160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90400" y="83808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lno uključivanje– urađeno u 20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920" y="1447920"/>
            <a:ext cx="8839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lanice RG su se priključile akciji pomoći  starim i drugim građanima ugroženim niskim temperaturama i uputile urgentnu finansijsku pomo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lanice RG su aktivno učestvovale i dale svoj doprinos konferenciji Principi osnaživanja žena, kao i konferenciji Principi poslovanja i dečija prav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tvarene saradnje, podržani projekti kroz RG za Socijalno uključ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Od početka godine RG je održala četiri sastan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685800" y="1295280"/>
            <a:ext cx="64022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UNICEF 0706 2012_015.JPG"/>
          <p:cNvPicPr/>
          <p:nvPr/>
        </p:nvPicPr>
        <p:blipFill>
          <a:blip r:embed="rId1"/>
          <a:stretch/>
        </p:blipFill>
        <p:spPr>
          <a:xfrm>
            <a:off x="6095880" y="4952880"/>
            <a:ext cx="2514600" cy="16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C:\Documents and Settings\sanja.bunic\My Documents\GLOB. dogovor\Slike\principi osnazivanja zena0583 (Copy).JPG"/>
          <p:cNvPicPr/>
          <p:nvPr/>
        </p:nvPicPr>
        <p:blipFill>
          <a:blip r:embed="rId2"/>
          <a:stretch/>
        </p:blipFill>
        <p:spPr>
          <a:xfrm>
            <a:off x="228600" y="4648320"/>
            <a:ext cx="2776680" cy="1895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anja.bunic\My Documents\GLOB. dogovor\Slike\principi osnazivanja zena0523s.JPG"/>
          <p:cNvPicPr/>
          <p:nvPr/>
        </p:nvPicPr>
        <p:blipFill>
          <a:blip r:embed="rId3"/>
          <a:stretch/>
        </p:blipFill>
        <p:spPr>
          <a:xfrm>
            <a:off x="3048120" y="4724280"/>
            <a:ext cx="286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90400" y="914400"/>
            <a:ext cx="7151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RG za socijaln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o uklju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čivanje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- 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plan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rada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za 2013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1905120"/>
            <a:ext cx="8229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ganizovanje volonterske akcije sa nekom od NVO u okviru R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undraising dogadjaj u partnerstvu sa Hajatom namenjen ustanovi za brigu o star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olonterska akcija pom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ći deci sa invaliditet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stavak pomoći starim i iznemoglim lic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staviti rad na promocij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inci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n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vanj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a 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Principa poslovanja i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jih p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H="1" flipV="1">
            <a:off x="685800" y="1371600"/>
            <a:ext cx="693432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914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za KDO u bankarstvu i finans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57200" y="1484280"/>
            <a:ext cx="82296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kademija za bankarstvo i finansije, Banc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ntes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dit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gricole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urobank EFG, Erste Bank, Hypo-Alp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Adri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ank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Jubmes banka, KBC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mercijalna banka, KPMG, Narodna banka Srbij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Piraeus Bank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ivredna banka Beograd i Societe Genera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an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Finansijska edukacij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jednička saradnja po pitanju uvođenja novih </a:t>
            </a:r>
            <a:r>
              <a:rPr b="0" lang="sr-Latn-C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inovativnih proizvo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rganizovanje serije predavanja na temu KDO u bankarstvu i finansija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drž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vanje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odabran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roje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t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i akcij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šće u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realiz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cij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ojedinih akcij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koje su organizovane od strane 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stalih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adnih grup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nje na iskustvima drugi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arodna banka Srb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H="1" flipV="1">
            <a:off x="684000" y="1371600"/>
            <a:ext cx="66308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71080422.jpg"/>
          <p:cNvPicPr/>
          <p:nvPr/>
        </p:nvPicPr>
        <p:blipFill>
          <a:blip r:embed="rId1"/>
          <a:stretch/>
        </p:blipFill>
        <p:spPr>
          <a:xfrm>
            <a:off x="6019920" y="4724280"/>
            <a:ext cx="2820960" cy="186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urađeno u 2012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1676520"/>
            <a:ext cx="8229600" cy="64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adnja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d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 Zavodu za izradu novčanica i kovanog novca - Topčide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tpisivanje Protokola o saradnji za 2012/2013 školsku godi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splatne radionice za građane pod nazivom “Upravljanje ličnim finansija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8 radionica za korisnike usluga Kancelarije za mlade, 2 radionice u okviru “Inkluzivne akademij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zrada “E-learning” aplikacije i postavljanje iste na sajt projek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 flipH="1" flipV="1">
            <a:off x="684000" y="1325520"/>
            <a:ext cx="75452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38:35Z</dcterms:created>
  <dc:creator>DC191NP</dc:creator>
  <dc:description/>
  <dc:language>en-US</dc:language>
  <cp:lastModifiedBy>sanja.bunic</cp:lastModifiedBy>
  <dcterms:modified xsi:type="dcterms:W3CDTF">2012-12-14T10:01:36Z</dcterms:modified>
  <cp:revision>448</cp:revision>
  <dc:subject/>
  <dc:title>PowerPoint Presentation</dc:title>
</cp:coreProperties>
</file>