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DCBF-3475-4537-89FE-4ECB46B1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55C8-2768-4854-9963-31924F072B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A435-0DF7-4D48-A3A0-D3F219100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821B-4938-4558-89E2-9A5A55451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5D2E-3A98-4C6B-80DB-BEDEB15FF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F415-CA95-44B2-A8E6-A6894282F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35DD-996E-4FED-9CAB-DEC383EDE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62FE-B912-427A-95D6-C8C4CCE6A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683BF-8C95-4E80-821D-F7F018DBF3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C7F7-EF55-411C-857F-069F6C0BD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76FC-EB8C-4EC8-81C8-9318ED7DF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6558-00AA-40BF-941C-A461F3DED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7D1C-E56C-4FEC-903B-A4D62DD2A1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C409-1AD3-4F00-B930-A71180E0B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F49E-4206-456C-A22B-53751760F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FDBD-02ED-4820-A111-C8501957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1584-B47C-46CE-AC70-97273A935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C4C8-AEA0-48C1-86E3-6A94527EA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B11D-0BC6-47F3-AB10-4D3A2993D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C7E-4BA0-41DA-908C-D649C6FD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24AF-B6E5-4586-B28F-C0F65764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A2FF-2AAC-49D6-A8CB-988DEAD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7B20-81AA-4D12-BC0C-4D14FB96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36E-2373-4B95-8386-66D33556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5C46-FCA4-461D-BB9C-CA849116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ABA-420D-46DD-8744-14B669D2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5782-A333-444D-8F2A-D1AFD97F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B73A-AB43-42FF-BA34-AF4AFEC7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BC9-340B-406E-9FD6-C76508D5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95C-8BB6-4855-9674-B96D5FBA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6A4E-A40C-4A1D-8779-13848FF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13DD-420A-4FB8-B681-BFBC71B31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GCN_serbia.JPG"/>
          <p:cNvPicPr/>
          <p:nvPr/>
        </p:nvPicPr>
        <p:blipFill>
          <a:blip r:embed="rId2"/>
          <a:stretch/>
        </p:blipFill>
        <p:spPr>
          <a:xfrm>
            <a:off x="5562720" y="152280"/>
            <a:ext cx="34052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unglobalcompact.org/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0120" y="236232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o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išnja skupština Globalnog dogovora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Beograd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7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ecembar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0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685440" y="2895480"/>
            <a:ext cx="65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plan za 2013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1905120"/>
            <a:ext cx="8229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685440" y="1371600"/>
            <a:ext cx="7164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533520" y="19051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85800" y="1752480"/>
            <a:ext cx="723888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Zavodu za izradu novčanica i kovanog novca - Topčider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i potpisivanje Protokola o saradnji za 2013/2014. go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ovi ciklus besplatnih radionica za građane pod nazivom “Upravljanje ličnim finansijam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postojećim partneri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alizovanje radionica po manjim gradovima u saradnji sa lokalnim organizacijama i partnerima banaka članica 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904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adna grup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borbu protiv koru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1523880"/>
            <a:ext cx="8229600" cy="51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gencija za borbu protiv korup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anka Intes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entar za demokratiju, Centar za monitoring i evaluaciju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Centar za bezbednosne studije, Deloitte, Ecoprotexi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rnst and Young</a:t>
            </a:r>
            <a:r>
              <a:rPr b="0" lang="sr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;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Hauska partners, Holcim Srbija, Industrijski sindikat Srbije, Jubmes banka, Kancelarija za evropske integracije, Kreativne inovacij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KPMG, Merck Sharp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&amp; Dohme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ercedes Benz Srbija i Crna Gora;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Narodna banka Srbije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cewaterhouse Coopers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vredna komora Srbije, Siemens Srbija, Transparentnost Srbija, Telekom Srbij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druženje Eutopi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 10 Globalnog dogovora UN i kompanijski aspekt borbe protiv korup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 korporacijskog aspekta postoje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tri nivoa borbe protiv korupc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interni, eksterni i zajednička ak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Siem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H="1">
            <a:off x="684000" y="144792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C:\Documents and Settings\sanja.bunic\My Documents\My Pictures\borba-protiv-korupcije.jpg"/>
          <p:cNvPicPr/>
          <p:nvPr/>
        </p:nvPicPr>
        <p:blipFill>
          <a:blip r:embed="rId1"/>
          <a:stretch/>
        </p:blipFill>
        <p:spPr>
          <a:xfrm>
            <a:off x="6095880" y="5181480"/>
            <a:ext cx="2667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533520" y="1560600"/>
            <a:ext cx="8381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klaracija o borbi protiv korupcije je potpisana od strane 1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7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članova Globalnog dogovor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Jubmes banka, prva potpisnica Deklaracije je prva dostavila Izveštaj prema Principu 10. Izveštaj se nalazi  u prvih 100 izveštaja u svet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r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ći evropski sastanak evropskih mreža GD u Beogradu. Priprema skupa u     delu tema: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Izveštaj sa desetog sastanka medjunarodne RG za BPK, Ostvarivanje integriteta u MSP , Deklaracija o borbi protiv korupcije i Izveštavanje prema principu 10 (Jubmes banka)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beležavanje Medjunarodnog dana Borbe portiv korupcij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edstavljena inicijalna saradnja sa ruskom mrežom GD, RG za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ntikorupciju i Inicijativa za uspostavljanje Nagrade za antikorupciju - Verica Bara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9"/>
          <p:cNvSpPr/>
          <p:nvPr/>
        </p:nvSpPr>
        <p:spPr>
          <a:xfrm flipH="1">
            <a:off x="762120" y="1447920"/>
            <a:ext cx="64008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572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plan za 20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3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33520" y="1447920"/>
            <a:ext cx="8305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visanje aktivnog članstva i Deklaracije za borbu protiv korupcije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zveštavanje članica Globalnog dogovora u Srbiji po 10. principu Globalnog dogovora prema novom uputstvu o izveštavanju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ktivno učešće u radu Medjunarodne radne grupe za borbu protiv korupcije UN G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nicijative projekata u cilju korišćenja sredstava i implementacije programa u kontekstu  Kolektivne ak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tvorena saradnja sa predstavnicima državnih organa u vezi sa problemima koji su od značaja u borbi protiv korupcije i etičkom poslovanju privrednih subjeka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cija i implementacija planova integriteta u institucijama i kompanijama u Srbij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9"/>
          <p:cNvSpPr/>
          <p:nvPr/>
        </p:nvSpPr>
        <p:spPr>
          <a:xfrm flipH="1">
            <a:off x="609120" y="1371600"/>
            <a:ext cx="67057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392040" y="6858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28600" y="1219320"/>
            <a:ext cx="8229600" cy="63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: Automobilski klaster Srbije,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alkanski fond za lokalne inicijativ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Božić i sinov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Opština Vrbas, Ecois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nergoprojekt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Holcim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Medicinski klaster Pro Vit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inistarstvo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životne sredine i prostornog planiran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ladi istraživač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Srbij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Narodna banka Srbije, Privredna banka Beograd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Privredna komora Srbij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Represent Communications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Supernatur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Victoria Consulting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UNDP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 i WWF -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World Wildlife Foun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ktivno učešće u dijalogu i osmišljavanju javnih politika i programa u okviru kojih se zajedničkim akcijama, tj. partnerskim projektima uveć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aju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sinergetsk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efekti i pružaju primeri dobre prakse privredi i društv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romovisanje 3 “ekološka” principa 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napređenje praks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kompanija – učesn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Kontinuirana razmena iskust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ca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la Hell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H="1">
            <a:off x="376200" y="11430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86015602.jpg"/>
          <p:cNvPicPr/>
          <p:nvPr/>
        </p:nvPicPr>
        <p:blipFill>
          <a:blip r:embed="rId1"/>
          <a:stretch/>
        </p:blipFill>
        <p:spPr>
          <a:xfrm>
            <a:off x="5905440" y="5181480"/>
            <a:ext cx="3129120" cy="15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6320" y="1522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H="1">
            <a:off x="152280" y="60948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33520" y="1143000"/>
            <a:ext cx="82296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Relizacija zajedničkih projekat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članica RG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i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programima i projekt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 koji su vezani za životnu sredinu (Dan planete zemlje, Dan voda, Earth Hour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,  Dan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ž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ivotne sredine itd.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);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</a:rPr>
              <a:t>Lansiranje jednog projekta koji će biti osmišljen i podržan od članica RG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sa relevantnim zainteresovanim institucijama i organizacijama a koji bi postao tradicionalna aktivnost Radne gru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Iniciranje novih projekata/programa/aktivnosti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Gulim"/>
              </a:rPr>
              <a:t>sa relevantnim zainteresovanim institucijama i organizacijam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5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Edukacija članic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 Globalnog dogovora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kroz organizovanje jednodnevnog izleta</a:t>
            </a:r>
            <a:r>
              <a:rPr b="0" lang="sr-CS" sz="2000" spc="-1" strike="noStrike">
                <a:solidFill>
                  <a:srgbClr val="0035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edukaciju i razvoj DOP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80880" y="1447920"/>
            <a:ext cx="84582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merička privredna kom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HR profesionala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nezavisnih elektronskih med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utomobilski klaster Srbije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lkanski fond za lokalne inicijativ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nka Intes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Beogradska poslovna škola, Beogradski univerzite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Centar za monitoring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evaluacij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elta Holdin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elta Maxi Grup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Ecoist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rste 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uro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EFG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Fakultet tehničkih nauka Novi Sad, Fakultet organizacionih nauk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Forum mladih sa invaliditetom Beograd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Fractal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Holcim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Medicinski klaster Pro Vit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MERCK Srbija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Ministarstvo rada i socijalne politike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Narodna banka Srbije, Pricewaterhouse Coopers, Sekopak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Smart Kolektiv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Societe Generale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bank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Tim za socijalno uključivanje i smanjenje siromaštva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1" lang="sr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vi-VN" sz="2000" spc="-1" strike="noStrike">
                <a:solidFill>
                  <a:srgbClr val="003399"/>
                </a:solidFill>
                <a:latin typeface="Times New Roman"/>
              </a:rPr>
              <a:t>Javno zagovaranje i podrška obrazovnim institucijama za uvođenje DOP-a u formalni sistem obrazovanj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као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 unapređenje društveno odgovornog poslovanj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Beogradska poslovna ško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za edukaciju i razvoj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OP– plan za 2013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Inicijativa za učlanjenje novih članica Radne grupe sa fokusom na obrazovne instituci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Povezivanje sa krovnom studentskom organizacijom-Studentska konferencija univerziteta Srbij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Edukacija i podizanje nivoa svesti o društveno odgovornom poslovanju uz saradnju sa univerzitetima i studentskim organizacijam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Calibri"/>
              </a:rPr>
              <a:t>Organizacija istraživanja radi utvrdjivanja trenutnog stanja po pitanju zastupeljnosti DOP u nastavnim i naučnim programima i medju studentskom populacijom</a:t>
            </a:r>
            <a:r>
              <a:rPr b="0" lang="en-US" sz="2000" spc="-1" strike="noStrike">
                <a:solidFill>
                  <a:srgbClr val="00359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C:\Documents and Settings\sanja.bunic\My Documents\My Pictures\education.jpg"/>
          <p:cNvPicPr/>
          <p:nvPr/>
        </p:nvPicPr>
        <p:blipFill>
          <a:blip r:embed="rId1"/>
          <a:stretch/>
        </p:blipFill>
        <p:spPr>
          <a:xfrm>
            <a:off x="6248520" y="5257800"/>
            <a:ext cx="2286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33520" y="1905120"/>
            <a:ext cx="8229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92, E-kapija,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  <a:ea typeface="Times New Roman"/>
              </a:rPr>
              <a:t>MTV, Represent Communications, Privredna banka Beogr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Medijsko istraživanje i izveštavanje o odabranim tem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present Communications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9"/>
          <p:cNvSpPr/>
          <p:nvPr/>
        </p:nvSpPr>
        <p:spPr>
          <a:xfrm flipH="1">
            <a:off x="684360" y="1371600"/>
            <a:ext cx="201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85AE-9D62-43BF-B644-1FFD966D5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785520" y="91440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533520" y="1600200"/>
            <a:ext cx="59436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BCIF, Centar za monitoring i evaluaciju, Credit Agricole banka, Državna lutrija Srbije, Erste banka, Jubmes banka, Medicinski klaster Pro Vita, Narodna banka Srbije, Privredna komora Beograda, Societe General Srbija banka, Supernatural, Telekom Srbija, 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drška područjima koja su ugrožena prirodnim nepogod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U sredu 29. februara 2012. godine sa početkom u 13h u prostorijama Privredne komore Srbije održan je šesti po redu sastanak Radne grupe za podršku u vanrednim situacijama.   Članice..."/>
          <p:cNvPicPr/>
          <p:nvPr/>
        </p:nvPicPr>
        <p:blipFill>
          <a:blip r:embed="rId1"/>
          <a:stretch/>
        </p:blipFill>
        <p:spPr>
          <a:xfrm>
            <a:off x="6705720" y="2209680"/>
            <a:ext cx="16761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1371600"/>
            <a:ext cx="86104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Radne grupe</a:t>
            </a: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borbu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KDO u bankarstvu i finans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edukaciju i razvoj DOP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votnu sredi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med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radna pra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Trenut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84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lani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je zapošljavaju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72.330 zaposlen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0 kompan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(od toga 20 MS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26 nevladinih organ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8 poslov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udr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akademskih institu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2 g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sindik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746-2797-4682-82C0-102FBFEFE0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788760" y="9144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uradjeno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"/>
          <p:cNvSpPr/>
          <p:nvPr/>
        </p:nvSpPr>
        <p:spPr>
          <a:xfrm>
            <a:off x="609480" y="1774080"/>
            <a:ext cx="769644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rikupljeno je preko 500 knjiga od strane 10 članica za Narodnu biblioteku u Bor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žan jedan sastanak RG u 2012. godin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žano nekoliko bilateralnih sastanaka vezanih za realizaciju Godišnje akcije prikupljanja knjiga i uspostavljanja saradnje sa institucijama i organizacijama nadležnim za vanredne situaci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ena saradnja sa Crvenim Krstom Srbi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ena komunikacija sa Upravom za vanredne situacije RS i grada Beograd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81DF-CB14-4FF7-B0FD-1B0273AE32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761760" y="914400"/>
            <a:ext cx="74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Tim za podršku u vanrednim situacijama- plan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"/>
          <p:cNvSpPr/>
          <p:nvPr/>
        </p:nvSpPr>
        <p:spPr>
          <a:xfrm>
            <a:off x="762120" y="1445760"/>
            <a:ext cx="78483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Iniciranje i razvoj strateškog plana Ti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Aktivna podrška ugroženim područjima u slučaju vanrednih situacij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Nastavak komunikacije i uspostavljanje stalne saradnje sa relevantnim institucijam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Realizacija Godišnje akcije prikupljanja knjig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Iniciranje dve nove godišnje akcije u saradnji sa RG za životnu sredinu i RG za socijalno uključivanj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Edukacija članova/team building o reagovanju u vanrednim situacijama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003599"/>
                </a:solidFill>
                <a:latin typeface="Times New Roman"/>
              </a:rPr>
              <a:t>Proširenje Ti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FAF4-5E1F-4ECD-943B-308E4646F8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24400" y="83808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izveštaj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609480" y="1692720"/>
            <a:ext cx="8077320" cy="35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Asocijacija HR profesionalaca, Erste banka, Eco Protexi, Fondacija Centar za demokratiju, , Industrijski sindikat Srbije, Medjunarodna organizacija rada, Privredna komora Beograda, Samostalni sindikat trgovine Metro Cash and Carry, Samostalni sindikat Idea, Udruženje Eutopija, UN Women, Ujedinjeni sindikati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etiri principa Globalnog dogovora posvećena radnim pravi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U sredu 14. marta 2012. sa početkom u 10.00h u prostorijama Privredne komore Srbije  održan je treći sastanak Radne grupe za radna prava. Gost Radne grupe je bila  g-dja Christina..."/>
          <p:cNvPicPr/>
          <p:nvPr/>
        </p:nvPicPr>
        <p:blipFill>
          <a:blip r:embed="rId1"/>
          <a:stretch/>
        </p:blipFill>
        <p:spPr>
          <a:xfrm>
            <a:off x="6324480" y="4648320"/>
            <a:ext cx="17528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66ED-FADF-4D40-B60F-9C2637A510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824400" y="83808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izveštaj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609480" y="1679400"/>
            <a:ext cx="80773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Učešće u radu konferencije o Principima osnaživanja ž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Razmatranje Konvencije MOR br. 171 o Noćnom radu i njenog prevođenja u radno zakonodavstvo Srbije sa g-đom Kristinom Miheš, Višim specijalistom MOR za socijalni dijalog i radne odno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Razmatranje aktuelne situacije i novih propisa u oblasti bezbednosti i zaštite zdravlja na radu sa g-đom Verom Božić-Trefalt, direktorkom Uprave za bezbednost i zdravlje na rad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Učešće u radu konferencije o zapošljavanju mladih, povodom završetka programa UN o zapošljavanju mladih i migrac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Učešće u radu okruglog stola o dostojanstvenom radu Fondacije Centar za demokrati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3F2ED-8093-4BA1-A6F2-6DD6DE6C66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788760" y="83808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radna prava – plan rada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"/>
          <p:cNvSpPr/>
          <p:nvPr/>
        </p:nvSpPr>
        <p:spPr>
          <a:xfrm>
            <a:off x="609480" y="1920960"/>
            <a:ext cx="80773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edlog Upravnom odboru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a Godišnja konferencija Globalnog dogovora u Srbiji u 2013. bude na temu radnog prav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va sastanka u prvoj polovini 2013. sa temama: Cena nepoštovanja zakona o radu iz ugla poslodavaca i Sindikalno udruživanje u privatnom sektoru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Dva sastanka u drugoj polovini  2013. godine na kojima će biti razmatran sistem  mirnog rešavanja radnih sporova, odnosno ratifikacija i primena Konvencije MOR br. 151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o radnim odnosima u javnoj službi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Text Box 4"/>
          <p:cNvGrpSpPr/>
          <p:nvPr/>
        </p:nvGrpSpPr>
        <p:grpSpPr>
          <a:xfrm>
            <a:off x="573120" y="987480"/>
            <a:ext cx="8242200" cy="6967440"/>
            <a:chOff x="573120" y="987480"/>
            <a:chExt cx="8242200" cy="6967440"/>
          </a:xfrm>
        </p:grpSpPr>
        <p:pic>
          <p:nvPicPr>
            <p:cNvPr id="157" name="Text Box 4" descr=""/>
            <p:cNvPicPr/>
            <p:nvPr/>
          </p:nvPicPr>
          <p:blipFill>
            <a:blip r:embed="rId1"/>
            <a:stretch/>
          </p:blipFill>
          <p:spPr>
            <a:xfrm>
              <a:off x="573120" y="987480"/>
              <a:ext cx="8242200" cy="69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77800" y="990720"/>
              <a:ext cx="8229600" cy="68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4000" spc="-1" strike="noStrike">
                  <a:solidFill>
                    <a:srgbClr val="003399"/>
                  </a:solidFill>
                  <a:latin typeface="Times New Roman"/>
                </a:rPr>
                <a:t>HVALA NA PAŽNJI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www.unglobalcompact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2"/>
                </a:rPr>
                <a:t>www.unglobalcompact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 - m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i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 u="sng">
                  <a:solidFill>
                    <a:srgbClr val="0000ff"/>
                  </a:solidFill>
                  <a:uFillTx/>
                  <a:latin typeface="Times New Roman"/>
                  <a:hlinkClick r:id="rId3"/>
                </a:rPr>
                <a:t>globalni.dogovor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a.toma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s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ja.bunic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ur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đeno u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1523880"/>
            <a:ext cx="8610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d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ano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sastanak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pravnog odbora GD-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kao i velik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bro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stanaka pojedinih članova UO sa zainteresovanim stran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odišnja konferencija Globalnog dogovora u Srbiji organizaciji sa UN Women – 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„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incipi osnaživanja žena“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599"/>
                </a:solidFill>
                <a:latin typeface="Times New Roman"/>
              </a:rPr>
              <a:t>Organizacija Trećeg godišnjeg sastanka evropskih mreža Globalnog dogovora, Beograd 18-19. oktobra 2012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tpisivanje Protokola o saradnji s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Zajedni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konomskih, pravno-birotehničkih, trgovinskih i ugostiteljsko-turističkih škola Republike Srb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Godišnje skupštine Globalnog dogovora  u Srbiji (17. decembar 2012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Evropske mreže Globalnog dogovora su 2010. godine potpisale Deklaraciju o namerama (Declaration of Intent – DOI) u Briselu sa zajedničkim ciljem da se poboljša komunikacija i saradnja izmedju mreža i..."/>
          <p:cNvPicPr/>
          <p:nvPr/>
        </p:nvPicPr>
        <p:blipFill>
          <a:blip r:embed="rId1"/>
          <a:stretch/>
        </p:blipFill>
        <p:spPr>
          <a:xfrm>
            <a:off x="7162920" y="685800"/>
            <a:ext cx="16286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plan za 20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04920" y="1523880"/>
            <a:ext cx="8610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mociji deset principa Globalnog dogovo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oširenju članstva (naročito iz sektora MS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odršci aktivnijem učešću pojedinačnih čla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Organizovanju tematskih seminara i radionic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užanju podrške radu postojećih radnih grup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35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  </a:t>
            </a:r>
            <a:r>
              <a:rPr b="0" lang="sr-Latn-CS" sz="2000" spc="-1" strike="noStrike">
                <a:solidFill>
                  <a:srgbClr val="003599"/>
                </a:solidFill>
                <a:latin typeface="Times New Roman"/>
              </a:rPr>
              <a:t>Pružanju podrške članicama u izradi Izveštaja o napretk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8380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lno uklju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č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9"/>
          <p:cNvSpPr/>
          <p:nvPr/>
        </p:nvSpPr>
        <p:spPr>
          <a:xfrm flipH="1">
            <a:off x="609480" y="1295280"/>
            <a:ext cx="60199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33520" y="1523880"/>
            <a:ext cx="822960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jativ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ogradska poslovna škol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razvoj inkluzivnog društv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Credit  Agricole bank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ečije src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haize Grou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ruštvo za razvoj dece i mladih –Niš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ržavna lutrij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urobanka EF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um mladih sa invaliditetom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Industrijski sindikat Srbij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BC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Ministarstvo rada i socijaklne politik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rodna bank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iraeus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rivredna banka Beograd, </a:t>
            </a:r>
            <a:r>
              <a:rPr b="0" lang="sr-Latn-C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Pro Vite klaster, </a:t>
            </a:r>
            <a:r>
              <a:rPr b="0" lang="sr-Latn-C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present Communications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ills Training Center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slepih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distrofiča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, Savez slepih i slabovidih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Telekom Srbija, Telenor, Udruženje poslovnih žena Srbije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UN Women, UNICEF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P mobil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fikasnija socijalna zaštita socijalno ranjivih  grupa, unapređenje položaja, ukidanje d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riminacije u pogledu zapošljavanj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rupom je predsedava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d oktobra 2010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o novembra 2012. , a od decembra 2012. RG predsedava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Line 2"/>
          <p:cNvSpPr/>
          <p:nvPr/>
        </p:nvSpPr>
        <p:spPr>
          <a:xfrm>
            <a:off x="304920" y="137160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90400" y="83808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– urađeno u 20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04920" y="1447920"/>
            <a:ext cx="883908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su se priključile akciji pomoći  starim i drugim građanima ugroženim niskim temperaturama i uputile urgentnu finansijsku pomoć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su aktivno učestvovale i dale svoj doprinos konferenciji Principi osnaživanja žena, kao i konferenciji Principi poslovanja i dečija prav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tvarene saradnje, podržani projekti kroz RG za 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Od početka godine RG je održala četiri sastan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685800" y="1295280"/>
            <a:ext cx="64022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UNICEF 0706 2012_015.JPG"/>
          <p:cNvPicPr/>
          <p:nvPr/>
        </p:nvPicPr>
        <p:blipFill>
          <a:blip r:embed="rId1"/>
          <a:stretch/>
        </p:blipFill>
        <p:spPr>
          <a:xfrm>
            <a:off x="6095880" y="4952880"/>
            <a:ext cx="2514600" cy="1657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" descr="C:\Documents and Settings\sanja.bunic\My Documents\GLOB. dogovor\Slike\principi osnazivanja zena0583 (Copy).JPG"/>
          <p:cNvPicPr/>
          <p:nvPr/>
        </p:nvPicPr>
        <p:blipFill>
          <a:blip r:embed="rId2"/>
          <a:stretch/>
        </p:blipFill>
        <p:spPr>
          <a:xfrm>
            <a:off x="228600" y="4648320"/>
            <a:ext cx="2776680" cy="1895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sanja.bunic\My Documents\GLOB. dogovor\Slike\principi osnazivanja zena0523s.JPG"/>
          <p:cNvPicPr/>
          <p:nvPr/>
        </p:nvPicPr>
        <p:blipFill>
          <a:blip r:embed="rId3"/>
          <a:stretch/>
        </p:blipFill>
        <p:spPr>
          <a:xfrm>
            <a:off x="3048120" y="4724280"/>
            <a:ext cx="2868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90400" y="914400"/>
            <a:ext cx="715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G za socijaln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o uklju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čivanje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plan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ada </a:t>
            </a:r>
            <a:r>
              <a:rPr b="1" lang="en-US" sz="2300" spc="-1" strike="noStrike">
                <a:solidFill>
                  <a:srgbClr val="003399"/>
                </a:solidFill>
                <a:latin typeface="Times New Roman"/>
              </a:rPr>
              <a:t>za 2013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33520" y="1905120"/>
            <a:ext cx="82296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ganizovanje volonterske akcije sa nekom od NVO u okviru R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undraising dogadjaj u partnerstvu sa Hajatom namenjen ustanovi za brigu o star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Volonterska akcija pom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ći deci sa invaliditet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stavak pomoći starim i iznemoglim lic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astaviti rad na promocij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inci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n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vanj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na 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a poslovanja i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jih pr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3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 flipH="1" flipV="1">
            <a:off x="685800" y="1371600"/>
            <a:ext cx="693432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914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za KDO u bankarstvu i finans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57200" y="1484280"/>
            <a:ext cx="82296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kademija za bankarstvo i finansije, Ban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ntes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di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gricole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urobank EFG, Erste Bank, Hypo-Alp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dri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Jubmes banka, KBC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mercijalna banka, KPMG, Narodna banka Srbij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Piraeus Bank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ivredna banka Beograd i Societe Genera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Finansijska edukacij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jednička saradnja po pitanju uvođenja novih </a:t>
            </a:r>
            <a:r>
              <a:rPr b="0" lang="sr-Latn-C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novativnih proizvo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rganizovanje serije predavanja na temu KDO u bankarstvu i finansija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drž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vanje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odabra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roje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t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i akcij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šće u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realiz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cij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ojedinih akcij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koje su organizovane od strane 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stalih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adnih grup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nje na iskustvima drugi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arodna banka Srb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 flipH="1" flipV="1">
            <a:off x="684000" y="1371600"/>
            <a:ext cx="66308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71080422.jpg"/>
          <p:cNvPicPr/>
          <p:nvPr/>
        </p:nvPicPr>
        <p:blipFill>
          <a:blip r:embed="rId1"/>
          <a:stretch/>
        </p:blipFill>
        <p:spPr>
          <a:xfrm>
            <a:off x="6019920" y="4724280"/>
            <a:ext cx="2820960" cy="186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urađeno u 2012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80880" y="1676520"/>
            <a:ext cx="8229600" cy="64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adnja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d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Zavodu za izradu novčanica i kovanog novca - Topčider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tpisivanje Protokola o saradnji za 2012/2013 školsku godin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splatne radionice za građane pod nazivom “Upravljanje ličnim finansij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8 radionica za korisnike usluga Kancelarije za mlade, 2 radionice u okviru “Inkluzivne akademije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“E-learning” aplikacije i postavljanje iste na sajt projek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"/>
          <p:cNvSpPr/>
          <p:nvPr/>
        </p:nvSpPr>
        <p:spPr>
          <a:xfrm flipH="1" flipV="1">
            <a:off x="684000" y="1325520"/>
            <a:ext cx="75452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8:35Z</dcterms:created>
  <dc:creator>DC191NP</dc:creator>
  <dc:description/>
  <dc:language>en-US</dc:language>
  <cp:lastModifiedBy>sanja.bunic</cp:lastModifiedBy>
  <dcterms:modified xsi:type="dcterms:W3CDTF">2012-12-14T10:01:36Z</dcterms:modified>
  <cp:revision>448</cp:revision>
  <dc:subject/>
  <dc:title>PowerPoint Presentation</dc:title>
</cp:coreProperties>
</file>