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6AA2-A3FB-41D8-A043-1D967708A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7D96-5C43-4830-AE7D-522F5CEF8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ungc.rs/" TargetMode="External"/><Relationship Id="rId2" Type="http://schemas.openxmlformats.org/officeDocument/2006/relationships/hyperlink" Target="http://www.unglobalcompact.org/" TargetMode="External"/><Relationship Id="rId3" Type="http://schemas.openxmlformats.org/officeDocument/2006/relationships/hyperlink" Target="mailto:globalni.dogovor@pks.rs" TargetMode="External"/><Relationship Id="rId4" Type="http://schemas.openxmlformats.org/officeDocument/2006/relationships/hyperlink" Target="mailto:globalni.dogovor@pks.rs" TargetMode="External"/><Relationship Id="rId5" Type="http://schemas.openxmlformats.org/officeDocument/2006/relationships/hyperlink" Target="mailto:globalni.dogovor@pks.rs" TargetMode="External"/><Relationship Id="rId6" Type="http://schemas.openxmlformats.org/officeDocument/2006/relationships/hyperlink" Target="mailto:globalni.dogovor@pks.rs" TargetMode="External"/><Relationship Id="rId7" Type="http://schemas.openxmlformats.org/officeDocument/2006/relationships/hyperlink" Target="mailto:sanja.bunic@pks.rs" TargetMode="External"/><Relationship Id="rId8" Type="http://schemas.openxmlformats.org/officeDocument/2006/relationships/hyperlink" Target="mailto:sanja.bunic@pks.rs" TargetMode="External"/><Relationship Id="rId9" Type="http://schemas.openxmlformats.org/officeDocument/2006/relationships/hyperlink" Target="mailto:sanja.bunic@pks.rs" TargetMode="External"/><Relationship Id="rId10" Type="http://schemas.openxmlformats.org/officeDocument/2006/relationships/image" Target="../media/image1.jpe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-838080" y="0"/>
            <a:ext cx="9982080" cy="533412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831960" y="594360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1351080" y="6000840"/>
            <a:ext cx="7412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685800" y="10666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7"/>
          <p:cNvSpPr/>
          <p:nvPr/>
        </p:nvSpPr>
        <p:spPr>
          <a:xfrm>
            <a:off x="0" y="6858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Годишња скупти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Глобалног договора у Србиј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8"/>
          <p:cNvSpPr/>
          <p:nvPr/>
        </p:nvSpPr>
        <p:spPr>
          <a:xfrm>
            <a:off x="0" y="5257800"/>
            <a:ext cx="2286000" cy="15228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9"/>
          <p:cNvSpPr/>
          <p:nvPr/>
        </p:nvSpPr>
        <p:spPr>
          <a:xfrm>
            <a:off x="2286000" y="5257800"/>
            <a:ext cx="2286000" cy="15228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0"/>
          <p:cNvSpPr/>
          <p:nvPr/>
        </p:nvSpPr>
        <p:spPr>
          <a:xfrm>
            <a:off x="4572000" y="5257800"/>
            <a:ext cx="2286000" cy="15228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6858000" y="5257800"/>
            <a:ext cx="2286000" cy="15228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0" y="4267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alibri"/>
              </a:rPr>
              <a:t>Привредна комора Србије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0" lang="sr-CS" sz="2000" spc="-1" strike="noStrike">
                <a:solidFill>
                  <a:srgbClr val="ffffff"/>
                </a:solidFill>
                <a:latin typeface="Calibri"/>
              </a:rPr>
              <a:t>. децембар 201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514600" cy="1185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" descr="LN_SRB_LOGO_wide"/>
          <p:cNvPicPr/>
          <p:nvPr/>
        </p:nvPicPr>
        <p:blipFill>
          <a:blip r:embed="rId2"/>
          <a:stretch/>
        </p:blipFill>
        <p:spPr>
          <a:xfrm>
            <a:off x="4343400" y="5562720"/>
            <a:ext cx="594036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 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КДО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банкарству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финансијам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план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201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75960" y="1142640"/>
            <a:ext cx="8915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Наставак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арад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школа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кој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остој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образовн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офил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“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анкарск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лужбеник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”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2" marL="804960" indent="-347760" algn="just">
              <a:lnSpc>
                <a:spcPct val="100000"/>
              </a:lnSpc>
              <a:spcBef>
                <a:spcPts val="451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Једнонедељ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/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двонедељ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ак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 ученике трећег/четвртог разреда профила “</a:t>
            </a:r>
            <a:r>
              <a:rPr b="0" i="1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анкарски службеник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” 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филијалама банак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2" marL="804960" indent="-347760" algn="just">
              <a:lnSpc>
                <a:spcPct val="100000"/>
              </a:lnSpc>
              <a:spcBef>
                <a:spcPts val="451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едавањ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ученик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офесор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о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изабраним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темам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2" marL="804960" indent="-347760" algn="just">
              <a:lnSpc>
                <a:spcPct val="100000"/>
              </a:lnSpc>
              <a:spcBef>
                <a:spcPts val="451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осет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Центр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осетиоц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Народн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анк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рбиј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2" marL="804960" indent="-347760" algn="just">
              <a:lnSpc>
                <a:spcPct val="100000"/>
              </a:lnSpc>
              <a:spcBef>
                <a:spcPts val="451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исуств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едставни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ана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матурск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испиту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68c0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18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 за борбу против коруп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5960" y="1143000"/>
            <a:ext cx="8839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Чланиц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Агенц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орб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отив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корупц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Америч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ивред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комор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Инте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Цента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демократију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Цента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мониторин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евалуацију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Центар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езбеднос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туд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Делоитт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Екопротекс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Ернст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анд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Јан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Град Врбас, Хауш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артнерс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Холц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рб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Индустријск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индика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рб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Јубмес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Канцелар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европск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интеграц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Креатив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иновац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КПМ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Мерцк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Шарп анд Дом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Мерцедес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енц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рб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; </a:t>
            </a:r>
            <a:r>
              <a:rPr b="0" lang="sr-C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Независни синдикат металаца железаре Смедерево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; </a:t>
            </a:r>
            <a:r>
              <a:rPr b="0" lang="sr-C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Олоф Палме Интернационал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Price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at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rhous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C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оо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p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rs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ивред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комор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рбиј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иеменс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рбиј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Транспарентност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рбиј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Телеком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рбиј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Удруже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Еутоп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УНДП, </a:t>
            </a:r>
            <a:r>
              <a:rPr b="0" lang="sr-C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Викторија Гроуп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Фокус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: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нцип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10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лобалн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оговор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панијск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спек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орб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тив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рупције; 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рпорацијск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спект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сто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три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ниво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борбе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против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корупц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терн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кстерн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једнич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циј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дседав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: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Сименс Србиј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22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 за борбу против корупције – урађено у 201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52280" y="11430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ржа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еда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станак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еколик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стана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једин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ица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оговор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к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аљ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тивности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ржа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в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кругл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ол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„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Борб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против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корупције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–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како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ми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то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радим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“ (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а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птембр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2014.)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з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чешћ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к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50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и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стал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интересован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ра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ем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терн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ат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пан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ма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пречил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јав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рупциј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ржа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ренин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радњ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еђународн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центр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лоф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алм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„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Механизми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спречавање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корупције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сукоб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интере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“ (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ецембр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2014.)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з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чешћ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15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и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уг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интересован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ра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давач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МС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адемиј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26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борбу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корупције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план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20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2280" y="11426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омовисањ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активног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чланств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Глобалном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договор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наставак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активн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кампањ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отписивањ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Декларациј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борб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отив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корупциј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звештавањ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чланиц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Глобалног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договор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Србији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о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10.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инцип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Глобалног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договор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ем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новом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путств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о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звештавањ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као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механизм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мплементациј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Декларациј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о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борби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отив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корупциј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Активно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чешћ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рад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Међународн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радн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груп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борб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отив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корупциј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Н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ГД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ницијатив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ојекат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циљ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коришћењ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средстав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мплементациј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ограм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контекст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Колективн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акциј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Отворен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сарадњ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едставницим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државних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орган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вези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облемим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који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с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од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значај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борби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отив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корупциј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етичком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ословањ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ивредних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субјекат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омоциј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мплементациј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ланов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нтегритет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нституцијам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компанијам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 Србији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30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груп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штиту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животне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сред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Чланице: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ожић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инов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Цента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ониторин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валуаци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ка Кола Хеленик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елт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холдин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рст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акултет за технологију и металургију, Фрактал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инистарство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љопривреде и заштите животне средине, Млад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страживач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вред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ор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епресен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јуникејшнс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елено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а, Викторија Консалтин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Викторија Гроуп, ВИП Мобајл и 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WW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–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ветски фонд за заштиту природ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Фокус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: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тивн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чешћ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ијалог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смишљавањ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авн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лити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гра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квир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ј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једничк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ција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ј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.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артнерск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јект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већавају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инергетск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фект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ужа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мер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обр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акс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вред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уштв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;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 Промовис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3 “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колош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”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нцип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Д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;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напређе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акс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пан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–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чесни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;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 Континуира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зме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скуств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дседав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Кока Кола Хеленик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2"/>
          <a:stretch/>
        </p:blipFill>
        <p:spPr>
          <a:xfrm>
            <a:off x="3116160" y="5775480"/>
            <a:ext cx="847800" cy="10062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4" descr="LN_SRB_LOGO_wide"/>
          <p:cNvPicPr/>
          <p:nvPr/>
        </p:nvPicPr>
        <p:blipFill>
          <a:blip r:embed="rId3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 за животну средине– урађено у 201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52280" y="114300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евидирал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тив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иц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(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тивн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15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и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дставље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јека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р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o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а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тенцијалн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јека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еализаци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(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јека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ије усвојен од стране Р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дставље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ов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јека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ј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смишље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ра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и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(WWF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ка Кола Хеленик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)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ј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својил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стал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иц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ич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провођењ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ликовн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нкур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еђ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сновн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школа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дукац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снова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нача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штит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живот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един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реира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ов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чи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уникац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еђ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ицам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38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"/>
          <p:cNvPicPr/>
          <p:nvPr/>
        </p:nvPicPr>
        <p:blipFill>
          <a:blip r:embed="rId2"/>
          <a:stretch/>
        </p:blipFill>
        <p:spPr>
          <a:xfrm>
            <a:off x="3116160" y="5775480"/>
            <a:ext cx="847800" cy="10062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4" descr="LN_SRB_LOGO_wide"/>
          <p:cNvPicPr/>
          <p:nvPr/>
        </p:nvPicPr>
        <p:blipFill>
          <a:blip r:embed="rId3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 за животну средину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– план за 20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0880" y="12193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43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"/>
          <p:cNvPicPr/>
          <p:nvPr/>
        </p:nvPicPr>
        <p:blipFill>
          <a:blip r:embed="rId2"/>
          <a:stretch/>
        </p:blipFill>
        <p:spPr>
          <a:xfrm>
            <a:off x="3116160" y="5775480"/>
            <a:ext cx="847800" cy="1006200"/>
          </a:xfrm>
          <a:prstGeom prst="rect">
            <a:avLst/>
          </a:prstGeom>
          <a:ln w="0">
            <a:noFill/>
          </a:ln>
        </p:spPr>
      </p:pic>
      <p:sp>
        <p:nvSpPr>
          <p:cNvPr id="345" name="Content Placeholder 2"/>
          <p:cNvSpPr/>
          <p:nvPr/>
        </p:nvSpPr>
        <p:spPr>
          <a:xfrm>
            <a:off x="228600" y="1295280"/>
            <a:ext cx="8915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e378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Лансирањ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конкурс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з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млад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с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циљем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осмишљавањ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наставног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учил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з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изборни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предмет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Чувари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природ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(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први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разред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основн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школ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e378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Реализациј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наставн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јединиц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осмишљен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од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стран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победник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кон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e378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Организациј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ликовног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конкурс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з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30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основних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школ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у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Беог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e378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Организациј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окуруглог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стол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и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објављивањ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публикациј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4" descr="LN_SRB_LOGO_wide"/>
          <p:cNvPicPr/>
          <p:nvPr/>
        </p:nvPicPr>
        <p:blipFill>
          <a:blip r:embed="rId3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 за едукацију и развој Д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519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Чланиц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мерич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вред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ор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социјациј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Х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фесионала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социјациј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езависн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лектронск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ед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утомобилск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ластер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те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еоградс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слов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школ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еоградск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ниверзите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арлсбер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ка Кола Хеленик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Цента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ониторин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валуаци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елт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Холдин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коис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рст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уро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Ф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акулте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ехничк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у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ов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д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акулте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ацион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у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орум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лад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валидитетом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еоград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рактал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Холц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еђународ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ациј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СД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род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ff0000"/>
                </a:solidFill>
                <a:latin typeface="Calibri"/>
              </a:rPr>
              <a:t>Олоф Палме међународни центар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ff0000"/>
                </a:solidFill>
                <a:latin typeface="Calibri"/>
              </a:rPr>
              <a:t>Прима медиа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PWC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копак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март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лектив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осијете Генерал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удентска организација Параћин, Суботичка тржница АД, Траг Фондација, Телено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а, УНДП, </a:t>
            </a:r>
            <a:r>
              <a:rPr b="0" lang="sr-CS" sz="1800" spc="-1" strike="noStrike">
                <a:solidFill>
                  <a:srgbClr val="ff0000"/>
                </a:solidFill>
                <a:latin typeface="Calibri"/>
              </a:rPr>
              <a:t>Викторија Гроуп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Фокус: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авно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говарање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дршка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бразовним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ституцијама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вођење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ОП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-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ормални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истем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бразовања као 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напређе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уштвен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говорн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словањ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дседав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: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Београдск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пословн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школ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50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 за едукацију и развој ДОП – урађено у 201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52280" y="1142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ов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минар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радњ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дружење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уденат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хендикеп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ем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„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уштвен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атус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соб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хендикеп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“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араћин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медереву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радњ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им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ванред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итуац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тивн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ил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нациј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плављен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друч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а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2014.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слал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б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хуманитар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моћ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Штаб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ванред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итуац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пштин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араћин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ржано 10 састанака, а РГ је активно радила на упознавањ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тенцијалн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и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10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нцип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лобалн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оговор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бјашњавал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начај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рист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члањењ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53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C:\Documents and Settings\sanja.bunic\My Documents\ANA\GLOBALNI DOGOVOR\Radna grupa za edukaciju i razvoj DOP\Slike\28 02 2014\untitledsmall.JPG"/>
          <p:cNvPicPr/>
          <p:nvPr/>
        </p:nvPicPr>
        <p:blipFill>
          <a:blip r:embed="rId2"/>
          <a:stretch/>
        </p:blipFill>
        <p:spPr>
          <a:xfrm>
            <a:off x="2819520" y="3716280"/>
            <a:ext cx="3200400" cy="19717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4" descr="LN_SRB_LOGO_wide"/>
          <p:cNvPicPr/>
          <p:nvPr/>
        </p:nvPicPr>
        <p:blipFill>
          <a:blip r:embed="rId3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 за едукацију и развој ДОП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план у 20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51920" y="11430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ицијатив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диз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вест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зво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уштвен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говорн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словањ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члање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ов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и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окус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бразов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ституциј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кључив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удентск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ац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тива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везив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тив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радњ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ациј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Д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ије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окус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нцип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говорн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прављањ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бразовање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(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М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ац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веча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дниц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дукаци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звој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уштвен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говорн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словањ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лобалн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оговор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59" name="Picture 1" descr="GCN_serbia"/>
          <p:cNvPicPr/>
          <p:nvPr/>
        </p:nvPicPr>
        <p:blipFill>
          <a:blip r:embed="rId2"/>
          <a:stretch/>
        </p:blipFill>
        <p:spPr>
          <a:xfrm>
            <a:off x="4343400" y="5775480"/>
            <a:ext cx="419112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Глобални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договор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Србиј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2280" y="114264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Радне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груп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оцијалн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кључивањ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орб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тив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рупциј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Д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рств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инансијам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дукаци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звој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ОП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ж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вотн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едину  (у оквиру РГ - Тим за подршку у ванредним ситуацијама)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Неактивна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едиј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85" name="Content Placeholder 2"/>
          <p:cNvSpPr/>
          <p:nvPr/>
        </p:nvSpPr>
        <p:spPr>
          <a:xfrm>
            <a:off x="4495680" y="1143000"/>
            <a:ext cx="4191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63a4c"/>
                </a:solidFill>
                <a:latin typeface="Calibri"/>
              </a:rPr>
              <a:t>Tренутно 9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063a4c"/>
                </a:solidFill>
                <a:latin typeface="Calibri"/>
              </a:rPr>
              <a:t> чланица које запошљавају око 72.330 запослен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49 компан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27 невладиних орган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8 пословних удруж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4 академских институ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2 г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синдик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Нове чланице у 2014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ма Мед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лоф Палме међународни цен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езависни металски синдикат      железаре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4" descr="LN_SRB_LOGO_wide"/>
          <p:cNvPicPr/>
          <p:nvPr/>
        </p:nvPicPr>
        <p:blipFill>
          <a:blip r:embed="rId2"/>
          <a:stretch/>
        </p:blipFill>
        <p:spPr>
          <a:xfrm>
            <a:off x="4191120" y="5791320"/>
            <a:ext cx="4795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груп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мед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256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Чланиц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92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ап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ТВ Адри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епресен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уникејшнс, Достигнућа младих Србиј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Фокус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: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едијск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стражив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звештав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абран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емам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а група нема председавајућег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62" name="Picture 7" descr="C:\Documents and Settings\sanja.bunic\My Documents\My Pictures\CSR\writing-2.jpg"/>
          <p:cNvPicPr/>
          <p:nvPr/>
        </p:nvPicPr>
        <p:blipFill>
          <a:blip r:embed="rId1"/>
          <a:stretch/>
        </p:blipFill>
        <p:spPr>
          <a:xfrm>
            <a:off x="2933640" y="3048120"/>
            <a:ext cx="3009960" cy="22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3" name="Picture 14" descr="\\192.168.42.212\Javni direktorijum\ZNAK I LOGOTIP PKS\logotip cir-01.jpg"/>
          <p:cNvPicPr/>
          <p:nvPr/>
        </p:nvPicPr>
        <p:blipFill>
          <a:blip r:embed="rId2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4" descr="LN_SRB_LOGO_wide"/>
          <p:cNvPicPr/>
          <p:nvPr/>
        </p:nvPicPr>
        <p:blipFill>
          <a:blip r:embed="rId3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Тим за подршку у ванредним ситуациј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92240" y="11426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Чланиц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 Центар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ониторин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валуаци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редит Агриколе 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жав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лутр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рст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убмес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вред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ор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еоград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осијет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енерал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упернатурал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елек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раг Фондација, УНДП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Фокус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: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дрш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дручј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гроже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родн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епогодам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им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дседав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Центар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мониторинг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евалуацију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68" name="Picture 7" descr=""/>
          <p:cNvPicPr/>
          <p:nvPr/>
        </p:nvPicPr>
        <p:blipFill>
          <a:blip r:embed="rId2"/>
          <a:stretch/>
        </p:blipFill>
        <p:spPr>
          <a:xfrm>
            <a:off x="3121200" y="3475080"/>
            <a:ext cx="2444400" cy="204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9" name="Picture 14" descr="LN_SRB_LOGO_wide"/>
          <p:cNvPicPr/>
          <p:nvPr/>
        </p:nvPicPr>
        <p:blipFill>
          <a:blip r:embed="rId3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226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Calibri"/>
              </a:rPr>
              <a:t>Тим за подршку у ванредним ситуацијама</a:t>
            </a: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– урађено у 2014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52280" y="14475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еализован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к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20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стана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л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ов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рећ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лиц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тивност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везан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наци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следи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плав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десил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емљ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а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2014.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один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радњ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еоградск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словн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школ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ок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а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у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ормира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перативн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штаб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Д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ј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з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моћ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пшти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урчи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радњ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удентск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ациј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араћи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послао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комби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хуманитарне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помоћи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Параћинц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снов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тходн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вид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ерену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им је пружио подршку реализацији догађаја  који је организовао управни одбор  ГД у сарадњи са УНДП: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„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Стварно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одговорни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–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друштвен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одговорност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компаниј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време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након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поплав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“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је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мовиса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начај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чешћ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ватн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ктор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нирањ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следи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плав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72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226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Calibri"/>
              </a:rPr>
              <a:t>Тим за подршку у ванредним ситуацијама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 – план за 2015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52280" y="14475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већ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апацитет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шт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фектни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фикасни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дршк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луча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ванредн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итуациј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тензивир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рад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прав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ванред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итуац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анцелариј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моћ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плављен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дручј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инистарств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локалн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моуправ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жавн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праву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вар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онд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дршк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ванредн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итуацијам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звој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звешта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моћ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пућеној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ра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и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Д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плављен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дручј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.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звештај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ћ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ит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дставље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авност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нференциј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ћ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еализоват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одишњиц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чет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плав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ац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нференц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„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один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а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ко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плав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–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окл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игл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?“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76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80880" y="3276360"/>
            <a:ext cx="8304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 algn="ctr">
              <a:spcBef>
                <a:spcPts val="349"/>
              </a:spcBef>
              <a:spcAft>
                <a:spcPts val="601"/>
              </a:spcAft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63a4c"/>
              </a:solidFill>
              <a:latin typeface="Georgia"/>
            </a:endParaRPr>
          </a:p>
          <a:p>
            <a:pPr marL="396720" indent="-3967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63a4c"/>
                </a:solidFill>
                <a:latin typeface="Georgia"/>
              </a:rPr>
              <a:t>ЗАХВАЉУЈЕМО  СВИМ АКТИВНИМ ЧЛАНИЦАМА МРЕЖЕ ГЛОБАЛНИ ДОГОВОР У СРБИЈИ КОЈЕ СУ ПРУЖИЛЕ ПОДРШКУ У РЕАЛИЗАЦИЈИ ДОГАЂАЈА У </a:t>
            </a:r>
            <a:r>
              <a:rPr b="1" lang="sr-Latn-CS" sz="1600" spc="-1" strike="noStrike">
                <a:solidFill>
                  <a:srgbClr val="063a4c"/>
                </a:solidFill>
                <a:latin typeface="Calibri"/>
              </a:rPr>
              <a:t>2014</a:t>
            </a:r>
            <a:r>
              <a:rPr b="1" lang="sr-CS" sz="1600" spc="-1" strike="noStrike">
                <a:solidFill>
                  <a:srgbClr val="063a4c"/>
                </a:solidFill>
                <a:latin typeface="Calibri"/>
              </a:rPr>
              <a:t>.</a:t>
            </a:r>
            <a:r>
              <a:rPr b="1" lang="sr-Latn-CS" sz="14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1" lang="sr-CS" sz="1400" spc="-1" strike="noStrike">
                <a:solidFill>
                  <a:srgbClr val="063a4c"/>
                </a:solidFill>
                <a:latin typeface="Georgia"/>
              </a:rPr>
              <a:t>ГОДИНИ</a:t>
            </a:r>
            <a:endParaRPr b="0" lang="en-US" sz="14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79" name="Rectangle 1"/>
          <p:cNvSpPr/>
          <p:nvPr/>
        </p:nvSpPr>
        <p:spPr>
          <a:xfrm>
            <a:off x="2362320" y="4981680"/>
            <a:ext cx="4572000" cy="24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www.ungc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www.unglobalcompact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3"/>
              </a:rPr>
              <a:t>globalni.dogovo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4"/>
              </a:rPr>
              <a:t>@</a:t>
            </a:r>
            <a:r>
              <a:rPr b="0" lang="sr-Latn-C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5"/>
              </a:rPr>
              <a:t>pks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6"/>
              </a:rPr>
              <a:t>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7"/>
              </a:rPr>
              <a:t>s</a:t>
            </a:r>
            <a:r>
              <a:rPr b="0" lang="sr-Latn-C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8"/>
              </a:rPr>
              <a:t>anja.buni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9"/>
              </a:rPr>
              <a:t>@pks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4" descr="\\192.168.42.212\Javni direktorijum\ZNAK I LOGOTIP PKS\logotip cir-01.jpg"/>
          <p:cNvPicPr/>
          <p:nvPr/>
        </p:nvPicPr>
        <p:blipFill>
          <a:blip r:embed="rId10"/>
          <a:stretch/>
        </p:blipFill>
        <p:spPr>
          <a:xfrm>
            <a:off x="228600" y="1219320"/>
            <a:ext cx="2909880" cy="13716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LN_SRB_LOGO_wide"/>
          <p:cNvPicPr/>
          <p:nvPr/>
        </p:nvPicPr>
        <p:blipFill>
          <a:blip r:embed="rId11"/>
          <a:stretch/>
        </p:blipFill>
        <p:spPr>
          <a:xfrm>
            <a:off x="4348080" y="14479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Глобални договор у Србији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урађено у 201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5960" y="1142640"/>
            <a:ext cx="8915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ржано 8 састанака Управног одбора Глобалног договор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минар о друштвено одговорном пословању за представнике медија „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Новинари за корпоративну одговорност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“ у сарадњи са Амбасадом Шведске, маја 2014.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нференција „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Стварно одговорни – друштвена одговорност компанија за време и након поплава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“ (организатори – ГД у Србији, УНДП и ПКС), септембра 2014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чешће представника на европском састанку локалних мрежа у Скопљу, новембра 2014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ренинг са темом – “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Механизми за борбу против корупције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” у сарадњи са Олоф Палме Интернационал, децембра 2014.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проведено истраживање мишљења чланица мреже о могућностима за реорганизацију у начину рада и планирању догађаја за наредну годину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тписивање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протокола о сарадњи 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 Заједницом директора економских, правно-биротехничких, трговинских и угоститељско –туристичких школ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289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Глобални договор у Србији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план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 20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1219320"/>
            <a:ext cx="8839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моција десет принципа Глобалног договора, а нарочито из домена заштите животне средине и заштите људских прав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o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шиње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ств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a (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рочито из сектора МСП)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o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шка активнијем учешћу појединачних чланиц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овање тематских семинара и радионица, у циљу размене примера добре праксе и промоције Извештаја о напретку и Извештаја о ангажовању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уж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дршке раду постојећих РГ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ужање подршке чланству у изради Извештаја о напретку и Извештаја о ангажовању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ација годишње конференције “Друштвено одговорно пословање у условима опоравка након природних непогода”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ација тренинга у сарадњи са Међународним центром Олоф Палме  на тему стандарда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ISO 14001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OHSAS 18001 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зматрање о реорганизацији мреже у складу са спроведеним истраживањем из новембра 2014.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294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груп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социјално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укључив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11430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Чланиц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: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меричка привредна комора, Бан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тес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еоградс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слов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школ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Цента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звој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клузивно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уштв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Цента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ониторин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валуацију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Koka Kola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Хелен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k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редит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грикол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елт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Холдин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ечиј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ц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елхаиз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оуп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остигнућа младих Србије, Друштво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звој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ец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лад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–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иш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жав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лутриј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рнст анд Јанг, Ерст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уробан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Ф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ондација Ана и Владе Дивац, Форум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лад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валидитетом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рактал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дустријск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индикат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ПМ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О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инистарство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оцијалн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литик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иреус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Вит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ласте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епрезент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јуникејшнс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килс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раинин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Цента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вез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леп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вез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истрофичар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вез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леп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лабовид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копак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уботичка Тржница АД, Траг Фондација, Телеком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елено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дружењ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словн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же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НДП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UN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W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м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n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НИЦЕФ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ВИП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обил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Фокус</a:t>
            </a:r>
            <a:r>
              <a:rPr b="1" lang="en-US" sz="1800" spc="-1" strike="noStrike">
                <a:solidFill>
                  <a:srgbClr val="063a4c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фикасниј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оцијал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штит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оцијално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њив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а (посебно деце)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напређењ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ложаја 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кидањ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искриминациј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гледу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пошљавањ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ом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ом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дседав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Фондација Ана и Владе Дивац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298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 за социјално укључивање – урађено у 2014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5960" y="1143000"/>
            <a:ext cx="8839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ужена подршка пројектима намењених социјалном укључивању деце – корисника институционалне подршк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роз РГ делимично релазована подршка програмима – Кућа на пола пута и Соба за сусрете (разлог – мајске поплаве) 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ржана два састанка Радне групе, а састанци су били прилика за размену примера из праксе и  отворени су за презентације организација које се баве социјалним укључивањем 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01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Г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социјално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укључивање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плана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201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5960" y="1142640"/>
            <a:ext cx="8915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ставак подршке програмима – Кућа на пола пута и Собе за сусрет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већање броја чланица и мотивација да се више ангажују у раду РГ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ац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тивн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чешћ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риј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дукативн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минар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ем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„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уштвен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ату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соб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хендикеп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змена информација, материјала и позив организацијама које се баве пројектима социјалног укључивања да буду гости радне групе и представе свој рад и активности члановим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05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 за КДО у банкарству и финансиј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960" y="1142640"/>
            <a:ext cx="88390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7760" indent="-34776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Чланиц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те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реди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грикол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остигнућа младих Србије, Дунав осигурање, Ернст анд Јанг, Ерст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уробанк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Ф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ЕФА, Фондација Ана и Владе Дивац, Хип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лп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дри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убмес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ерцијал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ПМ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род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иреус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осијете Генерал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7760" indent="-34776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Фокус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инансијс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дукациј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једнич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радњ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итању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вођењ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ов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овативн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извод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ов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р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давањ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ем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Д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рств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инансијам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државањ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абран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јекат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циј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чешћ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еализациј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једин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ц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;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ј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у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ован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ран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стал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че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скуств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угих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7760" indent="-34776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дседав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 </a:t>
            </a:r>
            <a:r>
              <a:rPr b="1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Народн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Србије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7760" indent="-34776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10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 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КДО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банкарству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финансијам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урађено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201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5960" y="1142640"/>
            <a:ext cx="88390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арадњ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а седам економских школ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кој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остој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образовн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офил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“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анкарск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лужбеник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”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buClr>
                <a:srgbClr val="47b3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 algn="just">
              <a:lnSpc>
                <a:spcPct val="100000"/>
              </a:lnSpc>
              <a:spcBef>
                <a:spcPts val="451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едавањ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ученик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о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темама које школе одаберу у компанијама чланицама Радне груп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 algn="just">
              <a:lnSpc>
                <a:spcPct val="100000"/>
              </a:lnSpc>
              <a:spcBef>
                <a:spcPts val="451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едав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офесор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темама које школе одаберу, а које су држале компаније чланице РГ и представници НБС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 algn="just">
              <a:lnSpc>
                <a:spcPct val="100000"/>
              </a:lnSpc>
              <a:spcBef>
                <a:spcPts val="451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Једнонедељ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/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двонедељ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акса за ученике трећег/четвртог разреда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филијалама банака – чланицама РГ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 algn="just">
              <a:lnSpc>
                <a:spcPct val="100000"/>
              </a:lnSpc>
              <a:spcBef>
                <a:spcPts val="451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осет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Центр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осетиоц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Народн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анк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рбиј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 algn="just">
              <a:lnSpc>
                <a:spcPct val="100000"/>
              </a:lnSpc>
              <a:spcBef>
                <a:spcPts val="451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ипре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отписив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отокол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арадњ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једниц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економск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авн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-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иротехничк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трговинск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угоститељск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туристичк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школ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Републик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рб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2014/2015. школск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годину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13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02:32:09Z</dcterms:created>
  <dc:creator>Sven Biermann</dc:creator>
  <dc:description/>
  <dc:language>en-US</dc:language>
  <cp:lastModifiedBy>sanja.bunic</cp:lastModifiedBy>
  <dcterms:modified xsi:type="dcterms:W3CDTF">2014-12-12T14:07:52Z</dcterms:modified>
  <cp:revision>462</cp:revision>
  <dc:subject/>
  <dc:title>PowerPoint-Präsentation</dc:title>
</cp:coreProperties>
</file>