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8ADE-C693-40CF-B0A8-A89006056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C3B0-82D2-4ADB-B5C8-E9CAE8BD1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Georgia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ungc.rs/" TargetMode="External"/><Relationship Id="rId2" Type="http://schemas.openxmlformats.org/officeDocument/2006/relationships/hyperlink" Target="http://www.unglobalcompact.org/" TargetMode="External"/><Relationship Id="rId3" Type="http://schemas.openxmlformats.org/officeDocument/2006/relationships/hyperlink" Target="mailto:globalni.dogovor@pks.rs" TargetMode="External"/><Relationship Id="rId4" Type="http://schemas.openxmlformats.org/officeDocument/2006/relationships/hyperlink" Target="mailto:globalni.dogovor@pks.rs" TargetMode="External"/><Relationship Id="rId5" Type="http://schemas.openxmlformats.org/officeDocument/2006/relationships/hyperlink" Target="mailto:globalni.dogovor@pks.rs" TargetMode="External"/><Relationship Id="rId6" Type="http://schemas.openxmlformats.org/officeDocument/2006/relationships/hyperlink" Target="mailto:globalni.dogovor@pks.rs" TargetMode="External"/><Relationship Id="rId7" Type="http://schemas.openxmlformats.org/officeDocument/2006/relationships/hyperlink" Target="mailto:sanja.bunic@pks.rs" TargetMode="External"/><Relationship Id="rId8" Type="http://schemas.openxmlformats.org/officeDocument/2006/relationships/hyperlink" Target="mailto:sanja.bunic@pks.rs" TargetMode="External"/><Relationship Id="rId9" Type="http://schemas.openxmlformats.org/officeDocument/2006/relationships/hyperlink" Target="mailto:sanja.bunic@pks.rs" TargetMode="External"/><Relationship Id="rId10" Type="http://schemas.openxmlformats.org/officeDocument/2006/relationships/image" Target="../media/image1.jpe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-838080" y="0"/>
            <a:ext cx="9982080" cy="533412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831960" y="59436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1351080" y="6000840"/>
            <a:ext cx="7412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685800" y="10666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7"/>
          <p:cNvSpPr/>
          <p:nvPr/>
        </p:nvSpPr>
        <p:spPr>
          <a:xfrm>
            <a:off x="0" y="6858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Годишња скупти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Глобалног договора у Србиј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8"/>
          <p:cNvSpPr/>
          <p:nvPr/>
        </p:nvSpPr>
        <p:spPr>
          <a:xfrm>
            <a:off x="0" y="5257800"/>
            <a:ext cx="2286000" cy="15228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2286000" y="5257800"/>
            <a:ext cx="2286000" cy="15228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4572000" y="5257800"/>
            <a:ext cx="2286000" cy="15228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6858000" y="5257800"/>
            <a:ext cx="2286000" cy="15228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Calibri"/>
              </a:rPr>
              <a:t>Привредна комора Србије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sr-CS" sz="20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8</a:t>
            </a:r>
            <a:r>
              <a:rPr b="0" lang="sr-CS" sz="2000" spc="-1" strike="noStrike">
                <a:solidFill>
                  <a:srgbClr val="ffffff"/>
                </a:solidFill>
                <a:latin typeface="Calibri"/>
              </a:rPr>
              <a:t>. децембар 201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514600" cy="11858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4" descr="LN_SRB_LOGO_wide"/>
          <p:cNvPicPr/>
          <p:nvPr/>
        </p:nvPicPr>
        <p:blipFill>
          <a:blip r:embed="rId2"/>
          <a:stretch/>
        </p:blipFill>
        <p:spPr>
          <a:xfrm>
            <a:off x="4343400" y="5562720"/>
            <a:ext cx="594036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КДО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банкарств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финансијам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план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201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75960" y="1142640"/>
            <a:ext cx="8915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Настава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арад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школа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ој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сто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образов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офил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“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арск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лужбени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”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2" marL="804960" indent="-347760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Једнонедељ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/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двонедељ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ак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 ученике трећег/четвртог разреда профила “</a:t>
            </a:r>
            <a:r>
              <a:rPr b="0" i="1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арски службеник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” 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филијалама банак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2" marL="804960" indent="-347760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едав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ченик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офесор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забрани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ем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2" marL="804960" indent="-347760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сет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Центр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сетио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Народн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2" marL="804960" indent="-347760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исуств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едставни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а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матурск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спит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18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борбу против коруп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75960" y="1143000"/>
            <a:ext cx="8839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Агенц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орб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отив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оруп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Америч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ивред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омор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нте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демократиј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монитор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валуациј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Центар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езбеднос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туд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Делоитт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копротекс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рнст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анд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Ја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Град Врбас, Хауш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артнер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Холц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ндустријск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индика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Јубме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анцелар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вропск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нтегр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реатив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нов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ПМ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Мерцк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Шарп анд Дом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Мерцеде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енц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; 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Независни синдикат металаца железаре Смедерево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; 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Олоф Палме Интернационал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Price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at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rhous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C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о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p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rs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ивред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омор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иеменс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ранспарентност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елеко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друже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утоп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НДП, 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  <a:ea typeface="Times New Roman"/>
              </a:rPr>
              <a:t>Викторија Гроуп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нцип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10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лобал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гов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панијск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спек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орб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тив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рупције; 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рпорацијск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спект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то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тр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ниво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борб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ротив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оруп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тер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кстер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једнич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циј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едав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Сименс Србиј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22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борбу против корупције – урађено у 20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52280" y="114300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рж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д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стана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еколик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стана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једи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гов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к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аљ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ости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ржа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круг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о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„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Борб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ротив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орупциј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ако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м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то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радим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“ (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а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птемб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2014.)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з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к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50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тал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интересова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ра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м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тер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ат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пан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ма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пречил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јав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рупц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рж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ренин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ђународ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центр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лоф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алм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„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Механизм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спречавањ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орупциј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сукоб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интере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“ (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цемб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2014.)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з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15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г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интересова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ра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авач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М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адем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26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борб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корупције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план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20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52280" y="1142640"/>
            <a:ext cx="883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мовисањ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активног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чланств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Глобалном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договор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наставак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активн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ампањ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отписивањ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Декларациј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борб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тив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рупц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звештавањ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Глобалног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договор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рбиј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о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10.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инцип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Глобалног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договор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ем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новом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путств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звештавањ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ао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механизм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мплементациј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Декларациј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борб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тив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рупц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Активно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чешћ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рад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Међународн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радн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груп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борб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тив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рупциј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Н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ГД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ницијатив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јекат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циљ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ришћењ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редстав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мплементациј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грам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нтекст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лективн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акц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Отворен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арадњ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едставницим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државних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орган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вез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блемим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ј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од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значај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борб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тив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рупције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етичком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ословањ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ивредних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субјекат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ромоциј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мплементациј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планов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нтегритет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нституцијам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компанијама</a:t>
            </a:r>
            <a:r>
              <a:rPr b="0" lang="sr-Latn-CS" sz="1800" spc="-1" strike="noStrike">
                <a:solidFill>
                  <a:srgbClr val="06384e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84e"/>
                </a:solidFill>
                <a:latin typeface="Calibri"/>
              </a:rPr>
              <a:t>у Србији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30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груп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штит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животне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средин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2280" y="11430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: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ожић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нов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онитор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валу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ка Кола Хелени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лт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олдин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рст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акултет за технологију и металургију, Фрактал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инистарств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љопривреде и заштите животне средине, Млад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страживач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вред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ор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пресен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јуникејшн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лено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, Викторија Консалт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икторија Гроуп, ВИП Мобајл и 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WW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ветски фонд за заштиту природ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ијалог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мишљавањ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ав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лити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гра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квир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једничк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ција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.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артнерск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јект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већавај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нергетск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ект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ужа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мер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бр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акс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вред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;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 Промовис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3 “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колош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”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нцип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;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апређе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акс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пан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с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;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 Континуира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ме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скуств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еда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ока Кола Хеленик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2"/>
          <a:stretch/>
        </p:blipFill>
        <p:spPr>
          <a:xfrm>
            <a:off x="3116160" y="5775480"/>
            <a:ext cx="847800" cy="10062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4" descr="LN_SRB_LOGO_wide"/>
          <p:cNvPicPr/>
          <p:nvPr/>
        </p:nvPicPr>
        <p:blipFill>
          <a:blip r:embed="rId3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животну средине– урађено у 20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52280" y="114300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видира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15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тавље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јека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р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а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тенцијал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јека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ализ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јека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ије усвојен од стране 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тавље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ов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јека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мишље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ра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(WWF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ка Кола Хелени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)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својил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тал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ич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провође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ликов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нкур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ђ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нов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кола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дук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нова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нача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штит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живот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един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реир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ов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чи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уник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ђ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38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" descr=""/>
          <p:cNvPicPr/>
          <p:nvPr/>
        </p:nvPicPr>
        <p:blipFill>
          <a:blip r:embed="rId2"/>
          <a:stretch/>
        </p:blipFill>
        <p:spPr>
          <a:xfrm>
            <a:off x="3116160" y="5775480"/>
            <a:ext cx="847800" cy="10062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LN_SRB_LOGO_wide"/>
          <p:cNvPicPr/>
          <p:nvPr/>
        </p:nvPicPr>
        <p:blipFill>
          <a:blip r:embed="rId3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животну средину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– план за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0880" y="12193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43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" descr=""/>
          <p:cNvPicPr/>
          <p:nvPr/>
        </p:nvPicPr>
        <p:blipFill>
          <a:blip r:embed="rId2"/>
          <a:stretch/>
        </p:blipFill>
        <p:spPr>
          <a:xfrm>
            <a:off x="3116160" y="5775480"/>
            <a:ext cx="847800" cy="1006200"/>
          </a:xfrm>
          <a:prstGeom prst="rect">
            <a:avLst/>
          </a:prstGeom>
          <a:ln w="0">
            <a:noFill/>
          </a:ln>
        </p:spPr>
      </p:pic>
      <p:sp>
        <p:nvSpPr>
          <p:cNvPr id="345" name="Content Placeholder 2"/>
          <p:cNvSpPr/>
          <p:nvPr/>
        </p:nvSpPr>
        <p:spPr>
          <a:xfrm>
            <a:off x="228600" y="1295280"/>
            <a:ext cx="89154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Лансирањ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конкурс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з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млад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с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циљем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смишљавањ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наставног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учил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з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изборни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предмет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Чувари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природ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(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први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разред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сновн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школ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Реализациј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наставн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јединиц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смишљен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д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стран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победник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кон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рганизациј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ликовног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конкурс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з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30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сновних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школ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у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Београ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рганизациј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куруглог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стола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и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објављивањ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публикације</a:t>
            </a:r>
            <a:r>
              <a:rPr b="0" lang="sr-Latn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 </a:t>
            </a:r>
            <a:r>
              <a:rPr b="0" lang="sr-CS" sz="32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Р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4" descr="LN_SRB_LOGO_wide"/>
          <p:cNvPicPr/>
          <p:nvPr/>
        </p:nvPicPr>
        <p:blipFill>
          <a:blip r:embed="rId3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едукацију и развој ДО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519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мерич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вред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социјац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фесионала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социјац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езависн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лектронск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д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утомобилск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ластер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те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еоградс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ко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еоградск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иверзите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арлсбер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ка Кола Хелени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онитор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валу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лт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олдин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коис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рст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уро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акулте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хничк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у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ов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акулте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о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у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ру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лад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валидитето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еогра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рактал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олц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ђународ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С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род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</a:rPr>
              <a:t>Олоф Палме међународни центар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</a:rPr>
              <a:t>Прима медиа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WC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копа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март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лектив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сијете Генерал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удентска организација Параћин, Суботичка тржница АД, Траг Фондација, Телено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, УНДП, </a:t>
            </a:r>
            <a:r>
              <a:rPr b="0" lang="sr-CS" sz="1800" spc="-1" strike="noStrike">
                <a:solidFill>
                  <a:srgbClr val="ff0000"/>
                </a:solidFill>
                <a:latin typeface="Calibri"/>
              </a:rPr>
              <a:t>Викторија Гроуп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: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авно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говарање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шка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бразовним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ституцијама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вођење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П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рмални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стем</a:t>
            </a:r>
            <a:r>
              <a:rPr b="0" lang="vi-VN" sz="18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бразовања као 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апређе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е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говор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едав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Београдск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ословн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школ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50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едукацију и развој ДОП – урађено у 20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52280" y="1142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о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мина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дружење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уденат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ендике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м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„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е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ату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об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ендике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“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араћин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медерев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им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анре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ту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и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наци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ље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уч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а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2014.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а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б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уманитар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моћ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таб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анре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ту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пшти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араћин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ржано 10 састанака, а РГ је активно радила на упознавањ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тенцијал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10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нцип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лобал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гов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бјашњава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нача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рист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лањењ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53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9" descr="C:\Documents and Settings\sanja.bunic\My Documents\ANA\GLOBALNI DOGOVOR\Radna grupa za edukaciju i razvoj DOP\Slike\28 02 2014\untitledsmall.JPG"/>
          <p:cNvPicPr/>
          <p:nvPr/>
        </p:nvPicPr>
        <p:blipFill>
          <a:blip r:embed="rId2"/>
          <a:stretch/>
        </p:blipFill>
        <p:spPr>
          <a:xfrm>
            <a:off x="2819520" y="3716280"/>
            <a:ext cx="3200400" cy="19717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LN_SRB_LOGO_wide"/>
          <p:cNvPicPr/>
          <p:nvPr/>
        </p:nvPicPr>
        <p:blipFill>
          <a:blip r:embed="rId3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едукацију и развој ДОП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план у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51920" y="1143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ицијати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из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вест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во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е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говор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лање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ов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кус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бразов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ституц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кључи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удентск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вези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ије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кус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нцип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говор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прављ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бразовање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(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М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веча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д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дук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во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е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говор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лобал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гов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59" name="Picture 1" descr="GCN_serbia"/>
          <p:cNvPicPr/>
          <p:nvPr/>
        </p:nvPicPr>
        <p:blipFill>
          <a:blip r:embed="rId2"/>
          <a:stretch/>
        </p:blipFill>
        <p:spPr>
          <a:xfrm>
            <a:off x="4343400" y="5775480"/>
            <a:ext cx="419112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Глобални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договор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Срб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2280" y="1142640"/>
            <a:ext cx="4191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Радн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груп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цијал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кључивањ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орб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тив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рупц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Д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рств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инансиј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дук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во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П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ж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вотн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едину  (у оквиру РГ - Тим за подршку у ванредним ситуацијама)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Неактивна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д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3a4c"/>
              </a:solidFill>
              <a:latin typeface="Georgi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285" name="Content Placeholder 2"/>
          <p:cNvSpPr/>
          <p:nvPr/>
        </p:nvSpPr>
        <p:spPr>
          <a:xfrm>
            <a:off x="4495680" y="1143000"/>
            <a:ext cx="41911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Tренутно 9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5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 чланица које запошљавају око 72.330 запосле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49 компан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27 невладиних орган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8 пословних удруже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4 академских институ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2 г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синдик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Нове чланице у 2014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ма Мед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лоф Палме међународни цен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езависни металски синдикат      железаре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4" descr="LN_SRB_LOGO_wide"/>
          <p:cNvPicPr/>
          <p:nvPr/>
        </p:nvPicPr>
        <p:blipFill>
          <a:blip r:embed="rId2"/>
          <a:stretch/>
        </p:blipFill>
        <p:spPr>
          <a:xfrm>
            <a:off x="4191120" y="5791320"/>
            <a:ext cx="4795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груп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мед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2560" y="11430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92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ап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ТВ Адри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пресен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уникејшнс, Достигнућа младих Срб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едијск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стражи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звешта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абра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м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а група нема председавајућег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62" name="Picture 7" descr="C:\Documents and Settings\sanja.bunic\My Documents\My Pictures\CSR\writing-2.jpg"/>
          <p:cNvPicPr/>
          <p:nvPr/>
        </p:nvPicPr>
        <p:blipFill>
          <a:blip r:embed="rId1"/>
          <a:stretch/>
        </p:blipFill>
        <p:spPr>
          <a:xfrm>
            <a:off x="2933640" y="3048120"/>
            <a:ext cx="3009960" cy="2290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3" name="Picture 14" descr="\\192.168.42.212\Javni direktorijum\ZNAK I LOGOTIP PKS\logotip cir-01.jpg"/>
          <p:cNvPicPr/>
          <p:nvPr/>
        </p:nvPicPr>
        <p:blipFill>
          <a:blip r:embed="rId2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4" descr="LN_SRB_LOGO_wide"/>
          <p:cNvPicPr/>
          <p:nvPr/>
        </p:nvPicPr>
        <p:blipFill>
          <a:blip r:embed="rId3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Тим за подршку у ванредним ситуац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92240" y="11426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 Центар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ониторин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валу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редит Агриколе 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жав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лутр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рст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убме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вред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еоград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сијет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енерал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пернатурал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лек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раг Фондација, УНДП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ш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учј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гроже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род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епогод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им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еда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Центар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мониторинг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евалуациј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68" name="Picture 7" descr=""/>
          <p:cNvPicPr/>
          <p:nvPr/>
        </p:nvPicPr>
        <p:blipFill>
          <a:blip r:embed="rId2"/>
          <a:stretch/>
        </p:blipFill>
        <p:spPr>
          <a:xfrm>
            <a:off x="3121200" y="3475080"/>
            <a:ext cx="2444400" cy="2046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369" name="Picture 14" descr="LN_SRB_LOGO_wide"/>
          <p:cNvPicPr/>
          <p:nvPr/>
        </p:nvPicPr>
        <p:blipFill>
          <a:blip r:embed="rId3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226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Calibri"/>
              </a:rPr>
              <a:t>Тим за подршку у ванредним ситуацијама</a:t>
            </a:r>
            <a:r>
              <a:rPr b="1" lang="en-US" sz="2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– урађено у 2014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52280" y="14475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ализова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к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20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стана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л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о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рећ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лиц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ост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еза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нац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ед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десил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емљ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а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2014.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один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еоградск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н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кол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ок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а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у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рмир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ператив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таб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з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моћ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пшти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рчи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удентск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араћи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ослао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омб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хуманитарн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омоћ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араћинц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нов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тход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вид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рен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им је пружио подршку реализацији догађаја  који је организовао управни одбор  ГД у сарадњи са УНДП: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„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Стварно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одговорн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друштвен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одговорност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компаниј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врем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након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опла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“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е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мовиса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нача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иват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кто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нирањ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ед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72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2263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Calibri"/>
              </a:rPr>
              <a:t>Тим за подршку у ванредним ситуацијама</a:t>
            </a:r>
            <a:r>
              <a:rPr b="1" lang="sr-CS" sz="2200" spc="-1" strike="noStrike">
                <a:solidFill>
                  <a:srgbClr val="ffffff"/>
                </a:solidFill>
                <a:latin typeface="Arial"/>
              </a:rPr>
              <a:t> – план за 2015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52280" y="14475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већ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апацитет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т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ектн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икасни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шк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лучај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анред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туациј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тензивир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прав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анред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туа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анцелариј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моћ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ље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учј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инистарств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локалн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моуправ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жавн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прав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вар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нд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шк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анред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туациј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во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звешта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моћ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пућено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ран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иц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Д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љени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учј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.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звештај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ит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тавље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авност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нференци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ализоват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одишњиц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чет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нференц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„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один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а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кон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пла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–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кл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игл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?“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76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80880" y="3276360"/>
            <a:ext cx="8304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720" indent="-396720" algn="ctr">
              <a:spcBef>
                <a:spcPts val="349"/>
              </a:spcBef>
              <a:spcAft>
                <a:spcPts val="601"/>
              </a:spcAft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63a4c"/>
              </a:solidFill>
              <a:latin typeface="Georgia"/>
            </a:endParaRPr>
          </a:p>
          <a:p>
            <a:pPr marL="396720" indent="-39672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63a4c"/>
                </a:solidFill>
                <a:latin typeface="Georgia"/>
              </a:rPr>
              <a:t>ЗАХВАЉУЈЕМО  СВИМ АКТИВНИМ ЧЛАНИЦАМА МРЕЖЕ ГЛОБАЛНИ ДОГОВОР У СРБИЈИ КОЈЕ СУ ПРУЖИЛЕ ПОДРШКУ У РЕАЛИЗАЦИЈИ ДОГАЂАЈА У </a:t>
            </a:r>
            <a:r>
              <a:rPr b="1" lang="sr-Latn-CS" sz="1600" spc="-1" strike="noStrike">
                <a:solidFill>
                  <a:srgbClr val="063a4c"/>
                </a:solidFill>
                <a:latin typeface="Calibri"/>
              </a:rPr>
              <a:t>2014</a:t>
            </a:r>
            <a:r>
              <a:rPr b="1" lang="sr-CS" sz="1600" spc="-1" strike="noStrike">
                <a:solidFill>
                  <a:srgbClr val="063a4c"/>
                </a:solidFill>
                <a:latin typeface="Calibri"/>
              </a:rPr>
              <a:t>.</a:t>
            </a:r>
            <a:r>
              <a:rPr b="1" lang="sr-Latn-CS" sz="1400" spc="-1" strike="noStrike">
                <a:solidFill>
                  <a:srgbClr val="063a4c"/>
                </a:solidFill>
                <a:latin typeface="Georgia"/>
              </a:rPr>
              <a:t> </a:t>
            </a:r>
            <a:r>
              <a:rPr b="1" lang="sr-CS" sz="1400" spc="-1" strike="noStrike">
                <a:solidFill>
                  <a:srgbClr val="063a4c"/>
                </a:solidFill>
                <a:latin typeface="Georgia"/>
              </a:rPr>
              <a:t>ГОДИНИ</a:t>
            </a:r>
            <a:endParaRPr b="0" lang="en-US" sz="1400" spc="-1" strike="noStrike">
              <a:solidFill>
                <a:srgbClr val="063a4c"/>
              </a:solidFill>
              <a:latin typeface="Georgia"/>
            </a:endParaRPr>
          </a:p>
        </p:txBody>
      </p:sp>
      <p:sp>
        <p:nvSpPr>
          <p:cNvPr id="379" name="Rectangle 1"/>
          <p:cNvSpPr/>
          <p:nvPr/>
        </p:nvSpPr>
        <p:spPr>
          <a:xfrm>
            <a:off x="2362320" y="4981680"/>
            <a:ext cx="457200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1"/>
              </a:rPr>
              <a:t>www.ung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2"/>
              </a:rPr>
              <a:t>www.unglobalcompact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3"/>
              </a:rPr>
              <a:t>globalni.dogovor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4"/>
              </a:rPr>
              <a:t>@</a:t>
            </a: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5"/>
              </a:rPr>
              <a:t>pks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6"/>
              </a:rPr>
              <a:t>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7"/>
              </a:rPr>
              <a:t>s</a:t>
            </a:r>
            <a:r>
              <a:rPr b="0" lang="sr-Latn-C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8"/>
              </a:rPr>
              <a:t>anja.bunic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Calibri"/>
                <a:ea typeface="Calibri"/>
                <a:hlinkClick r:id="rId9"/>
              </a:rPr>
              <a:t>@pks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4" descr="\\192.168.42.212\Javni direktorijum\ZNAK I LOGOTIP PKS\logotip cir-01.jpg"/>
          <p:cNvPicPr/>
          <p:nvPr/>
        </p:nvPicPr>
        <p:blipFill>
          <a:blip r:embed="rId10"/>
          <a:stretch/>
        </p:blipFill>
        <p:spPr>
          <a:xfrm>
            <a:off x="228600" y="121932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LN_SRB_LOGO_wide"/>
          <p:cNvPicPr/>
          <p:nvPr/>
        </p:nvPicPr>
        <p:blipFill>
          <a:blip r:embed="rId11"/>
          <a:stretch/>
        </p:blipFill>
        <p:spPr>
          <a:xfrm>
            <a:off x="4348080" y="14479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Глобални договор у Србији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рађено у 201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75960" y="1142640"/>
            <a:ext cx="8915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ржано 8 састанака Управног одбора Глобалног договор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минар о друштвено одговорном пословању за представнике медија „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Новинари за корпоративну одговорност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“ у сарадњи са Амбасадом Шведске, маја 2014.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нференција „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Стварно одговорни – друштвена одговорност компанија за време и након поплава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“ (организатори – ГД у Србији, УНДП и ПКС), септембра 2014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е представника на европском састанку локалних мрежа у Скопљу, новембра 2014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ренинг са темом – “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Механизми за борбу против корупције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” у сарадњи са Олоф Палме Интернационал, децембра 2014.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проведено истраживање мишљења чланица мреже о могућностима за реорганизацију у начину рада и планирању догађаја за наредну годин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тписивање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протокола о сарадњи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 Заједницом директора економских, правно-биротехничких, трговинских и угоститељско –туристичких школ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289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Глобални договор у Србији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план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1219320"/>
            <a:ext cx="8839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моција десет принципа Глобалног договора, а нарочито из домена заштите животне средине и заштите људских прав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иње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чланств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a (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рочито из сектора МСП)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шка активнијем учешћу појединачних чланиц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овање тематских семинара и радионица, у циљу размене примера добре праксе и промоције Извештаја о напретку и Извештаја о ангажовањ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уж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шке раду постојећих РГ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ужање подршке чланству у изради Извештаја о напретку и Извештаја о ангажовањ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 годишње конференције “Друштвено одговорно пословање у условима опоравка након природних непогода”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 тренинга у сарадњи са Међународним центром Олоф Палме  на тему стандарда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ISO 14001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OHSAS 18001 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матрање о реорганизацији мреже у складу са спроведеним истраживањем из новембра 2014.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294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груп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социјално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кључивањ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114300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меричка привредна комора, 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тес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еоградс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школ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вој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клузивно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онитор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валуациј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Koka Kola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еле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k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редит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грикол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лт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олд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ч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ц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лхаиз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оуп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стигнућа младих Србије, Друштв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вој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ец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лад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–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иш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жав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лутр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рнст анд Јанг, Ерст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уро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ондација Ана и Владе Дивац, Фору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лад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валидитето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рактал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дустријск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индикат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ПМ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О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инистарств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цијалн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литик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иреус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ит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ласте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презент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јуникејшнс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килс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раининг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Цента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вез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леп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вез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истрофичар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вез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леп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лабовид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копак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ботичка Тржница АД, Траг Фондација, Телеко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ленор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дружењ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словн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же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ДП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UN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W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м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n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ИЦЕФ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ВИП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мобил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: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икасн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цијал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штит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цијалн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њив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а (посебно деце)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напређењ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ложаја 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кидањ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искриминац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глед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пошљавањ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о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ом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едав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ндација Ана и Владе Дивац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298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социјално укључивање – урађено у 2014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5960" y="1143000"/>
            <a:ext cx="88390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ужена подршка пројектима намењених социјалном укључивању деце – корисника институционалне подршк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роз РГ делимично релазована подршка програмима – Кућа на пола пута и Соба за сусрете (разлог – мајске поплаве) 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ржана два састанка Радне групе, а састанци су били прилика за размену примера из праксе и  отворени су за презентације организација које се баве социјалним укључивањем 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01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Г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социјално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кључивање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плана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 201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5960" y="1142640"/>
            <a:ext cx="8915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ставак подршке програмима – Кућа на пола пута и Собе за сусрет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већање броја чланица и мотивација да се више ангажују у раду РГ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ац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тив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ри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дукативн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минар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м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„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штвено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ату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об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хендике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змена информација, материјала и позив организацијама које се баве пројектима социјалног укључивања да буду гости радне групе и представе свој рад и активности чланови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05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за КДО у банкарству и финансиј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960" y="1142640"/>
            <a:ext cx="8839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Члани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те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редит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грикол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остигнућа младих Србије, Дунав осигурање, Ернст анд Јанг, Ерст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уробан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Ф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ЕФА, Фондација Ана и Владе Дивац, Хип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лп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дри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Јубме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мерцијал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ПМГ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род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иреус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осијете Генерал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Фокус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инансијск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едукациј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Заједничк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арадњ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итањ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вођењ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ов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новативн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извод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о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ер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ав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тем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Д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банкарств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финансијам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државањ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абран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ојекат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циј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шћ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еализацији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оједин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акциј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;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кој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у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рганизован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д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стран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остал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их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а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Уче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н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искуств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других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Радн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груп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</a:rPr>
              <a:t>председав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: </a:t>
            </a:r>
            <a:r>
              <a:rPr b="1" lang="en-U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Народн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банка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CS" sz="1800" spc="-1" strike="noStrike">
                <a:solidFill>
                  <a:srgbClr val="063a4c"/>
                </a:solidFill>
                <a:latin typeface="Calibri"/>
              </a:rPr>
              <a:t>Србије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10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Радна група 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КДО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банкарств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финансијама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рађено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 201</a:t>
            </a:r>
            <a:r>
              <a:rPr b="1" lang="sr-CS" sz="2400" spc="-1" strike="noStrike">
                <a:solidFill>
                  <a:srgbClr val="ffffff"/>
                </a:solidFill>
                <a:latin typeface="Calibri"/>
              </a:rPr>
              <a:t>4</a:t>
            </a: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5960" y="1142640"/>
            <a:ext cx="883908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арад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а седам економских шко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који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стој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образовн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офил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“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арск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лужбеник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”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>
              <a:lnSpc>
                <a:spcPct val="100000"/>
              </a:lnSpc>
              <a:spcBef>
                <a:spcPts val="451"/>
              </a:spcBef>
              <a:buClr>
                <a:srgbClr val="47b3b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едавањ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ченик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емама које школе одаберу у компанијама чланицама Радне груп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еда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офесор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емама које школе одаберу, а које су држале компаније чланице РГ и представници НБС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Једнонедељ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/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двонедељна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акса за ученике трећег/четвртог разреда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филијалама банака – чланицама РГ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сет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Центр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сетиоц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Народн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анке</a:t>
            </a:r>
            <a:r>
              <a:rPr b="0" lang="en-U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е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lvl="1" algn="just">
              <a:lnSpc>
                <a:spcPct val="100000"/>
              </a:lnSpc>
              <a:spcBef>
                <a:spcPts val="451"/>
              </a:spcBef>
              <a:buClr>
                <a:srgbClr val="e68c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ипрем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отписивањ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отоко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арадњ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једницом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економск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правн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-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биротехничк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рговинск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угоститељско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-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туристичких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школ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Републик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Србије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2014/2015. школску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63a4c"/>
                </a:solidFill>
                <a:latin typeface="Calibri"/>
                <a:ea typeface="Times New Roman"/>
              </a:rPr>
              <a:t>годину</a:t>
            </a:r>
            <a:endParaRPr b="0" lang="en-US" sz="1800" spc="-1" strike="noStrike">
              <a:solidFill>
                <a:srgbClr val="063a4c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Georgia"/>
            </a:endParaRPr>
          </a:p>
        </p:txBody>
      </p:sp>
      <p:pic>
        <p:nvPicPr>
          <p:cNvPr id="313" name="Picture 14" descr="\\192.168.42.212\Javni direktorijum\ZNAK I LOGOTIP PKS\logotip cir-01.jpg"/>
          <p:cNvPicPr/>
          <p:nvPr/>
        </p:nvPicPr>
        <p:blipFill>
          <a:blip r:embed="rId1"/>
          <a:stretch/>
        </p:blipFill>
        <p:spPr>
          <a:xfrm>
            <a:off x="228600" y="5486400"/>
            <a:ext cx="2909880" cy="1371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4" descr="LN_SRB_LOGO_wide"/>
          <p:cNvPicPr/>
          <p:nvPr/>
        </p:nvPicPr>
        <p:blipFill>
          <a:blip r:embed="rId2"/>
          <a:stretch/>
        </p:blipFill>
        <p:spPr>
          <a:xfrm>
            <a:off x="4348080" y="5791320"/>
            <a:ext cx="47959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2:32:09Z</dcterms:created>
  <dc:creator>Sven Biermann</dc:creator>
  <dc:description/>
  <dc:language>en-US</dc:language>
  <cp:lastModifiedBy>sanja.bunic</cp:lastModifiedBy>
  <dcterms:modified xsi:type="dcterms:W3CDTF">2014-12-12T14:07:52Z</dcterms:modified>
  <cp:revision>462</cp:revision>
  <dc:subject/>
  <dc:title>PowerPoint-Präsentation</dc:title>
</cp:coreProperties>
</file>