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39A-F360-4411-9937-298F932E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99276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EB4-FA08-4412-9FF0-8D82FA4A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224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B06-8306-43A9-B750-398485E6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900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908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900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908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6F5-3666-4FDB-AEF5-6DF633B7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280" y="342864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280" y="2014560"/>
            <a:ext cx="828036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342864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B1A-93A5-478E-8252-F884998C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224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280" y="399276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224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900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3908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28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900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3908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6A2-4DDB-4587-BCB5-05FA15BE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E59-D027-4411-A734-9FF84724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430-7B3B-46BF-AC5F-7E8135AF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014560"/>
            <a:ext cx="828036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8E2-6F3F-4A42-B5EA-FA63326A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796-C825-4B72-9226-A501730F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224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EF2-41B6-435E-912A-5229DF02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EEE-6747-4C20-B7EF-FB8D4392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1080"/>
            <a:ext cx="9140760" cy="82692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92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4600" indent="-2728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95320" indent="-27144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6680" indent="-26172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6680" indent="-26172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6680" indent="-26172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6560" y="6381720"/>
            <a:ext cx="865440" cy="2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88B3-6ACA-4A18-976C-0FC3E163CE42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6560" y="6237360"/>
            <a:ext cx="2895840" cy="2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</a:rPr>
              <a:t>European Global Compact Local Networks Meeting</a:t>
            </a:r>
            <a:br>
              <a:rPr sz="800"/>
            </a:br>
            <a:r>
              <a:rPr b="1" lang="sr-Latn-CS" sz="800" spc="-1" strike="noStrike">
                <a:solidFill>
                  <a:srgbClr val="000000"/>
                </a:solidFill>
                <a:latin typeface="Times New Roman"/>
              </a:rPr>
              <a:t>Belgrade, 18-19. October 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115640" y="6379920"/>
            <a:ext cx="2133720" cy="215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7456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12000" y="6278400"/>
            <a:ext cx="100800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48360" y="5805360"/>
            <a:ext cx="1787760" cy="766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7986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5732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7986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5228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7986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4616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7986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46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46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stebank.rs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179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rste Bank Serbia 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perstep – loans for young enterpreneurs starting their own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7960" y="3720600"/>
            <a:ext cx="7290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9866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uropean Global Compact Local Networks Meeting</a:t>
            </a:r>
            <a:br>
              <a:rPr sz="2400"/>
            </a:b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Belgrade, 18-19. October 201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rently op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 best youth entrepreneurial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 eligible applicants will have the opportunity to attend two rounds of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9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business idea to busines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9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business plans to get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this stage is completed, a selection committee will assess those businesses/ideas that are interested in and suitable for accessing Erste Bank Serbia’s Superstep loan and will recommend them for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8BD-7E68-467D-9241-4DD5EA871E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BA9BB-F142-4659-B9C6-D5B873BEB6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 o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stebank.rs/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e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456732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igh level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h unemploym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b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mong total number of enterpreneurs in Serbia, young enterpreneurs between 15 and 29 years old consist 10,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bian youth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nsider that employment in public service provides lower wages but a safe job and stabl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906200"/>
            <a:ext cx="402732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54640" y="2398680"/>
            <a:ext cx="3144960" cy="2674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527-2D03-4ADE-862E-930A3BB1D1EC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A011D-5B3C-46C3-9BD7-6BFCF3BF6A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easons for NOT starting own busi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33080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ss to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ack of knowledge, skills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igh level of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w expectancy of su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or business 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2% of youth express interest to start their own business if they had access to favourable credi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6200"/>
            <a:ext cx="402732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360" y="3573360"/>
            <a:ext cx="2982960" cy="240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952720" cy="2238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A39-B2EE-4AF8-B16A-63E9602EE99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A40AE-10D8-47D4-B5F2-2D3C44BC35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te Bank Serbia teamed up with the Serbian National Employment Service in 2011 to launch a pilot projec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uperste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business start-up loans and business training to existing and aspiring young entrepren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group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people (age 20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ed at employment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ccess to financial servic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for their business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938-1D27-41C4-B12A-CEBE78346F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E916E-C13A-4C99-A8D7-2FB3BD03BF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Super)Ste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02732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pplications for new busines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Se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andidates for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Education (B&amp;A, financial edu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- Se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usiness ideas to be fin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up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go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906200"/>
            <a:ext cx="402732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181320" cy="4470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A45-FA54-49C5-A0CA-673504F5D43D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5DA3B-0B8B-4AC6-898E-5408E6E168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ternal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inesses run by young entrepreneurs have lower survival rates than those of older entreprene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0"/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Erste Bank Serbi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ok additional r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nting loans with no collater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erna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etting the buy-in of various departments inside th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 task force was set up consisting of colleagues from all the relevant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41B-6924-4BD3-A39A-42BB9A377A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47019-0C78-48FB-B678-2F2AA02B9C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of  22 applicant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event &amp; speed mentor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candidates were selected to be financ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ing program star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2/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out Erste Group, the programme serves a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 program is quite flexible in terms of attracting additional partners and using all existing incentives and supporting initiatives, colleagues from Erste Bank Croatia have already implemented a similar project that they adapted to the local specific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83A-6531-4F7A-83F4-1036162296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D0387-6870-4065-A04B-49DBDC18AF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1341000"/>
            <a:ext cx="6337440" cy="4599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young entrepreneurs w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re finan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ing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€2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an Priviz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use the loan to set up a company engaged in the production and processing of hemp seed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kola Milanovi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eksandra Popovi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use it to open dental surgeries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lan Stojkovi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provide tourism management, marketing and promotion ser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na Krlesk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manufacture finished textile products with folk art features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ija Radulovi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produce hand-made doilies, bed sheets, pillows, towels, napkins and slipper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lađen Burdelj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usiness will venture into processing pla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31160" y="1282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031160" y="372096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020000" y="494172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2FA-681A-4FD4-8386-7A197AE87A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53DBC-890A-46EE-8B7E-5C12584EC8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th Business Serbia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98440" y="1494000"/>
            <a:ext cx="5289480" cy="2981160"/>
            <a:chOff x="298440" y="1494000"/>
            <a:chExt cx="5289480" cy="2981160"/>
          </a:xfrm>
        </p:grpSpPr>
        <p:sp>
          <p:nvSpPr>
            <p:cNvPr id="112" name="_s43013"/>
            <p:cNvSpPr/>
            <p:nvPr/>
          </p:nvSpPr>
          <p:spPr>
            <a:xfrm>
              <a:off x="2185920" y="2022480"/>
              <a:ext cx="1514520" cy="15145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14"/>
            <p:cNvSpPr/>
            <p:nvPr/>
          </p:nvSpPr>
          <p:spPr>
            <a:xfrm>
              <a:off x="2263680" y="1494000"/>
              <a:ext cx="1360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800" spc="-1" strike="noStrike">
                  <a:solidFill>
                    <a:srgbClr val="005593"/>
                  </a:solidFill>
                  <a:latin typeface="Calibri"/>
                </a:rPr>
                <a:t>Finan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15"/>
            <p:cNvSpPr/>
            <p:nvPr/>
          </p:nvSpPr>
          <p:spPr>
            <a:xfrm>
              <a:off x="2684520" y="2886120"/>
              <a:ext cx="1514520" cy="151452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4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16"/>
            <p:cNvSpPr/>
            <p:nvPr/>
          </p:nvSpPr>
          <p:spPr>
            <a:xfrm>
              <a:off x="4227480" y="4097520"/>
              <a:ext cx="1360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5593"/>
                  </a:solidFill>
                  <a:latin typeface="Calibri"/>
                </a:rPr>
                <a:t>Mentor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17"/>
            <p:cNvSpPr/>
            <p:nvPr/>
          </p:nvSpPr>
          <p:spPr>
            <a:xfrm>
              <a:off x="1687680" y="2886120"/>
              <a:ext cx="1514160" cy="15145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4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18"/>
            <p:cNvSpPr/>
            <p:nvPr/>
          </p:nvSpPr>
          <p:spPr>
            <a:xfrm>
              <a:off x="298440" y="4097520"/>
              <a:ext cx="1360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5593"/>
                  </a:solidFill>
                  <a:latin typeface="Calibri"/>
                </a:rPr>
                <a:t>Educ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2232000" y="2335320"/>
              <a:ext cx="143676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3146400" y="3409920"/>
              <a:ext cx="10605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1881360" y="340992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5593"/>
                </a:solidFill>
                <a:latin typeface="Calibri"/>
              </a:rPr>
              <a:t>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403880" y="2828880"/>
            <a:ext cx="715680" cy="59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98440" y="2655720"/>
            <a:ext cx="1341360" cy="700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84200" y="1871640"/>
            <a:ext cx="1174680" cy="65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967200" y="2168640"/>
            <a:ext cx="1305000" cy="361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51640" y="1341360"/>
            <a:ext cx="32241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08000" anchor="t">
            <a:no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ment of comprehensive support for young entrepreneurs in Serb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an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to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oring and “aftercare”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AA2-6E45-4EBA-9873-332FBB29AA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255B8-EE3D-4B69-8BC9-213021B308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8:43:56Z</dcterms:created>
  <dc:creator>A96TDGB</dc:creator>
  <dc:description/>
  <dc:language>en-US</dc:language>
  <cp:lastModifiedBy> </cp:lastModifiedBy>
  <dcterms:modified xsi:type="dcterms:W3CDTF">2012-10-16T13:41:15Z</dcterms:modified>
  <cp:revision>29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  <property fmtid="{D5CDD505-2E9C-101B-9397-08002B2CF9AE}" pid="5" name="_dlc_DocId">
    <vt:lpwstr>KSU7KKUV53Q3-3427-72</vt:lpwstr>
  </property>
  <property fmtid="{D5CDD505-2E9C-101B-9397-08002B2CF9AE}" pid="6" name="_dlc_DocIdItemGuid">
    <vt:lpwstr>f53b474f-8b41-47f0-bce4-344872c4e12b</vt:lpwstr>
  </property>
  <property fmtid="{D5CDD505-2E9C-101B-9397-08002B2CF9AE}" pid="7" name="_dlc_DocIdUrl">
    <vt:lpwstr>http://srsns156/svasta/erstebankinfo/Erste Bank info/_layouts/DocIdRedir.aspx?ID=KSU7KKUV53Q3-3427-72, KSU7KKUV53Q3-3427-72</vt:lpwstr>
  </property>
</Properties>
</file>