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5B6C-4BCA-4F47-BE1B-F5FAEA063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82803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3992760"/>
            <a:ext cx="82803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A9A-29DF-4D5C-B9CC-CFCCC8E5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399276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82240" y="399276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5D9B-C195-4647-B06C-5505F39C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39000" y="342864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9080" y="342864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399276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39000" y="399276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9080" y="399276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9D81-2600-4608-8930-D91738AA2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9280" y="3428640"/>
            <a:ext cx="8280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8280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9280" y="2014560"/>
            <a:ext cx="828036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9280" y="399276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3428640"/>
            <a:ext cx="8280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B76-7D5A-42CD-AB87-262F65F2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2240" y="399276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9280" y="3992760"/>
            <a:ext cx="82803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82803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9280" y="3992760"/>
            <a:ext cx="82803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9280" y="399276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2240" y="399276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9000" y="342864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39080" y="342864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9280" y="399276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9000" y="399276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39080" y="3992760"/>
            <a:ext cx="26661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8280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6C3B-6C6A-4F2D-A4E4-02B39ADC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7F2-B49F-44FC-88C4-5AD3E6C1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F191-4D78-411D-A06F-B15DD0DF2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9280" y="2014560"/>
            <a:ext cx="8280360" cy="513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F09B-A631-4B60-AE63-A8D3AAB87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399276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89D-DA6A-4894-B39D-4B7C5A9B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82240" y="399276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E8C-1BBE-46DE-87CC-DF8B35F3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2240" y="3428640"/>
            <a:ext cx="404064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3992760"/>
            <a:ext cx="828036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8A0-4EAE-4CDC-978A-7C3649C9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031080"/>
            <a:ext cx="9140760" cy="826920"/>
          </a:xfrm>
          <a:prstGeom prst="rect">
            <a:avLst/>
          </a:prstGeom>
          <a:solidFill>
            <a:srgbClr val="cce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6560" y="1906200"/>
            <a:ext cx="820584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92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44600" indent="-27288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95320" indent="-27144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36680" indent="-26172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236680" indent="-26172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236680" indent="-26172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6560" y="6381720"/>
            <a:ext cx="865440" cy="2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2953-4865-4246-AEBD-66B6CA307992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6560" y="6237360"/>
            <a:ext cx="2895840" cy="216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000000"/>
                </a:solidFill>
                <a:latin typeface="Times New Roman"/>
              </a:rPr>
              <a:t>European Global Compact Local Networks Meeting</a:t>
            </a:r>
            <a:br>
              <a:rPr sz="800"/>
            </a:br>
            <a:r>
              <a:rPr b="1" lang="sr-Latn-CS" sz="800" spc="-1" strike="noStrike">
                <a:solidFill>
                  <a:srgbClr val="000000"/>
                </a:solidFill>
                <a:latin typeface="Times New Roman"/>
              </a:rPr>
              <a:t>Belgrade, 18-19. October 20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115640" y="6379920"/>
            <a:ext cx="2133720" cy="215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74560" y="1222200"/>
            <a:ext cx="7989840" cy="0"/>
          </a:xfrm>
          <a:prstGeom prst="line">
            <a:avLst/>
          </a:prstGeom>
          <a:ln w="50760">
            <a:solidFill>
              <a:srgbClr val="08367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812000" y="6278400"/>
            <a:ext cx="1008000" cy="39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2014560"/>
            <a:ext cx="828036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48360" y="5805360"/>
            <a:ext cx="1787760" cy="7668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7986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15732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7986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15228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7986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46160" algn="ctr">
              <a:buClr>
                <a:srgbClr val="000000"/>
              </a:buClr>
              <a:buFont typeface="Arial"/>
              <a:buChar char="–"/>
              <a:tabLst>
                <a:tab algn="l" pos="0"/>
                <a:tab algn="l" pos="7986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46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461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rstebank.rs/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360" y="1796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rste Bank Serbia 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uperstep – loans for young enterpreneurs starting their own busi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07960" y="3720600"/>
            <a:ext cx="7290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9866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European Global Compact Local Networks Meeting</a:t>
            </a:r>
            <a:br>
              <a:rPr sz="2400"/>
            </a:b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Belgrade, 18-19. October 2012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820584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rently ope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or the best youth entrepreneurial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l eligible applicants will have the opportunity to attend two rounds of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9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om business idea to business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2080" indent="-3492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business plans to get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ce this stage is completed, a selection committee will assess those businesses/ideas that are interested in and suitable for accessing Erste Bank Serbia’s Superstep loan and will recommend them for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8282-4845-48BC-B9EE-4C3157B9599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633AF6-79D1-4A74-A440-CDE6CB0A94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1128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your attention!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info o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stebank.rs/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ne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456732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igh level of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h unemploymen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b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mong total number of enterpreneurs in Serbia, young enterpreneurs between 15 and 29 years old consist 10,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bian youth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nsider that employment in public service provides lower wages but a safe job and stabl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4720" y="1906200"/>
            <a:ext cx="402732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54640" y="2398680"/>
            <a:ext cx="3144960" cy="26748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E2B0-AFDD-448A-AA38-31D0D012B7EE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CF813-9CE0-407F-91E9-7FCDF1CA8C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easons for NOT starting own busin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433080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ss to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ack of knowledge, skills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High level of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w expectancy of suc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or business cl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2% of youth express interest to start their own business if they had access to favourable credi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4720" y="1906200"/>
            <a:ext cx="402732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48360" y="3573360"/>
            <a:ext cx="2982960" cy="2405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2952720" cy="22384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2D9-5BBE-496E-8D18-A0B1FE5606D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2B288-F23A-4B2C-8BFA-751C583B7D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0584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ste Bank Serbia teamed up with the Serbian National Employment Service in 2011 to launch a pilot project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uperste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business start-up loans and business training to existing and aspiring young entrepren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 group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ng people (age 20-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ed at employment bur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access to financial service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for their business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4AB-5971-4175-91AD-2F69D22ABCA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C98BB-A5EC-43EF-8CF3-81FF30E43D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Super)Step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402732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applications for new business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Sel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candidates for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Education (B&amp;A, financial edu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- Sel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business ideas to be finan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ting up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go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7986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4720" y="1906200"/>
            <a:ext cx="402732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buNone/>
              <a:tabLst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76720" y="1413000"/>
            <a:ext cx="3181320" cy="4470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1B62-3F6F-48A3-8BCF-02B81D68EB07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2A239F-5231-4839-91A6-03ABADA11C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820584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ternal: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usinesses run by young entrepreneurs have lower survival rates than those of older entreprene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100000"/>
              </a:lnSpc>
              <a:buNone/>
              <a:tabLst>
                <a:tab algn="l" pos="0"/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Erste Bank Serbi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ook additional r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ranting loans with no collater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erna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getting the buy-in of various departments inside th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 task force was set up consisting of colleagues from all the relevant depar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17E2-6B75-4954-A036-68269307E67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0E2CD-5E63-4C60-ABA1-F374F6FB23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6560" y="1906200"/>
            <a:ext cx="8205840" cy="4033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of  22 applicant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event &amp; speed mentorin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candidates were selected to be financ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oring program star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2/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oughout Erste Group, the programme serves a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buNone/>
              <a:tabLst>
                <a:tab algn="l" pos="0"/>
                <a:tab algn="l" pos="7986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 the program is quite flexible in terms of attracting additional partners and using all existing incentives and supporting initiatives, colleagues from Erste Bank Croatia have already implemented a similar project that they adapted to the local specific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3E03-1AB1-48F4-8488-F5AF0A7283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488AF-A2B0-4D33-977E-34FCCE731E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560" y="1341000"/>
            <a:ext cx="6337440" cy="4599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 young entrepreneurs w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ere financ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ing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€2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Jan Priviz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ll use the loan to set up a company engaged in the production and processing of hemp seed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kola Milanovi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eksandra Popovi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ll use it to open dental surgeries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ilan Stojkovi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ll provide tourism management, marketing and promotion serv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lena Krlesk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ll manufacture finished textile products with folk art features and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ija Radulovi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will produce hand-made doilies, bed sheets, pillows, towels, napkins and slipper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–"/>
              <a:tabLst>
                <a:tab algn="l" pos="7986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lađen Burdelj’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business will venture into processing pla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31160" y="12826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031160" y="372096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020000" y="4941720"/>
            <a:ext cx="182880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BA7-E956-4B99-9A91-B12A26C5451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519B5-E84F-45C1-AF64-B40BF9082A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6560" y="115920"/>
            <a:ext cx="8205840" cy="1008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th Business Serbia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98440" y="1494000"/>
            <a:ext cx="5289480" cy="2981160"/>
            <a:chOff x="298440" y="1494000"/>
            <a:chExt cx="5289480" cy="2981160"/>
          </a:xfrm>
        </p:grpSpPr>
        <p:sp>
          <p:nvSpPr>
            <p:cNvPr id="112" name="_s43013"/>
            <p:cNvSpPr/>
            <p:nvPr/>
          </p:nvSpPr>
          <p:spPr>
            <a:xfrm>
              <a:off x="2185920" y="2022480"/>
              <a:ext cx="1514520" cy="151452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43014"/>
            <p:cNvSpPr/>
            <p:nvPr/>
          </p:nvSpPr>
          <p:spPr>
            <a:xfrm>
              <a:off x="2263680" y="1494000"/>
              <a:ext cx="1360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2800" spc="-1" strike="noStrike">
                  <a:solidFill>
                    <a:srgbClr val="005593"/>
                  </a:solidFill>
                  <a:latin typeface="Calibri"/>
                </a:rPr>
                <a:t>Financ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43015"/>
            <p:cNvSpPr/>
            <p:nvPr/>
          </p:nvSpPr>
          <p:spPr>
            <a:xfrm>
              <a:off x="2684520" y="2886120"/>
              <a:ext cx="1514520" cy="1514520"/>
            </a:xfrm>
            <a:prstGeom prst="ellipse">
              <a:avLst/>
            </a:prstGeom>
            <a:solidFill>
              <a:srgbClr val="bbe0e3">
                <a:alpha val="50000"/>
              </a:srgbClr>
            </a:solidFill>
            <a:ln w="46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43016"/>
            <p:cNvSpPr/>
            <p:nvPr/>
          </p:nvSpPr>
          <p:spPr>
            <a:xfrm>
              <a:off x="4227480" y="4097520"/>
              <a:ext cx="1360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5593"/>
                  </a:solidFill>
                  <a:latin typeface="Calibri"/>
                </a:rPr>
                <a:t>Mentor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43017"/>
            <p:cNvSpPr/>
            <p:nvPr/>
          </p:nvSpPr>
          <p:spPr>
            <a:xfrm>
              <a:off x="1687680" y="2886120"/>
              <a:ext cx="1514160" cy="15145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4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43018"/>
            <p:cNvSpPr/>
            <p:nvPr/>
          </p:nvSpPr>
          <p:spPr>
            <a:xfrm>
              <a:off x="298440" y="4097520"/>
              <a:ext cx="136044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5593"/>
                  </a:solidFill>
                  <a:latin typeface="Calibri"/>
                </a:rPr>
                <a:t>Educ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2232000" y="2335320"/>
              <a:ext cx="1436760" cy="46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3146400" y="3409920"/>
              <a:ext cx="106056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" name=""/>
          <p:cNvSpPr/>
          <p:nvPr/>
        </p:nvSpPr>
        <p:spPr>
          <a:xfrm>
            <a:off x="1881360" y="340992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5593"/>
                </a:solidFill>
                <a:latin typeface="Calibri"/>
              </a:rPr>
              <a:t>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403880" y="2828880"/>
            <a:ext cx="715680" cy="596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98440" y="2655720"/>
            <a:ext cx="1341360" cy="700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84200" y="1871640"/>
            <a:ext cx="1174680" cy="658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3967200" y="2168640"/>
            <a:ext cx="1305000" cy="361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651640" y="1341360"/>
            <a:ext cx="32241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08000" anchor="t">
            <a:no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ment of comprehensive support for young entrepreneurs in Serb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ining and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to f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ntoring and “aftercare”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ster text for footer (overwrite or delete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821C-C26C-4C5C-AE19-BE64854A97F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46654-F4A0-4B36-BF00-4C71BDAA53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08:43:56Z</dcterms:created>
  <dc:creator>A96TDGB</dc:creator>
  <dc:description/>
  <dc:language>en-US</dc:language>
  <cp:lastModifiedBy> </cp:lastModifiedBy>
  <dcterms:modified xsi:type="dcterms:W3CDTF">2012-10-16T13:41:15Z</dcterms:modified>
  <cp:revision>29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/>
  </property>
  <property fmtid="{D5CDD505-2E9C-101B-9397-08002B2CF9AE}" pid="3" name="SPSDescription">
    <vt:lpwstr/>
  </property>
  <property fmtid="{D5CDD505-2E9C-101B-9397-08002B2CF9AE}" pid="4" name="Status">
    <vt:lpwstr/>
  </property>
  <property fmtid="{D5CDD505-2E9C-101B-9397-08002B2CF9AE}" pid="5" name="_dlc_DocId">
    <vt:lpwstr>KSU7KKUV53Q3-3427-72</vt:lpwstr>
  </property>
  <property fmtid="{D5CDD505-2E9C-101B-9397-08002B2CF9AE}" pid="6" name="_dlc_DocIdItemGuid">
    <vt:lpwstr>f53b474f-8b41-47f0-bce4-344872c4e12b</vt:lpwstr>
  </property>
  <property fmtid="{D5CDD505-2E9C-101B-9397-08002B2CF9AE}" pid="7" name="_dlc_DocIdUrl">
    <vt:lpwstr>http://srsns156/svasta/erstebankinfo/Erste Bank info/_layouts/DocIdRedir.aspx?ID=KSU7KKUV53Q3-3427-72, KSU7KKUV53Q3-3427-72</vt:lpwstr>
  </property>
</Properties>
</file>