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670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9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Img"/>
          </p:nvPr>
        </p:nvSpPr>
        <p:spPr>
          <a:xfrm>
            <a:off x="855360" y="744480"/>
            <a:ext cx="49575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0"/>
          </p:nvPr>
        </p:nvSpPr>
        <p:spPr>
          <a:xfrm>
            <a:off x="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 type="sldNum" idx="21"/>
          </p:nvPr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CCA35-CA7C-442C-BE1B-74919E99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B8AF4-3228-4C1A-A8B9-70C5F930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06A25-DFAC-4434-933B-F218B9B32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0BBBF-5020-40F6-A591-43E6900D3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6A97A-79CD-485D-8761-8B6487BF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047CA-FD02-4DAF-A5D2-14D5B40D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7D289-B9CA-4807-8B3F-B6EF83BB5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0431F-ECA0-4326-B2E2-5B13D5D02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CF3A5-A115-4C56-9B2D-036DF6E1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44E25-6651-4DAD-BAB2-1EDD178D7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DBC0D-3801-462A-A424-70540059F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8914B-D5DE-47FE-A177-F2FB663BA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7ACDD-D903-40C3-B05B-866D9679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8C0B9-01EC-42D6-A1FA-4EB72006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57E54-61E8-438B-977A-4514D15E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D3004-D2F8-4D19-B3C2-A2FF1888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5B1F1-5BBF-42FE-ABE4-D8420F06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93755-CE78-4734-8DE0-D36EE85D5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B39-630B-41B5-B44B-8162743A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DF9-53C5-426C-A277-046ED55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8EB-668E-4B86-91DA-5AC1692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5D2-49F4-44E5-AC22-18398A89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96A-6D2D-42FA-86E7-DED7B61B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4BC-6D9E-400B-A4E3-1BA7B70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675-D270-47B4-8841-C902B5E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060-7000-4556-80CA-D6C7FDC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6D1-E7AD-41D9-AFE3-FAAE4C8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6C2-C093-4FC9-A1A2-93FDEDD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2B5-CBDA-4C15-A30A-A4AE157F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DF8-7F28-4B87-B041-94CF922F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57DF-5CDC-46FA-A09B-E14AC64E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BD19-1181-43CD-BCE9-9FCD4E7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1D95-0AB1-401B-BA23-39EF8523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F766-EA73-4048-9B53-4F0EB6D3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584A-CDE9-4BC5-9C4E-9B61C2E0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93A4-9307-4102-A1B0-FC0D65D5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CA79-D200-4CB2-9CF5-961122D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896F-3572-44ED-9F8E-FF0B718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EC59-4117-4D19-8CD7-B8D5597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DAFF-FEDA-4526-87C9-2906FB13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79B8-ABC6-4C5D-BFAE-1A0ECD18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A8FF-3ECD-4C2F-95BD-FCBFB161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A9EE-4CDA-45B6-8B6F-AA23B6E0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2C53-EBF7-4A71-8441-E1DA7E01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C0DB-4B4C-4B46-97D4-AD773E19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A6CA-235F-4B17-A5D3-E6E53ABA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4C40-1D3F-4D52-BB54-5F3DABD2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D8D7-A346-43AC-8B11-86AD3BE0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82BB-74FE-43E6-8CEA-7EEDCA7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7CF7-229E-4CA4-8794-C72A48E3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5B7C-D85D-4EC5-A4FA-6C6B7C49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FB66-2F4D-4476-81C5-C8B726E9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1DE4-F2CE-4494-94ED-2AB5612D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96C2-0060-4429-83D8-7A8ED666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72B1-F5C4-41B0-9B4F-D877C8A7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8DDC5-CC36-440A-A49C-5392B8BA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A47F-1A0D-48FF-A9C2-C7DEDA6F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D87E-35F7-4C53-AD0C-7BFF9EA1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154C7-819B-4F04-B9FC-E6448C4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720FE-41AA-493F-8016-2FF3B13F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266D-6724-4E80-A8E2-AA5B3F47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1DCC2-8DD7-4113-A2E8-B45650B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8F124-EF05-448A-AB1A-A0ED76A2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33B13-8C23-44BD-979A-0E7E437E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6D55-00A9-4237-977A-6EE7D923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2FF8B-4EAC-4BFF-A868-CD97080B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65221-1F8A-4BCE-ABA2-DE08BC6C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8AACE-4F67-44D3-815F-914542B7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2998B-1CAA-4B05-B37F-0EFED4C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CB027-2BDD-4935-8072-D44B9549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641E-F434-4E7A-BD87-A62C303A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68CB-DF46-419B-A7AE-8BBC6952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913D-7CEC-426F-A6A2-81C37607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28175-EB5A-4D82-90EB-2EDEE5F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10112-02DC-4258-838D-B202C8E1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065A9-01CF-4ED0-9F8C-232C0358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7CA9B-B188-416A-A1AA-91371AD3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55E59-3808-4DC4-BFDF-B96AA42D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A492-E883-4455-B5E4-FDDB813F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CDF0D-FDB2-4E63-96EC-EE450D7F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967F-872A-4CC7-8179-EB66D35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246FC-B2DB-4AEF-A969-5576F0F6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F0A0-4C51-4354-A5D3-8ACDE9AE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A618C-76D3-4B60-9AF8-78798469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68760-7FED-4508-8E1A-058C9A4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29156-BB83-454A-A200-A7931ECD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AE2B-89E0-4A86-A802-95B11179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8A2F-81D0-4591-BE8E-12C2201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972A-F44F-4EF4-9301-D04DF739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8C510-ECF7-4D2F-A554-D0367B6C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7A81A-D63A-4295-92B4-9C0292BE99D8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94612-8DAA-4A95-ACA7-6FCDAAF0C3A9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44DCB-07CF-4438-99EF-FF81A5E726A1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9F209-D7FB-4FAA-90EB-6D1DF8FE8E3F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DBE81-D9A9-40DA-9D7D-B714AD86046D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FE264-2BB7-4339-A859-FA7616135BF3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E2827-EF12-4CAC-B478-74E608544520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A9EE6-CEA4-4ABD-BA7F-4D9CA0894254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4516D-B3C7-43C4-A66F-6950AD063C2D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6FB1A-5ACA-458E-9471-9DCDBD95675E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12944-0A99-43A8-B319-CA0A3AA24926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A956C-D876-4462-86F6-8642B34A61F1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80920" y="3459240"/>
            <a:ext cx="757728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AZVOJ </a:t>
            </a:r>
            <a:r>
              <a:rPr b="1" lang="sr-Latn-CS" sz="3200" spc="-1" strike="noStrike">
                <a:solidFill>
                  <a:srgbClr val="ffffff"/>
                </a:solidFill>
                <a:latin typeface="Verdana"/>
              </a:rPr>
              <a:t>SOCIJALN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sr-Latn-CS" sz="3200" spc="-1" strike="noStrike">
                <a:solidFill>
                  <a:srgbClr val="ffffff"/>
                </a:solidFill>
                <a:latin typeface="Verdana"/>
              </a:rPr>
              <a:t> PREDUZETNIŠTV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U JIE</a:t>
            </a:r>
            <a:r>
              <a:rPr b="1" lang="sr-Latn-C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PREGLED MODELA SARADNJE  ITALIJA, AUSTRIJA,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SLOVENIJA</a:t>
            </a:r>
            <a:endParaRPr b="1" lang="en-US" sz="24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90680" y="5209920"/>
            <a:ext cx="316368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Verdana"/>
              </a:rPr>
              <a:t>Beograd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6. februar </a:t>
            </a:r>
            <a:r>
              <a:rPr b="1" lang="hu-HU" sz="1400" spc="-1" strike="noStrike">
                <a:solidFill>
                  <a:srgbClr val="ffffff"/>
                </a:solidFill>
                <a:latin typeface="Verdana"/>
              </a:rPr>
              <a:t>201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4000" y="5209920"/>
            <a:ext cx="290700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Verdana"/>
              </a:rPr>
              <a:t>Svetlana Jovanović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,P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457200" y="1427040"/>
            <a:ext cx="82296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MOGUĆNOST PRENOSA DOBRE PRAK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457200" y="2859120"/>
            <a:ext cx="82296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KLJUČIVANJE KRAJNJIH KORISNIKA U SAMU RAZRADU PROJEKT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JEDNIČKO PLANIRANJE PROJEKTA SA LOKALNIM PARTNERIM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OJ KOORPORATIVNE ODGOVOR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NOVATIVNA FINANSIJSKA PODRŠK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OJ ETIČKOG BANKARSTVA I IZDAVANJA TZV. LOKALNIH SOCIJALNIH OBVEZNICA)</a:t>
            </a:r>
            <a:r>
              <a:rPr b="0" i="1" lang="en-US" sz="1800" spc="-1" strike="noStrike">
                <a:solidFill>
                  <a:srgbClr val="cc66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Calibri"/>
              </a:rPr>
              <a:t>AUSTRIJA  - MODEL SARADNJE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STOJEĆI ZAKONSKI OKVIR OMOGUĆAVA SARADNJU ALI NEMA POSEBNOG ZAKONA O SOCIJALNOM PREDUZETNIŠTV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JAVNO SOCIJALNO PRIVATNO PARTNERST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EGISTROVATI  POTREBU ZA SOCIJALNIM PREDUZETNIŠTV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ITI USLUGE I PROIZVODE U OBLASTI SOCIJALNOG PREDUZETNIŠ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ZGRADITI POTREBNU INFRASTRUKTURU I FINANSIRA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NUDITI USLUGE SOCIJALNOG PREDUZE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453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2093400"/>
            <a:ext cx="4040280" cy="403236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JEDNIČKI CILJE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ITUACIJA GDE SU SVI NA DOBIT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ASNA PODELA ZADATAKA I ODGOVO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VNOMERNA RASPODELA PROFITA I RIZ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ONOŠENJE ZAJEDNIČKIH 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DRŽIVOST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VERENJE IZMEĐU PARTNERA KOJI SARAĐU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4720" y="1453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Calibri"/>
              </a:rPr>
              <a:t>M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4720" y="2093400"/>
            <a:ext cx="4041720" cy="403236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DOVOLJNO DOBRO UPRAVLJANJE SREDSTV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DEFINISANI UGOVORI I SARAD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JASNI CILJE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RAVNOMERNA RASPODELA RIZIKA I DOB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509760" y="2305080"/>
            <a:ext cx="818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509760" y="1658880"/>
            <a:ext cx="77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  <a:ea typeface="Arial"/>
              </a:rPr>
              <a:t>PRIMERI DOBRE PRAK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509760" y="2454120"/>
            <a:ext cx="790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ATIVE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FINANCIAL MANAGEMENT FOR YOUNG PEOP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RISK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PROJEKAT REALIZOVAN OD 2007-2009 UZ UČEŠĆE JAVNIH INSTITUCIJA, PRIVATNIH FIRMI I SOCIJALNIH PREDUZEĆA ( JAVNO- PRIVATNO-SOCIJALNO PARTNERSTV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CILJ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OSPOSOBLJAVANJE MLADIH LJUDI DA ZAPOČNU SAMOSTALNI ŽIVOT BEZ FINANSIJSKIH ILI ZDRAVSTVENIH RIZIKA ( izbegavanje bolesti zavisnosti kroz edukaciju), RAZVIJANJA SPOSOBNOSTI AUTONOMNOG ODLUČIVANJA  I UPRAVLJANJA FINANSIJSKIM SREDSTVIM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nagement for young people – RIS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412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  <a:ea typeface="Arial"/>
              </a:rPr>
              <a:t>PRIMERI DOBRE PRAKSE </a:t>
            </a:r>
            <a:br>
              <a:rPr sz="3200"/>
            </a:b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2395440"/>
            <a:ext cx="53182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alibri"/>
              </a:rPr>
              <a:t>ÖKOSERVICE GM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TVARANJE RADNIH MESTA ZA OSOBE IZ SOCIJALNO UGROŽENIH KATEGORIJA, I OSOBE KOJE SU DUGO NEZAPOSL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CILJ: INTEGRACIJA NA TRŽIŠTE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OVI POSLOVI (NIŠE) U OBLASTI ZAŠTITE ŽIVOTNE SRE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6000840" y="2043000"/>
            <a:ext cx="2685960" cy="2013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6000840" y="4218120"/>
            <a:ext cx="26859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1427040"/>
            <a:ext cx="82296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MOGUĆNOST PRENOSA DOBRE PRAK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457200" y="2859120"/>
            <a:ext cx="82296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DRŽIVO  PARTNERST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MOGUĆNOST ZA NOVA RADNA MESTA U OBLASTI ZAŠTITE ŽIVOTNE SREDINE KAO AKTUELNE TEM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Arial"/>
                <a:ea typeface="Arial"/>
              </a:rPr>
              <a:t>PRIMERI DOBRE PRAKSE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2114280"/>
            <a:ext cx="4878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SPECIJALNA SKOLA I DNEVNI BOR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ZA LICA SA HENDIKEPOM IZ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GLEISDO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CILJ: IZGRADNJA I FUNKCIONISANJE CEN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EDNOSTI SARADNJE IZMEĐU JAVNOG- PRIVATNOG I SOCIJALNOG PREDUZEĆA  S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IŽE KAMATNE STOPE ZA KRED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ZGRADNJA KOMPLETNO NOVE ZGRADE U CENTRU GR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5403960" y="2408400"/>
            <a:ext cx="35845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Calibri"/>
                <a:ea typeface="Arial"/>
              </a:rPr>
              <a:t>REZULTAT 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457200" y="3168720"/>
            <a:ext cx="3881520" cy="2415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4708440" y="3168720"/>
            <a:ext cx="3625920" cy="24159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162000" y="211464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NOVA ZGR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SITUACIJA U KOJOJ SU SVI DOBITNICI/ KORISNICI SU I GRAD I SOCIJALNO PREDUZEĆE CHANCE B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"/>
          <p:cNvSpPr/>
          <p:nvPr/>
        </p:nvSpPr>
        <p:spPr>
          <a:xfrm>
            <a:off x="509760" y="2305080"/>
            <a:ext cx="81835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09760" y="1658880"/>
            <a:ext cx="77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Calibri"/>
                <a:ea typeface="Arial"/>
              </a:rPr>
              <a:t>SLOVENIJA PRIMERI DOBRE PRAK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658800" y="2338560"/>
            <a:ext cx="535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S AKADEMIJA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AKADEMIJA ZA KULINARSTVO KOJA JE NAMENJENA OBUČAVANJU I ZAPOŠLJAVANJU OSOBA IZ SOCIJALNO UGROŽENIH KATEGORIJA. PROJEKAT KOJI JE REALIZOVAN UZ DOPRINOS FONDACIJE „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FIFTEEN FOUNDATION“JAMIE OLIVER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MESECI OBUKE (10-15 OSO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6356520" y="2563920"/>
            <a:ext cx="2336760" cy="1565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6356520" y="4575240"/>
            <a:ext cx="2408040" cy="180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3"/>
          <a:stretch/>
        </p:blipFill>
        <p:spPr>
          <a:xfrm>
            <a:off x="3394080" y="4575240"/>
            <a:ext cx="26240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509760" y="2305080"/>
            <a:ext cx="81835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509760" y="1658880"/>
            <a:ext cx="77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da6d00"/>
                </a:solidFill>
                <a:latin typeface="Calibri"/>
                <a:ea typeface="Arial"/>
              </a:rPr>
              <a:t>NAREDNE AKTIVNOSTI PKS</a:t>
            </a:r>
            <a:r>
              <a:rPr b="1" lang="en-US" sz="2800" spc="-1" strike="noStrike">
                <a:solidFill>
                  <a:srgbClr val="da6d00"/>
                </a:solidFill>
                <a:latin typeface="Calibri"/>
                <a:ea typeface="Arial"/>
              </a:rPr>
              <a:t> U OKVIRU PROJEKTA </a:t>
            </a:r>
            <a:r>
              <a:rPr b="1" lang="sr-Latn-CS" sz="2800" spc="-1" strike="noStrike">
                <a:solidFill>
                  <a:srgbClr val="da6d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658800" y="2338560"/>
            <a:ext cx="535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www.globalproject.info/public/resources/images/max/Bridge-the-gap.jpg"/>
          <p:cNvPicPr/>
          <p:nvPr/>
        </p:nvPicPr>
        <p:blipFill>
          <a:blip r:embed="rId1"/>
          <a:stretch/>
        </p:blipFill>
        <p:spPr>
          <a:xfrm>
            <a:off x="5545080" y="2500200"/>
            <a:ext cx="3148200" cy="23385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8"/>
          <p:cNvSpPr/>
          <p:nvPr/>
        </p:nvSpPr>
        <p:spPr>
          <a:xfrm>
            <a:off x="658800" y="2500200"/>
            <a:ext cx="4538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58440" y="2500200"/>
            <a:ext cx="488628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REIRANJE BAZE PODATAKA  O USPEŠNIM MODELIMA SARADNJE I MOGUĆIM IZVORIMA FINANSIRANJA  U OBLASTI SOCIJALNOG PREDUZETNIŠ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MINARI I RADIONICE NA TEMU SOCIJALNOG PREDUZETNIŠ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BILATERALNI SUSRETI PREDSTAVNIKA SOCIJALNIH PREDUZEĆA I KOMPANIJA IZ PROFITNOG SEKTORA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( 30. MARTA 201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668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RAZVOJ SOCIJALNOG PREDUZETNIŠTVA </a:t>
            </a:r>
            <a:br>
              <a:rPr sz="3200"/>
            </a:br>
            <a:r>
              <a:rPr b="1" lang="en-US" sz="3200" spc="-1" strike="noStrike">
                <a:solidFill>
                  <a:srgbClr val="da6d00"/>
                </a:solidFill>
                <a:latin typeface="Calibri"/>
              </a:rPr>
              <a:t>EASE </a:t>
            </a: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&amp; SEE</a:t>
            </a:r>
            <a:r>
              <a:rPr b="1" lang="en-US" sz="3200" spc="-1" strike="noStrike">
                <a:solidFill>
                  <a:srgbClr val="da6d00"/>
                </a:solidFill>
                <a:latin typeface="Calibri"/>
              </a:rPr>
              <a:t> PROJEKAT</a:t>
            </a: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0044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800" spc="-1" strike="noStrike">
                <a:solidFill>
                  <a:srgbClr val="da6d00"/>
                </a:solidFill>
                <a:latin typeface="Calibri"/>
              </a:rPr>
              <a:t>PARTNERI U </a:t>
            </a:r>
            <a:r>
              <a:rPr b="1" lang="en-US" sz="1800" spc="-1" strike="noStrike">
                <a:solidFill>
                  <a:srgbClr val="da6d00"/>
                </a:solidFill>
                <a:latin typeface="Calibri"/>
              </a:rPr>
              <a:t>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GRAD VENECIJA  (REGION VENETO) -ITAL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GENCIJA ZA PREVENCIJU OTPADA ARGA - AUSTR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EGIONALNA AGENCIJA SEVERNA PRIMORSKA  (GORICIJA ) SLOVEN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DUNAVSKA BIZNIS ASOCIJACIJA  (MAĐARS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TALIJANSKO- BUGARSKA KOMORA ( BUGAR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4e83c6"/>
                </a:solidFill>
                <a:latin typeface="Arial"/>
              </a:rPr>
              <a:t>www.easeandsee.eu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725400" y="2208240"/>
            <a:ext cx="7507440" cy="4219560"/>
          </a:xfrm>
          <a:prstGeom prst="rect">
            <a:avLst/>
          </a:prstGeom>
          <a:ln w="0">
            <a:noFill/>
          </a:ln>
        </p:spPr>
      </p:pic>
      <p:sp>
        <p:nvSpPr>
          <p:cNvPr id="350" name="Oval 5"/>
          <p:cNvSpPr/>
          <p:nvPr/>
        </p:nvSpPr>
        <p:spPr>
          <a:xfrm>
            <a:off x="5135400" y="5234040"/>
            <a:ext cx="963720" cy="476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663560" y="1752480"/>
            <a:ext cx="5986440" cy="43722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554280" y="1752480"/>
            <a:ext cx="547920" cy="385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448160" y="1752480"/>
            <a:ext cx="657360" cy="385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4e83c6"/>
                </a:solidFill>
                <a:latin typeface="Arial"/>
              </a:rPr>
              <a:t>EASE&amp;SEE na Facebook-u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pic>
        <p:nvPicPr>
          <p:cNvPr id="355" name="Picture 12" descr=""/>
          <p:cNvPicPr/>
          <p:nvPr/>
        </p:nvPicPr>
        <p:blipFill>
          <a:blip r:embed="rId1"/>
          <a:stretch/>
        </p:blipFill>
        <p:spPr>
          <a:xfrm>
            <a:off x="2521080" y="2114640"/>
            <a:ext cx="4005000" cy="4465440"/>
          </a:xfrm>
          <a:prstGeom prst="rect">
            <a:avLst/>
          </a:prstGeom>
          <a:ln w="0">
            <a:noFill/>
          </a:ln>
        </p:spPr>
      </p:pic>
      <p:sp>
        <p:nvSpPr>
          <p:cNvPr id="356" name="Oval 13"/>
          <p:cNvSpPr/>
          <p:nvPr/>
        </p:nvSpPr>
        <p:spPr>
          <a:xfrm>
            <a:off x="4530600" y="3925800"/>
            <a:ext cx="493920" cy="36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 flipH="1">
            <a:off x="5024160" y="3706920"/>
            <a:ext cx="1501560" cy="320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4e83c6"/>
                </a:solidFill>
                <a:latin typeface="Arial"/>
              </a:rPr>
              <a:t>EASE&amp;SEE Twitter - @easeandsee</a:t>
            </a: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1139760" y="2362320"/>
            <a:ext cx="6542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457200" y="1427040"/>
            <a:ext cx="82296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457200" y="2859120"/>
            <a:ext cx="82296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249200" y="2550960"/>
            <a:ext cx="67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HVALA NA PAŽNJI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ma 2" descr=""/>
          <p:cNvPicPr/>
          <p:nvPr/>
        </p:nvPicPr>
        <p:blipFill>
          <a:blip r:embed="rId1"/>
          <a:stretch/>
        </p:blipFill>
        <p:spPr>
          <a:xfrm>
            <a:off x="523800" y="1639800"/>
            <a:ext cx="80298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ITALIJA</a:t>
            </a:r>
            <a:r>
              <a:rPr b="1" lang="en-US" sz="3200" spc="-1" strike="noStrike">
                <a:solidFill>
                  <a:srgbClr val="da6d00"/>
                </a:solidFill>
                <a:latin typeface="Calibri"/>
              </a:rPr>
              <a:t>- MODEL SARADNJE</a:t>
            </a: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2114280"/>
            <a:ext cx="794556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RADNJA U OBLASTI SOCIJALNOG PREDUZETNIŠTVA POSTOJI IZMEĐU RAZLIČITIH PROFITNIH, NEPROFITNIH OGRANIZACIJA I JAVNE ADMINISTRACI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ARTNERSTVA SE KREIRAJU U CILJU REALIZACIJE PROJEKATA NA NACIONALNOM I LOKALNOM NIVOU I  RADI RAZMENE ISKUSTAVA IZMEĐU PARTNERA KOJI SU IZ RAZLIČITIH MILJ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ARTNER SU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AVNA ADMINIST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DR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EDUZETNICI I BAN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BLASTI DELOVANJA SU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ELENA EKONOMIJ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FARME SA ORGANSKOM PROIZVODNJO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BLAST SOCIJALNE POLIT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  <a:ea typeface="Arial"/>
              </a:rPr>
              <a:t>ODRŽIVOST MODELA </a:t>
            </a: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ELEMENTI KOJI SU POTREBNI ZA ODRŽIVOST SARADN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GARANTOVANA FINANSIJSKA SREDSTV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BEZBEĐENI KREDI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ENETO IMA NAJVEĆI BROJ BANAKA KOJE PODRŽAVAJU SOCIJALNO PREDUZETNIŠ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NGAŽOVANOST STRUČNJAKA IZ OBLA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MENA ISKUSTA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RADNJA IZMEĐU LOKALNIH VLASTI I MREŽE SOCIJALNIH PREDUZE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 SPORAZUM GRA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VENECIJA SA MREZOM SOCIJALNIH PREDUZEC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STOJANJE ZAKONSKOG OKV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RESKE OLAKŠ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453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400" spc="-1" strike="noStrike">
                <a:solidFill>
                  <a:srgbClr val="da6d00"/>
                </a:solidFill>
                <a:latin typeface="Verdana"/>
              </a:rPr>
              <a:t>PR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2093400"/>
            <a:ext cx="4040280" cy="403236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FINANSIJSKA PODRŠK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UGOROČNI PROGRAM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ORPINOS RAZVOJU KOORPORATIVNE ODGOVORNOST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RADNJA U REALIZACIJI PROJEK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4720" y="1453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400" spc="-1" strike="noStrike">
                <a:solidFill>
                  <a:srgbClr val="da6d00"/>
                </a:solidFill>
                <a:latin typeface="Verdana"/>
              </a:rPr>
              <a:t>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44720" y="2093400"/>
            <a:ext cx="4041720" cy="403236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LIKE U NAČINU FUNKCIONISANJ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OFITNE VS. NEPROFIT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GANIZACIJ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BIROKRATIJA I STROGI ZAK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da6d00"/>
                </a:solidFill>
                <a:latin typeface="Calibri"/>
              </a:rPr>
              <a:t>MOGU</a:t>
            </a:r>
            <a:r>
              <a:rPr b="1" lang="sr-Latn-CS" sz="3600" spc="-1" strike="noStrike">
                <a:solidFill>
                  <a:srgbClr val="da6d00"/>
                </a:solidFill>
                <a:latin typeface="Calibri"/>
              </a:rPr>
              <a:t>ĆNOST PRENOSA MODELA SARADNJE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778120"/>
            <a:ext cx="822960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VAJ MODEL SARADNJE UGLAVNOST KARAKTERIŠE SNAŽNO PARTNERSTVO IZMEĐU JAVNOG, PRIVATNOG, PROFITNOG I NEPROFITNOG SEKTORA I POSTOJANJA ZAJEDNIČKIH CIL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STALI ELEMENTI KOJI UTIČU NA PRENOS MODELA SARADN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ŠTO RAZVIJENIJE KOORPORATIVNO ODGOVORNO POSL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MOGUĆNOST I ŽELJA ZA POSLOVANJEM U OBLASTI SOCIJALNOG PREDUZETNIŠ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TVARANJE DISTRIKTA NA LOKALNOM NIVOU SA SOCIJALNIM PREDUZEĆIM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182520" y="2182680"/>
            <a:ext cx="75106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SOCIJALNA INKLUZIJ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OD POSLA DO KUĆ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SMEŠTAJ ZA RADNIKE IZ SOCIJALNO UGROŽENIH GRUPA IZ SOCIJALNIH PREDUZEĆA (SARADNJA NA LOKALNOM NIVOU IZMEĐU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KOOPERATIVE IL GRILLO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IZ VENECIJE, OPŠTINE TREVINJANO, BANKE ETIK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IZGRADNJA ZGRADE SA 10 STANOVA ZA SMEŠTAJ RADNIKA SA BLAŽIM PSIHIJATRIJSKIM OBOLJENJ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VREDNOST INVESTICIJE: 750.000 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150.000 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OD STRANE SOCIJALNIH PREDUZEĆA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600.000€ BANKA 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TEREN VLASNIŠTVO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IL GRILLO KOOPE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MASTER PLAN GRADA VENECIJE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(izmena plana uz podršku grada Venecij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509760" y="1658880"/>
            <a:ext cx="77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da6d00"/>
                </a:solidFill>
                <a:latin typeface="Calibri"/>
                <a:ea typeface="Arial"/>
              </a:rPr>
              <a:t>PRIMERI DOBRE PRAKSE- IL GRILLO COOPER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C:\Documents and Settings\svetlana.jovanovic\Desktop\bollino.jpg"/>
          <p:cNvPicPr/>
          <p:nvPr/>
        </p:nvPicPr>
        <p:blipFill>
          <a:blip r:embed="rId1"/>
          <a:stretch/>
        </p:blipFill>
        <p:spPr>
          <a:xfrm>
            <a:off x="7693200" y="2182680"/>
            <a:ext cx="11588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  <a:ea typeface="Arial"/>
              </a:rPr>
              <a:t>PRIMERI DOBRE PRAKSE – IN CONCERTO</a:t>
            </a:r>
            <a:br>
              <a:rPr sz="3200"/>
            </a:b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2268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18080" indent="-118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KONZORCIJUM IN CONCERTO”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UŽANJE ZDRAVSTVENE ZAŠTITE  I EDUKACIJE OSOB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 SA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KOM VRSTOM INVALIDITETA ILI I PRUŽANJE POMOĆI STARIJIM OSOB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POŠLJAVANJE I IKLUZIJA OSOBA IZ SOCIJALNO UGROŽENIH KATEGORIJA ( OBLASTI: ODRŽAVANJE ZELENIH POVRŠINA, ODRŽAVANJE ČISTOĆE, PRUŽANJE KETERING USLUGA; OBLAST TRANSPOR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25 ZADR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AVNE INSTITUCIJE, PRIVATNE FI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POŠLJAVA 1284 RAD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GODIŠNJI OBRT U 2011 je bio 51 000 000 €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00.000 €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OD UGOVORA SA PRIVATNIM FIRMAMA  I  2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00.000 €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OD UGOVORA SA JAVNIM PREDUZEĆIMA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DNOST / KAO KLASTER, IMA POLITIČKU I EKONOMSKU SNAGU U PREGOVORIMA SA LOKALNIM VLASTIMA I JAVNIM I PRIVATNIM PREDUZEĆ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58:37Z</dcterms:created>
  <dc:creator>User</dc:creator>
  <dc:description/>
  <dc:language>en-US</dc:language>
  <cp:lastModifiedBy>Svetlana Jovanovic</cp:lastModifiedBy>
  <dcterms:modified xsi:type="dcterms:W3CDTF">2014-02-26T15:50:00Z</dcterms:modified>
  <cp:revision>245</cp:revision>
  <dc:subject/>
  <dc:title>Diapositiva 1</dc:title>
</cp:coreProperties>
</file>