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</p:sldIdLst>
  <p:sldSz cx="9144000" cy="6858000"/>
  <p:notesSz cx="6670675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0" y="0"/>
            <a:ext cx="66708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dt" idx="19"/>
          </p:nvPr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sldImg"/>
          </p:nvPr>
        </p:nvSpPr>
        <p:spPr>
          <a:xfrm>
            <a:off x="855360" y="744480"/>
            <a:ext cx="4957560" cy="371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4e83c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body"/>
          </p:nvPr>
        </p:nvSpPr>
        <p:spPr>
          <a:xfrm>
            <a:off x="666360" y="4711680"/>
            <a:ext cx="53355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ftr" idx="20"/>
          </p:nvPr>
        </p:nvSpPr>
        <p:spPr>
          <a:xfrm>
            <a:off x="0" y="942192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 type="sldNum" idx="21"/>
          </p:nvPr>
        </p:nvSpPr>
        <p:spPr>
          <a:xfrm>
            <a:off x="3778200" y="942192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692EB9-F17D-4813-AAC8-4716E9310A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855720" y="744480"/>
            <a:ext cx="4957560" cy="371952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66360" y="4711680"/>
            <a:ext cx="53355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778200" y="942192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F6276F-7311-4F4F-B2DB-C6B036EC10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855720" y="744480"/>
            <a:ext cx="4957560" cy="371952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66360" y="4711680"/>
            <a:ext cx="53355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3778200" y="942192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6017FD-1790-4AB0-884C-85562BDB27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855720" y="744480"/>
            <a:ext cx="4957560" cy="371952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66360" y="4711680"/>
            <a:ext cx="53355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3778200" y="942192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721CC7-FB99-449F-A59E-6306099CF4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855720" y="744480"/>
            <a:ext cx="4957560" cy="371952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66360" y="4711680"/>
            <a:ext cx="53355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778200" y="942192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0480A0-2B31-41F3-B1A4-AB4227B7D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855720" y="744480"/>
            <a:ext cx="4957560" cy="371952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66360" y="4711680"/>
            <a:ext cx="53355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3778200" y="942192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028FF1-7A32-42C5-A568-404C1F7F10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855720" y="744480"/>
            <a:ext cx="4957560" cy="371952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66360" y="4711680"/>
            <a:ext cx="53355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3778200" y="942192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88EEB3-3552-4C34-A52D-4F0251E447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855720" y="744480"/>
            <a:ext cx="4957560" cy="371952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66360" y="4711680"/>
            <a:ext cx="53355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778200" y="942192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EBC833-A24A-4BE9-AF24-BDAE29289C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855720" y="744480"/>
            <a:ext cx="4957560" cy="371952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66360" y="4711680"/>
            <a:ext cx="53355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778200" y="942192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8A4162-E495-44B4-8B5F-8DBD5A602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855720" y="744480"/>
            <a:ext cx="4957560" cy="371952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66360" y="4711680"/>
            <a:ext cx="53355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778200" y="942192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AA145E-164F-4445-80A2-164FA2183D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855720" y="744480"/>
            <a:ext cx="4957560" cy="371952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66360" y="4711680"/>
            <a:ext cx="53355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778200" y="942192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13EBBC-46EF-4236-83B2-65B5035FA3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855720" y="744480"/>
            <a:ext cx="4957560" cy="371952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66360" y="4711680"/>
            <a:ext cx="53355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778200" y="942192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51DB1F-AB93-4EC8-B62A-5C2D97C4E9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855720" y="744480"/>
            <a:ext cx="4957560" cy="371952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66360" y="4711680"/>
            <a:ext cx="533556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778200" y="942192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C9629F-C933-4237-95A2-D0AE7D3B6D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855720" y="744480"/>
            <a:ext cx="4957560" cy="371952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66360" y="4711680"/>
            <a:ext cx="53355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3778200" y="942192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D4FB98-3460-4F6F-AB95-7B77CC2996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855720" y="744480"/>
            <a:ext cx="4957560" cy="371952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66360" y="4711680"/>
            <a:ext cx="53355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3778200" y="942192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DA1804-3101-4D84-B9AE-1B7354467F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855720" y="744480"/>
            <a:ext cx="4957560" cy="371952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66360" y="4711680"/>
            <a:ext cx="53355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3778200" y="942192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A5011A-1F23-418F-B693-A40027D120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855720" y="744480"/>
            <a:ext cx="4957560" cy="371952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66360" y="4711680"/>
            <a:ext cx="53355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3778200" y="942192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5714DF-E71B-46AF-B1A8-BAC01E0CB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855720" y="744480"/>
            <a:ext cx="4957560" cy="371952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66360" y="4711680"/>
            <a:ext cx="533556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778200" y="942192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56AD1C-0182-4C6F-9B92-7658A75B54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207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42544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207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2207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2544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42544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07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2207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2207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42544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42544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42544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48B2-370F-4810-80FF-7BF5DCB69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22078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8B00-1CA0-4CF9-BCC1-644A6D7C9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2078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CDF4-0F8C-4D5F-86C5-521FFD60E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078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078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9046-B476-4EB4-999C-EEBF6A279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2E43-6A02-4B98-B91F-527153B3E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427040"/>
            <a:ext cx="8229600" cy="31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8ED7-EA20-44EC-93BD-AFF49D8D6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07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22078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2544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4063-8C8B-45AD-921A-8819AC4A5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22078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2078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207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2544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B073-F901-4F8F-93B2-9CBF1A2C7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207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2207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2544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F22C-A011-4B5C-9E6C-36528620C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207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2544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DDA8-F228-4074-B8F9-397EA0C3A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207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2207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2544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2544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6B9B-C68A-4F4D-80CC-F484FBC31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07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2207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2207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2544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2544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2544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8911-8F38-423B-A51F-8B500CEBC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58554-1FAA-4922-B98C-13F902F40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22078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D05B4-CB4E-4D79-B0CC-B5CB412E2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22078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F3906-6CAB-4930-8CA0-B530ECBF6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078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078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FBB58-4A9F-4391-957E-E3D63F08C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7FC2A-0428-422D-BAC3-D256E799A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22078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1427040"/>
            <a:ext cx="8229600" cy="31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604B9-392B-48D7-AA15-211BBA369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207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22078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2544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7B513-8AA1-4F26-A6D0-210D8CCAD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2078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2207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42544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92F80-75AA-4ECF-9093-A1E2B2D06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207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2207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42544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32D69-DEF9-4E21-872E-5155BBCE0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207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42544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E6C7A-07C5-4B13-83FD-D98E22453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207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2207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42544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42544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15A71-1378-4C2D-B9A5-56BA9E654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207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2207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2207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42544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42544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42544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931EE-573A-47A1-B102-FDC98EE64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B7E5F-2713-48FC-9A59-DDCAF83E8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22078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A790C-3DB1-4DCF-BEE8-B392E09E8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22078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46289-2C85-4473-89AF-AD494F771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22078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22078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22078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22078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D7544-5A07-42F6-BB0A-B83CDFF36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78DE3-BAA4-452D-9084-15E069085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1427040"/>
            <a:ext cx="8229600" cy="31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80DA8-8296-423A-8099-67CE9A111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2207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22078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544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7D1DE-0E62-435C-AB68-73B2B856D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078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07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42544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2B956-30F1-426B-9808-8661BC39F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207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2207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42544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2E084-D7DA-4EAB-98E1-465F65D81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207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42544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2364D-DA0C-496F-8ACF-EF38A2903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2207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2207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2544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42544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E12E6-9B56-45B9-B3E1-CEC7DEF42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207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2207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2207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42544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42544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42544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C4922-4263-4C5A-9831-446FEF529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222A5-24B3-462E-AF28-59BE03A3C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22078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BA9C9-A315-431C-B81F-1412DB9F9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22078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DE510-59AE-4D00-A23D-83A834404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22078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22078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2812A-8A9A-482C-AB10-0FAED5F57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233A6-C020-418F-8268-2BA85CD7C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1427040"/>
            <a:ext cx="8229600" cy="31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9DF20-8E04-4BCA-81C8-A2D07E7AB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2207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22078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42544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D10BB-4F82-4C40-9EF7-2CC3F47BB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22078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2207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42544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BBC59-6048-4C90-8163-879801A24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2207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2207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544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EB1AD-3D95-4070-BCB0-C48A7FD68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07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42544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C1041-39C4-4242-9A92-5DB2ACEAB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2207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2207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2544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42544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66F4A-0949-4A1A-A760-C7C5C5917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1427040"/>
            <a:ext cx="8229600" cy="31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07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2207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2207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42544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42544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42544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C3EDE6-83D6-432D-A0F0-981EFF114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975AA3-3526-4B29-962C-F5903FA61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22078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BFC424-5C83-460D-8561-D2F703EA0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22078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A78602-DE56-459D-9573-DB349FDD2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22078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22078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FF8B22-501A-4FD3-803A-5BA375AA8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DAA821-06C6-423A-AFDD-3F7470A83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1427040"/>
            <a:ext cx="8229600" cy="31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7E68AD-43E7-4D2F-ADE1-A60BB210A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2207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22078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42544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2FD68F-A0FB-4219-BE20-4935E0FA0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22078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2207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42544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076801-1D21-42F8-AB61-88FC778E3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2207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2207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42544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EEC03-DF4B-4684-A0C5-7414B5759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2207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22078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42544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207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42544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BB3AA7-7485-40F1-B561-EB0B71283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2207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2207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42544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42544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A09C0C-8190-4A25-BEE6-09BA60528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2207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2207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2207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42544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42544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42544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FEA7FD-CE6D-4ACA-A32F-1568F238B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C6EFDA-5BB5-4BAA-AAFC-D1BE5B245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22078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DAD1E6-2C27-4EE9-90F0-58EC37B01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2078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BADDAE-0689-4397-B3FA-F3139B2B9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22078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22078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B7E092-85EA-4F53-8B0D-32D461C8A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C1A4EA-C5B2-496D-8465-E8510097B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1427040"/>
            <a:ext cx="8229600" cy="31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71165A-1954-47F4-836F-DC1DAD91C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2207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22078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2544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C91DED-5268-4BD6-8F9F-70F739E9B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2078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2207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42544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07880"/>
            <a:ext cx="40158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07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42544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3A739B-4EC8-4469-B257-E1CB6549A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07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07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42544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2CF3ED-8536-4E7E-B1E7-921916BFF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078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42544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00CA5D-DBDB-4E3D-8CED-C21288A7F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207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207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42544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42544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0DF396-633B-4EBC-A50E-61F843F4C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2207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2207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22078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42544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42544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4254480"/>
            <a:ext cx="264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5E3C45-3C66-4F39-A9C7-BE6308CCC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2207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2207880"/>
            <a:ext cx="40158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254480"/>
            <a:ext cx="822960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4e83c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078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>
              <a:spcBef>
                <a:spcPts val="700"/>
              </a:spcBef>
              <a:buClr>
                <a:srgbClr val="558ed5"/>
              </a:buClr>
              <a:buFont typeface="Lucida Grande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4e83c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22078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>
              <a:spcBef>
                <a:spcPts val="700"/>
              </a:spcBef>
              <a:buClr>
                <a:srgbClr val="558ed5"/>
              </a:buClr>
              <a:buFont typeface="Lucida Grande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528233-1C18-46EA-B496-707430D53242}" type="datetime">
              <a:rPr b="0" lang="it-IT" sz="1800" spc="-1" strike="noStrike">
                <a:solidFill>
                  <a:srgbClr val="000000"/>
                </a:solidFill>
                <a:latin typeface="Calibri"/>
              </a:rPr>
              <a:t>28/07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0712C6-33E7-43FD-834D-CB6B6BF9623E}" type="slidenum">
              <a:rPr b="0" lang="it-IT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4e83c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22078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>
              <a:spcBef>
                <a:spcPts val="700"/>
              </a:spcBef>
              <a:buClr>
                <a:srgbClr val="558ed5"/>
              </a:buClr>
              <a:buFont typeface="Lucida Grande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F04C56-6F6D-406B-BD52-82CEAA5F17F2}" type="datetime">
              <a:rPr b="0" lang="it-IT" sz="1800" spc="-1" strike="noStrike">
                <a:solidFill>
                  <a:srgbClr val="000000"/>
                </a:solidFill>
                <a:latin typeface="Calibri"/>
              </a:rPr>
              <a:t>28/07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0995BF-6CD8-4436-BC9B-D6C77E8C39E4}" type="slidenum">
              <a:rPr b="0" lang="it-IT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4e83c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22078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>
              <a:spcBef>
                <a:spcPts val="700"/>
              </a:spcBef>
              <a:buClr>
                <a:srgbClr val="558ed5"/>
              </a:buClr>
              <a:buFont typeface="Lucida Grande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B8D883-161A-4951-A55B-B39511CB6974}" type="datetime">
              <a:rPr b="0" lang="it-IT" sz="1800" spc="-1" strike="noStrike">
                <a:solidFill>
                  <a:srgbClr val="000000"/>
                </a:solidFill>
                <a:latin typeface="Calibri"/>
              </a:rPr>
              <a:t>28/07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C2ECA2-69B4-4E67-B8A7-2139A1FDF105}" type="slidenum">
              <a:rPr b="0" lang="it-IT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4e83c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22078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>
              <a:spcBef>
                <a:spcPts val="700"/>
              </a:spcBef>
              <a:buClr>
                <a:srgbClr val="558ed5"/>
              </a:buClr>
              <a:buFont typeface="Lucida Grande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C1C8EF-539A-4D8B-9B17-2D2A340978EA}" type="datetime">
              <a:rPr b="0" lang="it-IT" sz="1800" spc="-1" strike="noStrike">
                <a:solidFill>
                  <a:srgbClr val="000000"/>
                </a:solidFill>
                <a:latin typeface="Calibri"/>
              </a:rPr>
              <a:t>28/07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5CDA5D-C8B9-4BAC-B217-6D45BC9E5057}" type="slidenum">
              <a:rPr b="0" lang="it-IT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4e83c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22078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>
              <a:spcBef>
                <a:spcPts val="700"/>
              </a:spcBef>
              <a:buClr>
                <a:srgbClr val="558ed5"/>
              </a:buClr>
              <a:buFont typeface="Lucida Grande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561680-94FA-4567-9846-E71E21F21E57}" type="datetime">
              <a:rPr b="0" lang="it-IT" sz="1800" spc="-1" strike="noStrike">
                <a:solidFill>
                  <a:srgbClr val="000000"/>
                </a:solidFill>
                <a:latin typeface="Calibri"/>
              </a:rPr>
              <a:t>28/07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B8B1B7-107D-4AED-93E7-1CF1ACFC948C}" type="slidenum">
              <a:rPr b="0" lang="it-IT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4e83c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22078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>
              <a:spcBef>
                <a:spcPts val="700"/>
              </a:spcBef>
              <a:buClr>
                <a:srgbClr val="558ed5"/>
              </a:buClr>
              <a:buFont typeface="Lucida Grande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C4693E-C208-4DCB-8933-A4B797269F10}" type="datetime">
              <a:rPr b="0" lang="it-IT" sz="1800" spc="-1" strike="noStrike">
                <a:solidFill>
                  <a:srgbClr val="000000"/>
                </a:solidFill>
                <a:latin typeface="Calibri"/>
              </a:rPr>
              <a:t>28/07/26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it-IT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702243-AF76-4CB6-9F38-67C4B2B17530}" type="slidenum">
              <a:rPr b="0" lang="it-IT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80920" y="3459240"/>
            <a:ext cx="7577280" cy="861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RAZVOJ </a:t>
            </a:r>
            <a:r>
              <a:rPr b="1" lang="sr-Latn-CS" sz="3200" spc="-1" strike="noStrike">
                <a:solidFill>
                  <a:srgbClr val="ffffff"/>
                </a:solidFill>
                <a:latin typeface="Verdana"/>
              </a:rPr>
              <a:t>SOCIJALNO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G</a:t>
            </a:r>
            <a:r>
              <a:rPr b="1" lang="sr-Latn-CS" sz="3200" spc="-1" strike="noStrike">
                <a:solidFill>
                  <a:srgbClr val="ffffff"/>
                </a:solidFill>
                <a:latin typeface="Verdana"/>
              </a:rPr>
              <a:t> PREDUZETNIŠTV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 U JIE</a:t>
            </a:r>
            <a:r>
              <a:rPr b="1" lang="sr-Latn-CS" sz="32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3200"/>
            </a:br>
            <a:r>
              <a:rPr b="1" lang="it-IT" sz="2400" spc="-1" strike="noStrike">
                <a:solidFill>
                  <a:srgbClr val="ffffff"/>
                </a:solidFill>
                <a:latin typeface="Verdana"/>
              </a:rPr>
              <a:t>PREGLED MODELA SARADNJE  ITALIJA, AUSTRIJA, </a:t>
            </a:r>
            <a:br>
              <a:rPr sz="2400"/>
            </a:br>
            <a:r>
              <a:rPr b="1" lang="sr-Latn-CS" sz="2400" spc="-1" strike="noStrike">
                <a:solidFill>
                  <a:srgbClr val="ffffff"/>
                </a:solidFill>
                <a:latin typeface="Verdana"/>
              </a:rPr>
              <a:t>SLOVENIJA</a:t>
            </a:r>
            <a:endParaRPr b="1" lang="en-US" sz="24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390680" y="5209920"/>
            <a:ext cx="3163680" cy="398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Verdana"/>
              </a:rPr>
              <a:t>Beograd, 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26. februar </a:t>
            </a:r>
            <a:r>
              <a:rPr b="1" lang="hu-HU" sz="1400" spc="-1" strike="noStrike">
                <a:solidFill>
                  <a:srgbClr val="ffffff"/>
                </a:solidFill>
                <a:latin typeface="Verdana"/>
              </a:rPr>
              <a:t>201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54000" y="5209920"/>
            <a:ext cx="2907000" cy="398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Verdana"/>
              </a:rPr>
              <a:t>Svetlana Jovanović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,P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1"/>
          <p:cNvSpPr/>
          <p:nvPr/>
        </p:nvSpPr>
        <p:spPr>
          <a:xfrm>
            <a:off x="457200" y="1427040"/>
            <a:ext cx="822960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3200" spc="-1" strike="noStrike">
                <a:solidFill>
                  <a:srgbClr val="da6d00"/>
                </a:solidFill>
                <a:latin typeface="Calibri"/>
              </a:rPr>
              <a:t>MOGUĆNOST PRENOSA DOBRE PRAK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2"/>
          <p:cNvSpPr/>
          <p:nvPr/>
        </p:nvSpPr>
        <p:spPr>
          <a:xfrm>
            <a:off x="457200" y="2859120"/>
            <a:ext cx="8229600" cy="32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UKLJUČIVANJE KRAJNJIH KORISNIKA U SAMU RAZRADU PROJEKT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ZAJEDNIČKO PLANIRANJE PROJEKTA SA LOKALNIM PARTNERIM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RAZVOJ KOORPORATIVNE ODGOVORNOS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INOVATIVNA FINANSIJSKA PODRŠKA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RAZVOJ ETIČKOG BANKARSTVA I IZDAVANJA TZV. LOKALNIH SOCIJALNIH OBVEZNICA)</a:t>
            </a:r>
            <a:r>
              <a:rPr b="0" i="1" lang="en-US" sz="1800" spc="-1" strike="noStrike">
                <a:solidFill>
                  <a:srgbClr val="cc66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00"/>
              </a:spcBef>
              <a:buClr>
                <a:srgbClr val="558ed5"/>
              </a:buClr>
              <a:buFont typeface="Lucida Grande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CS" sz="3600" spc="-1" strike="noStrike">
                <a:solidFill>
                  <a:srgbClr val="da6d00"/>
                </a:solidFill>
                <a:latin typeface="Calibri"/>
              </a:rPr>
              <a:t>AUSTRIJA  - MODEL SARADNJE</a:t>
            </a: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22078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POSTOJEĆI ZAKONSKI OKVIR OMOGUĆAVA SARADNJU ALI NEMA POSEBNOG ZAKONA O SOCIJALNOM PREDUZETNIŠTV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Calibri"/>
              </a:rPr>
              <a:t>JAVNO SOCIJALNO PRIVATNO PARTNERSTV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REGISTROVATI  POTREBU ZA SOCIJALNIM PREDUZETNIŠTV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RAZVITI USLUGE I PROIZVODE U OBLASTI SOCIJALNOG PREDUZETNIŠT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IZGRADITI POTREBNU INFRASTRUKTURU I FINANSIRAN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PONUDITI USLUGE SOCIJALNOG PREDUZEĆ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456840" y="1453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CS" sz="3200" spc="-1" strike="noStrike">
                <a:solidFill>
                  <a:srgbClr val="da6d00"/>
                </a:solidFill>
                <a:latin typeface="Calibri"/>
              </a:rPr>
              <a:t>PRED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6840" y="2093400"/>
            <a:ext cx="4040280" cy="4032360"/>
          </a:xfrm>
          <a:prstGeom prst="rect">
            <a:avLst/>
          </a:prstGeom>
          <a:noFill/>
          <a:ln w="9360">
            <a:solidFill>
              <a:srgbClr val="e46c0a"/>
            </a:solidFill>
            <a:miter/>
          </a:ln>
        </p:spPr>
        <p:txBody>
          <a:bodyPr anchor="t">
            <a:normAutofit/>
          </a:bodyPr>
          <a:p>
            <a:pPr marL="179280" indent="-179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ZAJEDNIČKI CILJEV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SITUACIJA GDE SU SVI NA DOBIT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JASNA PODELA ZADATAKA I ODGOVOR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RAVNOMERNA RASPODELA PROFITA I RIZ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DONOŠENJE ZAJEDNIČKIH ODLU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ODRŽIVOST PARTNERST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POVERENJE IZMEĐU PARTNERA KOJI SARAĐUJ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700"/>
              </a:spcBef>
              <a:buClr>
                <a:srgbClr val="558ed5"/>
              </a:buClr>
              <a:buFont typeface="Lucida Grande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700"/>
              </a:spcBef>
              <a:buClr>
                <a:srgbClr val="558ed5"/>
              </a:buClr>
              <a:buFont typeface="Lucida Grande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644720" y="1453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CS" sz="3600" spc="-1" strike="noStrike">
                <a:solidFill>
                  <a:srgbClr val="da6d00"/>
                </a:solidFill>
                <a:latin typeface="Calibri"/>
              </a:rPr>
              <a:t>M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644720" y="2093400"/>
            <a:ext cx="4041720" cy="4032360"/>
          </a:xfrm>
          <a:prstGeom prst="rect">
            <a:avLst/>
          </a:prstGeom>
          <a:noFill/>
          <a:ln w="9360">
            <a:solidFill>
              <a:srgbClr val="e46c0a"/>
            </a:solidFill>
            <a:miter/>
          </a:ln>
        </p:spPr>
        <p:txBody>
          <a:bodyPr anchor="t">
            <a:normAutofit/>
          </a:bodyPr>
          <a:p>
            <a:pPr marL="179280" indent="-179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NEDOVOLJNO DOBRO UPRAVLJANJE SREDSTVI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NEDEFINISANI UGOVORI I SARADNJ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NEJASNI CILJEV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NERAVNOMERNA RASPODELA RIZIKA I DOBI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1"/>
          <p:cNvSpPr/>
          <p:nvPr/>
        </p:nvSpPr>
        <p:spPr>
          <a:xfrm>
            <a:off x="509760" y="2305080"/>
            <a:ext cx="8183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2"/>
          <p:cNvSpPr/>
          <p:nvPr/>
        </p:nvSpPr>
        <p:spPr>
          <a:xfrm>
            <a:off x="509760" y="1658880"/>
            <a:ext cx="773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CS" sz="3200" spc="-1" strike="noStrike">
                <a:solidFill>
                  <a:srgbClr val="da6d00"/>
                </a:solidFill>
                <a:latin typeface="Calibri"/>
                <a:ea typeface="Arial"/>
              </a:rPr>
              <a:t>PRIMERI DOBRE PRAK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3"/>
          <p:cNvSpPr/>
          <p:nvPr/>
        </p:nvSpPr>
        <p:spPr>
          <a:xfrm>
            <a:off x="509760" y="2454120"/>
            <a:ext cx="79056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PREVENTATIVE </a:t>
            </a:r>
            <a:r>
              <a:rPr b="1" lang="sr-Latn-CS" sz="1800" spc="-1" strike="noStrike">
                <a:solidFill>
                  <a:srgbClr val="000000"/>
                </a:solidFill>
                <a:latin typeface="Calibri"/>
                <a:ea typeface="Arial"/>
              </a:rPr>
              <a:t>FINANCIAL MANAGEMENT FOR YOUNG PEOPLE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– RISK</a:t>
            </a:r>
            <a:r>
              <a:rPr b="1" lang="sr-Latn-CS" sz="1800" spc="-1" strike="noStrike">
                <a:solidFill>
                  <a:srgbClr val="000000"/>
                </a:solidFill>
                <a:latin typeface="Calibri"/>
                <a:ea typeface="Arial"/>
              </a:rPr>
              <a:t>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  <a:ea typeface="Arial"/>
              </a:rPr>
              <a:t>PROJEKAT REALIZOVAN OD 2007-2009 UZ UČEŠĆE JAVNIH INSTITUCIJA, PRIVATNIH FIRMI I SOCIJALNIH PREDUZEĆA ( JAVNO- PRIVATNO-SOCIJALNO PARTNERSTVO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  <a:ea typeface="Arial"/>
              </a:rPr>
              <a:t>CILJ PROJEKT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  <a:ea typeface="Arial"/>
              </a:rPr>
              <a:t>OSPOSOBLJAVANJE MLADIH LJUDI DA ZAPOČNU SAMOSTALNI ŽIVOT BEZ FINANSIJSKIH ILI ZDRAVSTVENIH RIZIKA ( izbegavanje bolesti zavisnosti kroz edukaciju), RAZVIJANJA SPOSOBNOSTI AUTONOMNOG ODLUČIVANJA  I UPRAVLJANJA FINANSIJSKIM SREDSTVIM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anagement for young people – RISK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54120"/>
            <a:ext cx="822960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CS" sz="3200" spc="-1" strike="noStrike">
                <a:solidFill>
                  <a:srgbClr val="da6d00"/>
                </a:solidFill>
                <a:latin typeface="Calibri"/>
                <a:ea typeface="Arial"/>
              </a:rPr>
              <a:t>PRIMERI DOBRE PRAKSE </a:t>
            </a:r>
            <a:br>
              <a:rPr sz="3200"/>
            </a:br>
            <a:endParaRPr b="1" lang="en-US" sz="32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6840" y="2395440"/>
            <a:ext cx="5318280" cy="33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de-AT" sz="2800" spc="-1" strike="noStrike">
                <a:solidFill>
                  <a:srgbClr val="000000"/>
                </a:solidFill>
                <a:latin typeface="Calibri"/>
              </a:rPr>
              <a:t>ÖKOSERVICE GMB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STVARANJE RADNIH MESTA ZA OSOBE IZ SOCIJALNO UGROŽENIH KATEGORIJA, I OSOBE KOJE SU DUGO NEZAPOSLE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CILJ: INTEGRACIJA NA TRŽIŠTE 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spcBef>
                <a:spcPts val="700"/>
              </a:spcBef>
              <a:buClr>
                <a:srgbClr val="558ed5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NOVI POSLOVI (NIŠE) U OBLASTI ZAŠTITE ŽIVOTNE SRED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3" descr=""/>
          <p:cNvPicPr/>
          <p:nvPr/>
        </p:nvPicPr>
        <p:blipFill>
          <a:blip r:embed="rId1"/>
          <a:stretch/>
        </p:blipFill>
        <p:spPr>
          <a:xfrm>
            <a:off x="6000840" y="2043000"/>
            <a:ext cx="2685960" cy="20131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" descr=""/>
          <p:cNvPicPr/>
          <p:nvPr/>
        </p:nvPicPr>
        <p:blipFill>
          <a:blip r:embed="rId2"/>
          <a:stretch/>
        </p:blipFill>
        <p:spPr>
          <a:xfrm>
            <a:off x="6000840" y="4218120"/>
            <a:ext cx="2685960" cy="21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1"/>
          <p:cNvSpPr/>
          <p:nvPr/>
        </p:nvSpPr>
        <p:spPr>
          <a:xfrm>
            <a:off x="457200" y="1427040"/>
            <a:ext cx="822960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3200" spc="-1" strike="noStrike">
                <a:solidFill>
                  <a:srgbClr val="da6d00"/>
                </a:solidFill>
                <a:latin typeface="Calibri"/>
              </a:rPr>
              <a:t>MOGUĆNOST PRENOSA DOBRE PRAK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2"/>
          <p:cNvSpPr/>
          <p:nvPr/>
        </p:nvSpPr>
        <p:spPr>
          <a:xfrm>
            <a:off x="457200" y="2859120"/>
            <a:ext cx="8229600" cy="32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ODRŽIVO  PARTNERSTV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MOGUĆNOST ZA NOVA RADNA MESTA U OBLASTI ZAŠTITE ŽIVOTNE SREDINE KAO AKTUELNE TEM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CS" sz="3600" spc="-1" strike="noStrike">
                <a:solidFill>
                  <a:srgbClr val="da6d00"/>
                </a:solidFill>
                <a:latin typeface="Arial"/>
                <a:ea typeface="Arial"/>
              </a:rPr>
              <a:t>PRIMERI DOBRE PRAKSE</a:t>
            </a: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56840" y="2114280"/>
            <a:ext cx="4878360" cy="40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Calibri"/>
              </a:rPr>
              <a:t>SPECIJALNA SKOLA I DNEVNI BORAV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Calibri"/>
              </a:rPr>
              <a:t>ZA LICA SA HENDIKEPOM IZ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GLEISDO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CILJ: IZGRADNJA I FUNKCIONISANJE CENT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PREDNOSTI SARADNJE IZMEĐU JAVNOG- PRIVATNOG I SOCIJALNOG PREDUZEĆA  SU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NIŽE KAMATNE STOPE ZA KRED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IZGRADNJA KOMPLETNO NOVE ZGRADE U CENTRU GRA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4" descr=""/>
          <p:cNvPicPr/>
          <p:nvPr/>
        </p:nvPicPr>
        <p:blipFill>
          <a:blip r:embed="rId1"/>
          <a:stretch/>
        </p:blipFill>
        <p:spPr>
          <a:xfrm>
            <a:off x="5403960" y="2408400"/>
            <a:ext cx="358452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CS" sz="3600" spc="-1" strike="noStrike">
                <a:solidFill>
                  <a:srgbClr val="da6d00"/>
                </a:solidFill>
                <a:latin typeface="Calibri"/>
                <a:ea typeface="Arial"/>
              </a:rPr>
              <a:t>REZULTAT </a:t>
            </a: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pic>
        <p:nvPicPr>
          <p:cNvPr id="333" name="Picture 5" descr=""/>
          <p:cNvPicPr/>
          <p:nvPr/>
        </p:nvPicPr>
        <p:blipFill>
          <a:blip r:embed="rId1"/>
          <a:stretch/>
        </p:blipFill>
        <p:spPr>
          <a:xfrm>
            <a:off x="457200" y="3168720"/>
            <a:ext cx="3881520" cy="241596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4" descr=""/>
          <p:cNvPicPr/>
          <p:nvPr/>
        </p:nvPicPr>
        <p:blipFill>
          <a:blip r:embed="rId2"/>
          <a:stretch/>
        </p:blipFill>
        <p:spPr>
          <a:xfrm>
            <a:off x="4708440" y="3168720"/>
            <a:ext cx="3625920" cy="2415960"/>
          </a:xfrm>
          <a:prstGeom prst="rect">
            <a:avLst/>
          </a:prstGeom>
          <a:ln w="0">
            <a:noFill/>
          </a:ln>
        </p:spPr>
      </p:pic>
      <p:sp>
        <p:nvSpPr>
          <p:cNvPr id="335" name="Rectangle 5"/>
          <p:cNvSpPr/>
          <p:nvPr/>
        </p:nvSpPr>
        <p:spPr>
          <a:xfrm>
            <a:off x="162000" y="2114640"/>
            <a:ext cx="8439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Grande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  <a:ea typeface="Arial"/>
              </a:rPr>
              <a:t>NOVA ZGRA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Grande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  <a:ea typeface="Arial"/>
              </a:rPr>
              <a:t>SITUACIJA U KOJOJ SU SVI DOBITNICI/ KORISNICI SU I GRAD I SOCIJALNO PREDUZEĆE CHANCE B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1"/>
          <p:cNvSpPr/>
          <p:nvPr/>
        </p:nvSpPr>
        <p:spPr>
          <a:xfrm>
            <a:off x="509760" y="2305080"/>
            <a:ext cx="8183520" cy="30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2"/>
          <p:cNvSpPr/>
          <p:nvPr/>
        </p:nvSpPr>
        <p:spPr>
          <a:xfrm>
            <a:off x="509760" y="1658880"/>
            <a:ext cx="773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CS" sz="3600" spc="-1" strike="noStrike">
                <a:solidFill>
                  <a:srgbClr val="da6d00"/>
                </a:solidFill>
                <a:latin typeface="Calibri"/>
                <a:ea typeface="Arial"/>
              </a:rPr>
              <a:t>SLOVENIJA PRIMERI DOBRE PRAKS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4"/>
          <p:cNvSpPr/>
          <p:nvPr/>
        </p:nvSpPr>
        <p:spPr>
          <a:xfrm>
            <a:off x="658800" y="2338560"/>
            <a:ext cx="5359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Calibri"/>
              </a:rPr>
              <a:t>S AKADEMIJA- 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AKADEMIJA ZA KULINARSTVO KOJA JE NAMENJENA OBUČAVANJU I ZAPOŠLJAVANJU OSOBA IZ SOCIJALNO UGROŽENIH KATEGORIJA. PROJEKAT KOJI JE REALIZOVAN UZ DOPRINOS FONDACIJE „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FIFTEEN FOUNDATION“JAMIE OLIVER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-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 MESECI OBUKE (10-15 OSOB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5" descr=""/>
          <p:cNvPicPr/>
          <p:nvPr/>
        </p:nvPicPr>
        <p:blipFill>
          <a:blip r:embed="rId1"/>
          <a:stretch/>
        </p:blipFill>
        <p:spPr>
          <a:xfrm>
            <a:off x="6356520" y="2563920"/>
            <a:ext cx="2336760" cy="156528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6" descr=""/>
          <p:cNvPicPr/>
          <p:nvPr/>
        </p:nvPicPr>
        <p:blipFill>
          <a:blip r:embed="rId2"/>
          <a:stretch/>
        </p:blipFill>
        <p:spPr>
          <a:xfrm>
            <a:off x="6356520" y="4575240"/>
            <a:ext cx="2408040" cy="180504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7" descr=""/>
          <p:cNvPicPr/>
          <p:nvPr/>
        </p:nvPicPr>
        <p:blipFill>
          <a:blip r:embed="rId3"/>
          <a:stretch/>
        </p:blipFill>
        <p:spPr>
          <a:xfrm>
            <a:off x="3394080" y="4575240"/>
            <a:ext cx="262404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1"/>
          <p:cNvSpPr/>
          <p:nvPr/>
        </p:nvSpPr>
        <p:spPr>
          <a:xfrm>
            <a:off x="509760" y="2305080"/>
            <a:ext cx="8183520" cy="30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2"/>
          <p:cNvSpPr/>
          <p:nvPr/>
        </p:nvSpPr>
        <p:spPr>
          <a:xfrm>
            <a:off x="509760" y="1658880"/>
            <a:ext cx="773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CS" sz="2800" spc="-1" strike="noStrike">
                <a:solidFill>
                  <a:srgbClr val="da6d00"/>
                </a:solidFill>
                <a:latin typeface="Calibri"/>
                <a:ea typeface="Arial"/>
              </a:rPr>
              <a:t>NAREDNE AKTIVNOSTI PKS</a:t>
            </a:r>
            <a:r>
              <a:rPr b="1" lang="en-US" sz="2800" spc="-1" strike="noStrike">
                <a:solidFill>
                  <a:srgbClr val="da6d00"/>
                </a:solidFill>
                <a:latin typeface="Calibri"/>
                <a:ea typeface="Arial"/>
              </a:rPr>
              <a:t> U OKVIRU PROJEKTA </a:t>
            </a:r>
            <a:r>
              <a:rPr b="1" lang="sr-Latn-CS" sz="2800" spc="-1" strike="noStrike">
                <a:solidFill>
                  <a:srgbClr val="da6d00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4"/>
          <p:cNvSpPr/>
          <p:nvPr/>
        </p:nvSpPr>
        <p:spPr>
          <a:xfrm>
            <a:off x="658800" y="2338560"/>
            <a:ext cx="535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2" descr="http://www.globalproject.info/public/resources/images/max/Bridge-the-gap.jpg"/>
          <p:cNvPicPr/>
          <p:nvPr/>
        </p:nvPicPr>
        <p:blipFill>
          <a:blip r:embed="rId1"/>
          <a:stretch/>
        </p:blipFill>
        <p:spPr>
          <a:xfrm>
            <a:off x="5545080" y="2500200"/>
            <a:ext cx="3148200" cy="2338560"/>
          </a:xfrm>
          <a:prstGeom prst="rect">
            <a:avLst/>
          </a:prstGeom>
          <a:ln w="0">
            <a:noFill/>
          </a:ln>
        </p:spPr>
      </p:pic>
      <p:sp>
        <p:nvSpPr>
          <p:cNvPr id="346" name="TextBox 8"/>
          <p:cNvSpPr/>
          <p:nvPr/>
        </p:nvSpPr>
        <p:spPr>
          <a:xfrm>
            <a:off x="658800" y="2500200"/>
            <a:ext cx="45385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658440" y="2500200"/>
            <a:ext cx="488628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100000"/>
              </a:lnSpc>
              <a:spcBef>
                <a:spcPts val="700"/>
              </a:spcBef>
              <a:buClr>
                <a:srgbClr val="558ed5"/>
              </a:buClr>
              <a:buFont typeface="Lucida Grande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KREIRANJE BAZE PODATAKA  O USPEŠNIM MODELIMA SARADNJE I MOGUĆIM IZVORIMA FINANSIRANJA  U OBLASTI SOCIJALNOG PREDUZETNIŠT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700"/>
              </a:spcBef>
              <a:buClr>
                <a:srgbClr val="558ed5"/>
              </a:buClr>
              <a:buFont typeface="Lucida Grande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SEMINARI I RADIONICE NA TEMU SOCIJALNOG PREDUZETNIŠT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700"/>
              </a:spcBef>
              <a:buClr>
                <a:srgbClr val="558ed5"/>
              </a:buClr>
              <a:buFont typeface="Lucida Grande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BILATERALNI SUSRETI PREDSTAVNIKA SOCIJALNIH PREDUZEĆA I KOMPANIJA IZ PROFITNOG SEKTORA </a:t>
            </a:r>
            <a:r>
              <a:rPr b="1" lang="sr-Latn-CS" sz="1800" spc="-1" strike="noStrike">
                <a:solidFill>
                  <a:srgbClr val="000000"/>
                </a:solidFill>
                <a:latin typeface="Calibri"/>
              </a:rPr>
              <a:t>( 30. MARTA 2014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426680"/>
            <a:ext cx="8229600" cy="94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CS" sz="3200" spc="-1" strike="noStrike">
                <a:solidFill>
                  <a:srgbClr val="da6d00"/>
                </a:solidFill>
                <a:latin typeface="Calibri"/>
              </a:rPr>
              <a:t>RAZVOJ SOCIJALNOG PREDUZETNIŠTVA </a:t>
            </a:r>
            <a:br>
              <a:rPr sz="3200"/>
            </a:br>
            <a:r>
              <a:rPr b="1" lang="en-US" sz="3200" spc="-1" strike="noStrike">
                <a:solidFill>
                  <a:srgbClr val="da6d00"/>
                </a:solidFill>
                <a:latin typeface="Calibri"/>
              </a:rPr>
              <a:t>EASE </a:t>
            </a:r>
            <a:r>
              <a:rPr b="1" lang="sr-Latn-CS" sz="3200" spc="-1" strike="noStrike">
                <a:solidFill>
                  <a:srgbClr val="da6d00"/>
                </a:solidFill>
                <a:latin typeface="Calibri"/>
              </a:rPr>
              <a:t>&amp; SEE</a:t>
            </a:r>
            <a:r>
              <a:rPr b="1" lang="en-US" sz="3200" spc="-1" strike="noStrike">
                <a:solidFill>
                  <a:srgbClr val="da6d00"/>
                </a:solidFill>
                <a:latin typeface="Calibri"/>
              </a:rPr>
              <a:t> PROJEKAT</a:t>
            </a:r>
            <a:endParaRPr b="1" lang="en-US" sz="32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2800440"/>
            <a:ext cx="8229600" cy="33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CS" sz="1800" spc="-1" strike="noStrike">
                <a:solidFill>
                  <a:srgbClr val="da6d00"/>
                </a:solidFill>
                <a:latin typeface="Calibri"/>
              </a:rPr>
              <a:t>PARTNERI U </a:t>
            </a:r>
            <a:r>
              <a:rPr b="1" lang="en-US" sz="1800" spc="-1" strike="noStrike">
                <a:solidFill>
                  <a:srgbClr val="da6d00"/>
                </a:solidFill>
                <a:latin typeface="Calibri"/>
              </a:rPr>
              <a:t>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GRAD VENECIJA  (REGION VENETO) -ITALIJ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AGENCIJA ZA PREVENCIJU OTPADA ARGA - AUSTRIJ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REGIONALNA AGENCIJA SEVERNA PRIMORSKA  (GORICIJA ) SLOVENIJ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PODUNAVSKA BIZNIS ASOCIJACIJA  (MAĐARSK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ITALIJANSKO- BUGARSKA KOMORA ( BUGARSK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600" spc="-1" strike="noStrike">
                <a:solidFill>
                  <a:srgbClr val="4e83c6"/>
                </a:solidFill>
                <a:latin typeface="Arial"/>
              </a:rPr>
              <a:t>www.easeandsee.eu</a:t>
            </a: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pic>
        <p:nvPicPr>
          <p:cNvPr id="349" name="Picture 4" descr=""/>
          <p:cNvPicPr/>
          <p:nvPr/>
        </p:nvPicPr>
        <p:blipFill>
          <a:blip r:embed="rId1"/>
          <a:stretch/>
        </p:blipFill>
        <p:spPr>
          <a:xfrm>
            <a:off x="725400" y="2208240"/>
            <a:ext cx="7507440" cy="4219560"/>
          </a:xfrm>
          <a:prstGeom prst="rect">
            <a:avLst/>
          </a:prstGeom>
          <a:ln w="0">
            <a:noFill/>
          </a:ln>
        </p:spPr>
      </p:pic>
      <p:sp>
        <p:nvSpPr>
          <p:cNvPr id="350" name="Oval 5"/>
          <p:cNvSpPr/>
          <p:nvPr/>
        </p:nvSpPr>
        <p:spPr>
          <a:xfrm>
            <a:off x="5135400" y="5234040"/>
            <a:ext cx="963720" cy="47628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5" descr=""/>
          <p:cNvPicPr/>
          <p:nvPr/>
        </p:nvPicPr>
        <p:blipFill>
          <a:blip r:embed="rId1"/>
          <a:stretch/>
        </p:blipFill>
        <p:spPr>
          <a:xfrm>
            <a:off x="1663560" y="1752480"/>
            <a:ext cx="5986440" cy="4372200"/>
          </a:xfrm>
          <a:prstGeom prst="rect">
            <a:avLst/>
          </a:prstGeom>
          <a:ln w="0">
            <a:noFill/>
          </a:ln>
        </p:spPr>
      </p:pic>
      <p:sp>
        <p:nvSpPr>
          <p:cNvPr id="352" name="Line 7"/>
          <p:cNvSpPr/>
          <p:nvPr/>
        </p:nvSpPr>
        <p:spPr>
          <a:xfrm>
            <a:off x="3554280" y="1752480"/>
            <a:ext cx="547920" cy="385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9"/>
          <p:cNvSpPr/>
          <p:nvPr/>
        </p:nvSpPr>
        <p:spPr>
          <a:xfrm>
            <a:off x="4448160" y="1752480"/>
            <a:ext cx="657360" cy="385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600" spc="-1" strike="noStrike">
                <a:solidFill>
                  <a:srgbClr val="4e83c6"/>
                </a:solidFill>
                <a:latin typeface="Arial"/>
              </a:rPr>
              <a:t>EASE&amp;SEE na Facebook-u</a:t>
            </a: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pic>
        <p:nvPicPr>
          <p:cNvPr id="355" name="Picture 12" descr=""/>
          <p:cNvPicPr/>
          <p:nvPr/>
        </p:nvPicPr>
        <p:blipFill>
          <a:blip r:embed="rId1"/>
          <a:stretch/>
        </p:blipFill>
        <p:spPr>
          <a:xfrm>
            <a:off x="2521080" y="2114640"/>
            <a:ext cx="4005000" cy="4465440"/>
          </a:xfrm>
          <a:prstGeom prst="rect">
            <a:avLst/>
          </a:prstGeom>
          <a:ln w="0">
            <a:noFill/>
          </a:ln>
        </p:spPr>
      </p:pic>
      <p:sp>
        <p:nvSpPr>
          <p:cNvPr id="356" name="Oval 13"/>
          <p:cNvSpPr/>
          <p:nvPr/>
        </p:nvSpPr>
        <p:spPr>
          <a:xfrm>
            <a:off x="4530600" y="3925800"/>
            <a:ext cx="493920" cy="36036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14"/>
          <p:cNvSpPr/>
          <p:nvPr/>
        </p:nvSpPr>
        <p:spPr>
          <a:xfrm flipH="1">
            <a:off x="5024160" y="3706920"/>
            <a:ext cx="1501560" cy="320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4e83c6"/>
                </a:solidFill>
                <a:latin typeface="Arial"/>
              </a:rPr>
              <a:t>EASE&amp;SEE Twitter - @easeandsee</a:t>
            </a:r>
            <a:endParaRPr b="1" lang="en-US" sz="3200" spc="-1" strike="noStrike">
              <a:solidFill>
                <a:srgbClr val="4e83c6"/>
              </a:solidFill>
              <a:latin typeface="Arial"/>
            </a:endParaRPr>
          </a:p>
        </p:txBody>
      </p:sp>
      <p:pic>
        <p:nvPicPr>
          <p:cNvPr id="359" name="Picture 6" descr=""/>
          <p:cNvPicPr/>
          <p:nvPr/>
        </p:nvPicPr>
        <p:blipFill>
          <a:blip r:embed="rId1"/>
          <a:stretch/>
        </p:blipFill>
        <p:spPr>
          <a:xfrm>
            <a:off x="1139760" y="2362320"/>
            <a:ext cx="6542280" cy="40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1"/>
          <p:cNvSpPr/>
          <p:nvPr/>
        </p:nvSpPr>
        <p:spPr>
          <a:xfrm>
            <a:off x="457200" y="1427040"/>
            <a:ext cx="8229600" cy="46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2"/>
          <p:cNvSpPr/>
          <p:nvPr/>
        </p:nvSpPr>
        <p:spPr>
          <a:xfrm>
            <a:off x="457200" y="2859120"/>
            <a:ext cx="8229600" cy="32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spcBef>
                <a:spcPts val="700"/>
              </a:spcBef>
              <a:buClr>
                <a:srgbClr val="558ed5"/>
              </a:buClr>
              <a:buFont typeface="Lucida Grande"/>
              <a:buChar char="›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700"/>
              </a:spcBef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3"/>
          <p:cNvSpPr/>
          <p:nvPr/>
        </p:nvSpPr>
        <p:spPr>
          <a:xfrm>
            <a:off x="1249200" y="2550960"/>
            <a:ext cx="674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Verdana"/>
              </a:rPr>
              <a:t>HVALA NA PAŽNJI 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Diagramma 2" descr=""/>
          <p:cNvPicPr/>
          <p:nvPr/>
        </p:nvPicPr>
        <p:blipFill>
          <a:blip r:embed="rId1"/>
          <a:stretch/>
        </p:blipFill>
        <p:spPr>
          <a:xfrm>
            <a:off x="523800" y="1639800"/>
            <a:ext cx="8029800" cy="45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CS" sz="3200" spc="-1" strike="noStrike">
                <a:solidFill>
                  <a:srgbClr val="da6d00"/>
                </a:solidFill>
                <a:latin typeface="Calibri"/>
              </a:rPr>
              <a:t>ITALIJA</a:t>
            </a:r>
            <a:r>
              <a:rPr b="1" lang="en-US" sz="3200" spc="-1" strike="noStrike">
                <a:solidFill>
                  <a:srgbClr val="da6d00"/>
                </a:solidFill>
                <a:latin typeface="Calibri"/>
              </a:rPr>
              <a:t>- MODEL SARADNJE</a:t>
            </a:r>
            <a:endParaRPr b="1" lang="en-US" sz="32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6840" y="2114280"/>
            <a:ext cx="794556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SARADNJA U OBLASTI SOCIJALNOG PREDUZETNIŠTVA POSTOJI IZMEĐU RAZLIČITIH PROFITNIH, NEPROFITNIH OGRANIZACIJA I JAVNE ADMINISTRACIJ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PARTNERSTVA SE KREIRAJU U CILJU REALIZACIJE PROJEKATA NA NACIONALNOM I LOKALNOM NIVOU I  RADI RAZMENE ISKUSTAVA IZMEĐU PARTNERA KOJI SU IZ RAZLIČITIH MILJE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PARTNER SU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JAVNA ADMINISTRA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ZADRU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PREDUZETNICI I BANK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OBLASTI DELOVANJA SU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ZELENA EKONOMIJA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FARME SA ORGANSKOM PROIZVODNJOM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OBLAST SOCIJALNE POLIT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558ed5"/>
              </a:buClr>
              <a:buFont typeface="Lucida Grande"/>
              <a:buChar char="›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6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CS" sz="3200" spc="-1" strike="noStrike">
                <a:solidFill>
                  <a:srgbClr val="da6d00"/>
                </a:solidFill>
                <a:latin typeface="Calibri"/>
                <a:ea typeface="Arial"/>
              </a:rPr>
              <a:t>ODRŽIVOST MODELA </a:t>
            </a:r>
            <a:endParaRPr b="1" lang="en-US" sz="32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2207880"/>
            <a:ext cx="8229600" cy="39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ELEMENTI KOJI SU POTREBNI ZA ODRŽIVOST SARADNJ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GARANTOVANA FINANSIJSKA SREDSTVA 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OBEZBEĐENI KREDITI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VENETO IMA NAJVEĆI BROJ BANAKA KOJE PODRŽAVAJU SOCIJALNO PREDUZETNIŠT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ANGAŽOVANOST STRUČNJAKA IZ OBLAS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RAZMENA ISKUSTAVA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SARADNJA IZMEĐU LOKALNIH VLASTI I MREŽE SOCIJALNIH PREDUZEĆ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( SPORAZUM GRA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VENECIJA SA MREZOM SOCIJALNIH PREDUZECA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POSTOJANJE ZAKONSKOG OKVI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PORESKE OLAKŠ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456840" y="1453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CS" sz="2400" spc="-1" strike="noStrike">
                <a:solidFill>
                  <a:srgbClr val="da6d00"/>
                </a:solidFill>
                <a:latin typeface="Verdana"/>
              </a:rPr>
              <a:t>PRED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6840" y="2093400"/>
            <a:ext cx="4040280" cy="4032360"/>
          </a:xfrm>
          <a:prstGeom prst="rect">
            <a:avLst/>
          </a:prstGeom>
          <a:noFill/>
          <a:ln w="9360">
            <a:solidFill>
              <a:srgbClr val="e46c0a"/>
            </a:solidFill>
            <a:miter/>
          </a:ln>
        </p:spPr>
        <p:txBody>
          <a:bodyPr anchor="t">
            <a:normAutofit/>
          </a:bodyPr>
          <a:p>
            <a:pPr marL="179280" indent="-179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FINANSIJSKA PODRŠK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DUGOROČNI PROGRAMI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DORPINOS RAZVOJU KOORPORATIVNE ODGOVORNOSTI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SARADNJA U REALIZACIJI PROJEK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644720" y="1453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CS" sz="2400" spc="-1" strike="noStrike">
                <a:solidFill>
                  <a:srgbClr val="da6d00"/>
                </a:solidFill>
                <a:latin typeface="Verdana"/>
              </a:rPr>
              <a:t>M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644720" y="2093400"/>
            <a:ext cx="4041720" cy="4032360"/>
          </a:xfrm>
          <a:prstGeom prst="rect">
            <a:avLst/>
          </a:prstGeom>
          <a:noFill/>
          <a:ln w="9360">
            <a:solidFill>
              <a:srgbClr val="e46c0a"/>
            </a:solidFill>
            <a:miter/>
          </a:ln>
        </p:spPr>
        <p:txBody>
          <a:bodyPr anchor="t">
            <a:normAutofit/>
          </a:bodyPr>
          <a:p>
            <a:pPr marL="179280" indent="-179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RAZLIKE U NAČINU FUNKCIONISANJA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PROFITNE VS. NEPROFITN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RGANIZACIJ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BIROKRATIJA I STROGI ZAK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da6d00"/>
                </a:solidFill>
                <a:latin typeface="Calibri"/>
              </a:rPr>
              <a:t>MOGU</a:t>
            </a:r>
            <a:r>
              <a:rPr b="1" lang="sr-Latn-CS" sz="3600" spc="-1" strike="noStrike">
                <a:solidFill>
                  <a:srgbClr val="da6d00"/>
                </a:solidFill>
                <a:latin typeface="Calibri"/>
              </a:rPr>
              <a:t>ĆNOST PRENOSA MODELA SARADNJE</a:t>
            </a:r>
            <a:endParaRPr b="1" lang="en-US" sz="36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7200" y="2778120"/>
            <a:ext cx="8229600" cy="33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OVAJ MODEL SARADNJE UGLAVNOST KARAKTERIŠE SNAŽNO PARTNERSTVO IZMEĐU JAVNOG, PRIVATNOG, PROFITNOG I NEPROFITNOG SEKTORA I POSTOJANJA ZAJEDNIČKIH CILJ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OSTALI ELEMENTI KOJI UTIČU NA PRENOS MODELA SARADNJ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ŠTO RAZVIJENIJE KOORPORATIVNO ODGOVORNO POSLOVA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MOGUĆNOST I ŽELJA ZA POSLOVANJEM U OBLASTI SOCIJALNOG PREDUZETNIŠT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STVARANJE DISTRIKTA NA LOKALNOM NIVOU SA SOCIJALNIM PREDUZEĆIMA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1"/>
          <p:cNvSpPr/>
          <p:nvPr/>
        </p:nvSpPr>
        <p:spPr>
          <a:xfrm>
            <a:off x="182520" y="2182680"/>
            <a:ext cx="7510680" cy="41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1600"/>
            </a:br>
            <a:r>
              <a:rPr b="1" lang="it-IT" sz="18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sr-Latn-CS" sz="1800" spc="-1" strike="noStrike">
                <a:solidFill>
                  <a:srgbClr val="000000"/>
                </a:solidFill>
                <a:latin typeface="Calibri"/>
                <a:ea typeface="Arial"/>
              </a:rPr>
              <a:t>SOCIJALNA INKLUZIJA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r>
              <a:rPr b="1" lang="sr-Latn-CS" sz="1800" spc="-1" strike="noStrike">
                <a:solidFill>
                  <a:srgbClr val="000000"/>
                </a:solidFill>
                <a:latin typeface="Calibri"/>
                <a:ea typeface="Arial"/>
              </a:rPr>
              <a:t>OD POSLA DO KUĆE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sr-Latn-CS" sz="1800" spc="-1" strike="noStrike">
                <a:solidFill>
                  <a:srgbClr val="000000"/>
                </a:solidFill>
                <a:latin typeface="Calibri"/>
                <a:ea typeface="Arial"/>
              </a:rPr>
              <a:t>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  <a:ea typeface="Arial"/>
              </a:rPr>
              <a:t>SMEŠTAJ ZA RADNIKE IZ SOCIJALNO UGROŽENIH GRUPA IZ SOCIJALNIH PREDUZEĆA (SARADNJA NA LOKALNOM NIVOU IZMEĐU </a:t>
            </a:r>
            <a:r>
              <a:rPr b="1" lang="sr-Latn-CS" sz="1800" spc="-1" strike="noStrike">
                <a:solidFill>
                  <a:srgbClr val="000000"/>
                </a:solidFill>
                <a:latin typeface="Calibri"/>
                <a:ea typeface="Arial"/>
              </a:rPr>
              <a:t>KOOPERATIVE IL GRILLO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  <a:ea typeface="Arial"/>
              </a:rPr>
              <a:t>IZ VENECIJE, OPŠTINE TREVINJANO, BANKE ETIK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  <a:ea typeface="Arial"/>
              </a:rPr>
              <a:t>IZGRADNJA ZGRADE SA 10 STANOVA ZA SMEŠTAJ RADNIKA SA BLAŽIM PSIHIJATRIJSKIM OBOLJENJI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  <a:ea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  <a:ea typeface="Arial"/>
              </a:rPr>
              <a:t>VREDNOST INVESTICIJE: 750.000 €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Calibri"/>
                <a:ea typeface="Arial"/>
              </a:rPr>
              <a:t>150.000 €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Calibri"/>
                <a:ea typeface="Arial"/>
              </a:rPr>
              <a:t>OD STRANE SOCIJALNIH PREDUZEĆA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1" lang="sr-Latn-CS" sz="1800" spc="-1" strike="noStrike">
                <a:solidFill>
                  <a:srgbClr val="000000"/>
                </a:solidFill>
                <a:latin typeface="Calibri"/>
                <a:ea typeface="Arial"/>
              </a:rPr>
              <a:t>600.000€ BANKA ET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  <a:ea typeface="Arial"/>
              </a:rPr>
              <a:t>TEREN VLASNIŠTVO </a:t>
            </a:r>
            <a:r>
              <a:rPr b="1" lang="sr-Latn-CS" sz="1800" spc="-1" strike="noStrike">
                <a:solidFill>
                  <a:srgbClr val="000000"/>
                </a:solidFill>
                <a:latin typeface="Calibri"/>
                <a:ea typeface="Arial"/>
              </a:rPr>
              <a:t>IL GRILLO KOOPER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  <a:ea typeface="Arial"/>
              </a:rPr>
              <a:t>MASTER PLAN GRADA VENECIJE </a:t>
            </a:r>
            <a:r>
              <a:rPr b="1" lang="sr-Latn-CS" sz="1800" spc="-1" strike="noStrike">
                <a:solidFill>
                  <a:srgbClr val="000000"/>
                </a:solidFill>
                <a:latin typeface="Calibri"/>
                <a:ea typeface="Arial"/>
              </a:rPr>
              <a:t>(izmena plana uz podršku grada Venecij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2"/>
          <p:cNvSpPr/>
          <p:nvPr/>
        </p:nvSpPr>
        <p:spPr>
          <a:xfrm>
            <a:off x="509760" y="1658880"/>
            <a:ext cx="773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CS" sz="2800" spc="-1" strike="noStrike">
                <a:solidFill>
                  <a:srgbClr val="da6d00"/>
                </a:solidFill>
                <a:latin typeface="Calibri"/>
                <a:ea typeface="Arial"/>
              </a:rPr>
              <a:t>PRIMERI DOBRE PRAKSE- IL GRILLO COOPERATI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4" descr="C:\Documents and Settings\svetlana.jovanovic\Desktop\bollino.jpg"/>
          <p:cNvPicPr/>
          <p:nvPr/>
        </p:nvPicPr>
        <p:blipFill>
          <a:blip r:embed="rId1"/>
          <a:stretch/>
        </p:blipFill>
        <p:spPr>
          <a:xfrm>
            <a:off x="7693200" y="2182680"/>
            <a:ext cx="1158840" cy="13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427040"/>
            <a:ext cx="822960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CS" sz="3200" spc="-1" strike="noStrike">
                <a:solidFill>
                  <a:srgbClr val="da6d00"/>
                </a:solidFill>
                <a:latin typeface="Calibri"/>
                <a:ea typeface="Arial"/>
              </a:rPr>
              <a:t>PRIMERI DOBRE PRAKSE – IN CONCERTO</a:t>
            </a:r>
            <a:br>
              <a:rPr sz="3200"/>
            </a:br>
            <a:endParaRPr b="1" lang="en-US" sz="3200" spc="-1" strike="noStrike">
              <a:solidFill>
                <a:srgbClr val="4e83c6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226836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118080" indent="-118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sr-Latn-CS" sz="1800" spc="-1" strike="noStrike">
                <a:solidFill>
                  <a:srgbClr val="000000"/>
                </a:solidFill>
                <a:latin typeface="Calibri"/>
              </a:rPr>
              <a:t>KONZORCIJUM IN CONCERTO”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PRUŽANJE ZDRAVSTVENE ZAŠTITE  I EDUKACIJE OSOB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 SA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NEKOM VRSTOM INVALIDITETA ILI I PRUŽANJE POMOĆI STARIJIM OSOBA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8080" indent="-118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ZAPOŠLJAVANJE I IKLUZIJA OSOBA IZ SOCIJALNO UGROŽENIH KATEGORIJA ( OBLASTI: ODRŽAVANJE ZELENIH POVRŠINA, ODRŽAVANJE ČISTOĆE, PRUŽANJE KETERING USLUGA; OBLAST TRANSPOR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8080" indent="-118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sr-Latn-C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25 ZADRUG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8080" indent="-118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JAVNE INSTITUCIJE, PRIVATNE FIR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8080" indent="-118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ZAPOŠLJAVA 1284 RADNIK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8080" indent="-118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GODIŠNJI OBRT U 2011 je bio 51 000 000 € (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000.000 €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OD UGOVORA SA PRIVATNIM FIRMAMA  I  26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000.000 €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OD UGOVORA SA JAVNIM PREDUZEĆIMA)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8080" indent="-118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8080" indent="-118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8080" indent="-118080"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8080" indent="-118080"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8080" indent="-118080" algn="just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8080" indent="-118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PREDNOST / KAO KLASTER, IMA POLITIČKU I EKONOMSKU SNAGU U PREGOVORIMA SA LOKALNIM VLASTIMA I JAVNIM I PRIVATNIM PREDUZEĆ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8080" indent="-118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12:58:37Z</dcterms:created>
  <dc:creator>User</dc:creator>
  <dc:description/>
  <dc:language>en-US</dc:language>
  <cp:lastModifiedBy>Svetlana Jovanovic</cp:lastModifiedBy>
  <dcterms:modified xsi:type="dcterms:W3CDTF">2014-02-26T15:50:00Z</dcterms:modified>
  <cp:revision>245</cp:revision>
  <dc:subject/>
  <dc:title>Diapositiva 1</dc:title>
</cp:coreProperties>
</file>