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022-DE92-4A04-A14F-18388805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5BD-E377-49E0-A2E2-2C5626B004FE}" type="slidenum"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4E0-11C6-4AAC-A8AC-BA43A78B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23CA-D665-4B2F-A8FC-4B15049B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821-5C80-4659-953B-01FB957D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LN_SRB_LOGO_wide"/>
          <p:cNvPicPr/>
          <p:nvPr/>
        </p:nvPicPr>
        <p:blipFill>
          <a:blip r:embed="rId2"/>
          <a:stretch/>
        </p:blipFill>
        <p:spPr>
          <a:xfrm>
            <a:off x="501480" y="5715000"/>
            <a:ext cx="479592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ngc.rs/" TargetMode="External"/><Relationship Id="rId2" Type="http://schemas.openxmlformats.org/officeDocument/2006/relationships/hyperlink" Target="mailto:globalni.dogovor@pks.rs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hyperlink" Target="mailto:globalni.dogovor@pks.rs" TargetMode="External"/><Relationship Id="rId5" Type="http://schemas.openxmlformats.org/officeDocument/2006/relationships/hyperlink" Target="mailto:globalni.dogovor@pks.rs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0" y="-82440"/>
            <a:ext cx="9144000" cy="533376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Godi</a:t>
            </a:r>
            <a:r>
              <a:rPr b="0" i="1" lang="sr-Latn-R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šnja skupšt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Globalnog dogovora u Srbiji</a:t>
            </a: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Beograd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2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ovembar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 2016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LN_SRB_LOGO_wide"/>
          <p:cNvPicPr/>
          <p:nvPr/>
        </p:nvPicPr>
        <p:blipFill>
          <a:blip r:embed="rId1"/>
          <a:stretch/>
        </p:blipFill>
        <p:spPr>
          <a:xfrm>
            <a:off x="2362320" y="5562720"/>
            <a:ext cx="594036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2280" y="1426680"/>
            <a:ext cx="42004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Nedelja parlamentizma – Predstavljanje Agende održivog razvoja 2030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, novembra 2016.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799160" y="3781440"/>
            <a:ext cx="350676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762120" y="317988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rcRect l="12924" t="0" r="0" b="0"/>
          <a:stretch/>
        </p:blipFill>
        <p:spPr>
          <a:xfrm>
            <a:off x="5181480" y="1846440"/>
            <a:ext cx="3251160" cy="2098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LN_SRB_LOGO_wide"/>
          <p:cNvPicPr/>
          <p:nvPr/>
        </p:nvPicPr>
        <p:blipFill>
          <a:blip r:embed="rId3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Članovi Upravnog odbora u Srbiji i sekreterijata mreže učestvovali su u projektu Američke  privredne komore</a:t>
            </a:r>
            <a:r>
              <a:rPr b="1" lang="sr-R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“AmChamps –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mladi lideri promena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1" lang="sr-RS" sz="18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01480" y="1371600"/>
            <a:ext cx="8226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100" spc="-1" strike="noStrike">
                <a:solidFill>
                  <a:srgbClr val="063a4c"/>
                </a:solidFill>
                <a:latin typeface="Calibri"/>
              </a:rPr>
              <a:t>Konferencija o filantropiji – septembar 2016. godine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U organizaciji Fondacije Divac, Evanđeoskog udruženja studenata i mreže Globalnog dogovor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č Džeri Tvombli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38280" y="3659040"/>
            <a:ext cx="3810240" cy="2689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2280" y="1426680"/>
            <a:ext cx="42004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878360" y="4546440"/>
            <a:ext cx="3733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4" descr="LN_SRB_LOGO_wide"/>
          <p:cNvPicPr/>
          <p:nvPr/>
        </p:nvPicPr>
        <p:blipFill>
          <a:blip r:embed="rId1"/>
          <a:stretch/>
        </p:blipFill>
        <p:spPr>
          <a:xfrm>
            <a:off x="7010280" y="6262560"/>
            <a:ext cx="2738520" cy="47808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2"/>
          <p:cNvSpPr/>
          <p:nvPr/>
        </p:nvSpPr>
        <p:spPr>
          <a:xfrm>
            <a:off x="552600" y="1143000"/>
            <a:ext cx="81406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Konferencija posvećena Agendi za održivi razvoj do 2030. godine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- održana u organizaciji SeCons-a, april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Škola poslovnih veština</a:t>
            </a:r>
            <a:r>
              <a:rPr b="1" lang="en-US" sz="16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– u organizaciji Mreže za poslovni razvoj, maj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Konferencija CSR Srbija 2016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- panel o ciljevima održivog razvoja u organizaciji Color Press grupe, maj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Tribina povodom obeležavanja Međunarodonog dana zaštite životne sredine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 - u organizaciji Univerzitetskog kluba UNESKA, jun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Okrugli sto „Da li su compliane programi u svetu efektivni ili papirni“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, uz pružanje podrške događaju od strane kompanije Ernst and Young i kompanije iz BIH Net Consulting – oktobar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plan za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2800" y="1981080"/>
            <a:ext cx="88390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mocija deset principa Globalnog dogovor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mocija Ciljeva održivog razvo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širenje članstv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Podrška aktivnijem učešću pojedinh članica u projektima i aktivnostima usmerenih na primenu odabranih ciljeva održivosti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Organizovanje tematskih seminara i radionica, u cilju razmene dobre prakse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užanje podrške članicama u izradi Izvešatja o napretku i Izveštaja o angažovanju i promocija značaja pisanja izvešta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nicijativa za poboljšanje regulative u vezi sa poreskim olakšicama za donacije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Nastavak programa Bankarski službenik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 “</a:t>
            </a: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Finansijska edukacija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rganizacija konferencije o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nkluzivnom zapošljavanju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rganizacija događaja –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SDGs izazov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u saradnji sa UNDP i volonterska akic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90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Ciljevi održivog razv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7" descr="C:\Documents and Settings\sanja.bunic\My Documents\My Pictures\SDGS.jpg"/>
          <p:cNvPicPr/>
          <p:nvPr/>
        </p:nvPicPr>
        <p:blipFill>
          <a:blip r:embed="rId1"/>
          <a:stretch/>
        </p:blipFill>
        <p:spPr>
          <a:xfrm>
            <a:off x="1433520" y="1371600"/>
            <a:ext cx="6276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3276720"/>
            <a:ext cx="8304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 algn="ctr">
              <a:spcBef>
                <a:spcPts val="349"/>
              </a:spcBef>
              <a:spcAft>
                <a:spcPts val="601"/>
              </a:spcAft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  <a:p>
            <a:pPr marL="396720" indent="-396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ZAHVALJUJEMO SVIM AKTIVNIM ČLANICAMA MREŽE GLOBOALNOG DOGOVORA U SRBIJI KOJE SU PRUŽILE PODRŠKU U REALIZACIJI DOGAĐAJA U 2016, GODINI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362320" y="4981680"/>
            <a:ext cx="4572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ung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globalni.dogov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@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pk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4" descr="LN_SRB_LOGO_wide"/>
          <p:cNvPicPr/>
          <p:nvPr/>
        </p:nvPicPr>
        <p:blipFill>
          <a:blip r:embed="rId6"/>
          <a:stretch/>
        </p:blipFill>
        <p:spPr>
          <a:xfrm>
            <a:off x="3352680" y="228600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Ciljevi održivog razv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7" descr="C:\Documents and Settings\sanja.bunic\My Documents\My Pictures\SDGS.jpg"/>
          <p:cNvPicPr/>
          <p:nvPr/>
        </p:nvPicPr>
        <p:blipFill>
          <a:blip r:embed="rId1"/>
          <a:stretch/>
        </p:blipFill>
        <p:spPr>
          <a:xfrm>
            <a:off x="1433520" y="1371600"/>
            <a:ext cx="6276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Misij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63a4c"/>
                </a:solidFill>
                <a:latin typeface="Calibri"/>
                <a:ea typeface="Calibri"/>
              </a:rPr>
              <a:t>Misija mreže Globalnog dogovora u Srbiji je promovisanje koncepta društvene odgovornosti i 10 Globalnih principa</a:t>
            </a:r>
            <a:r>
              <a:rPr b="0" lang="sr-CS" sz="2100" spc="-1" strike="noStrike">
                <a:solidFill>
                  <a:srgbClr val="063a4c"/>
                </a:solidFill>
                <a:latin typeface="Calibri"/>
                <a:ea typeface="Calibri"/>
              </a:rPr>
              <a:t>, </a:t>
            </a:r>
            <a:r>
              <a:rPr b="0" lang="sr-Latn-RS" sz="2100" spc="-1" strike="noStrike">
                <a:solidFill>
                  <a:srgbClr val="063a4c"/>
                </a:solidFill>
                <a:latin typeface="Calibri"/>
                <a:ea typeface="Calibri"/>
              </a:rPr>
              <a:t>sa ciljem da se ohrabri i razvije njihova implementacija kroz</a:t>
            </a:r>
            <a:r>
              <a:rPr b="0" lang="en-US" sz="2100" spc="-1" strike="noStrike">
                <a:solidFill>
                  <a:srgbClr val="063a4c"/>
                </a:solidFill>
                <a:latin typeface="Calibri"/>
                <a:ea typeface="Calibri"/>
              </a:rPr>
              <a:t>: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Proces učenj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Razmenu primera dobre prakse i</a:t>
            </a:r>
            <a:r>
              <a:rPr b="0" lang="sr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iskustava između članica i javnosti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Osnivanjem partnerstv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Stvaranjem mogućnosti za dijalog zainteresovanih stran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7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Čla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91960" y="1198080"/>
            <a:ext cx="792504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Trenutno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1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13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članica koje zapošljavaju preko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8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0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00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zaposlenih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kompanija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3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nevladinih organizaci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8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slovnih udružen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akademskih instituci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2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rad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sindikat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2590920" y="2954160"/>
            <a:ext cx="4952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Calibri"/>
              </a:rPr>
              <a:t>Nove članice u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 201</a:t>
            </a:r>
            <a:r>
              <a:rPr b="1" lang="sr-Latn-RS" sz="1800" spc="-1" strike="noStrike">
                <a:solidFill>
                  <a:srgbClr val="ff0000"/>
                </a:solidFill>
                <a:latin typeface="Calibri"/>
              </a:rPr>
              <a:t>6. godini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Geo Ar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Wine Ne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Sek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Imaginarium Sikre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Nelt co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Oazis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Sekop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Asocijacija za promovisanje inkluzije Srb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Centar za istraživanje i studije turizma Novi S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Vojvođanska banka AD Novi S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Unesko univerzitet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Univerzitet Privredna akademija u Novom Sa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Moj lepi 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438280" y="2954160"/>
            <a:ext cx="3886200" cy="3294360"/>
          </a:xfrm>
          <a:prstGeom prst="rect">
            <a:avLst/>
          </a:prstGeom>
          <a:noFill/>
          <a:ln w="381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609480" y="1066680"/>
            <a:ext cx="7180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Radna grupa za promociju ciljeva održivog razv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88880" y="167652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a4c"/>
                </a:solidFill>
                <a:latin typeface="Calibri"/>
              </a:rPr>
              <a:t>Fokus</a:t>
            </a:r>
            <a:r>
              <a:rPr b="1" lang="sr-Latn-CS" sz="16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Promocija Ciljeva od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živog razvoj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koji su usvojeni na Generalnoj skupštini UN septembra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201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n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dnom grupom predsedava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Privredna komora Srbij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304920" y="3133800"/>
            <a:ext cx="7995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149480" y="382428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rcRect l="0" t="11888" r="0" b="0"/>
          <a:stretch/>
        </p:blipFill>
        <p:spPr>
          <a:xfrm>
            <a:off x="4419720" y="3824280"/>
            <a:ext cx="311292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C:\Documents and Settings\sanja.bunic\My Documents\My Pictures\SDGS.jpg"/>
          <p:cNvPicPr/>
          <p:nvPr/>
        </p:nvPicPr>
        <p:blipFill>
          <a:blip r:embed="rId3"/>
          <a:stretch/>
        </p:blipFill>
        <p:spPr>
          <a:xfrm>
            <a:off x="6205680" y="2401920"/>
            <a:ext cx="1444320" cy="1206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3160" y="1598400"/>
            <a:ext cx="81946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Publikacija </a:t>
            </a:r>
            <a:r>
              <a:rPr b="1" lang="sr-RS" sz="1800" spc="-1" strike="noStrike">
                <a:solidFill>
                  <a:srgbClr val="e68c08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“</a:t>
            </a: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Kako naše organizacije ostvaraju Ciljeve održivog razvoja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www.ungc.rs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Ana i Vlade Divac fondac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Asocijacija za promovisanje inkluzije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Banka Intes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Victoria Consultin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Vojvodjanska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Delta Holdin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Erste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Jubmes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KPM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Narodna banka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Nelt Serbi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Privredna komora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RES Fondac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Secons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elekom Srb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elenor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itan cementara Kosjerić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Fondacija centar za demokratiju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Fraktal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Quadra Graphic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43" name="Picture 4" descr="C:\Users\mpavlovic\AppData\Local\Microsoft\Windows\Temporary Internet Files\Content.Outlook\6UKZ8P44\brosura UNGD 2.jpg"/>
          <p:cNvPicPr/>
          <p:nvPr/>
        </p:nvPicPr>
        <p:blipFill>
          <a:blip r:embed="rId1"/>
          <a:stretch/>
        </p:blipFill>
        <p:spPr>
          <a:xfrm>
            <a:off x="5511960" y="3276720"/>
            <a:ext cx="3030480" cy="2246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2680" y="1598400"/>
            <a:ext cx="8686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tpisivanje Protokola o saradnji između Globalnog dogovora i Zajednice ekonomskih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avno-birotehničkih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trgovinskih i ugostiteljsko – turističkih škola Republike Srbije i koncipiranje plana saradnje za školsku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201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/2017. godinu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aksa za učenike trećeg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/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četvrtog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zreda u filijalama banak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-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članic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dne grup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seta učenika Centru za posetioce Narodne banke Srbij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nje za učenke 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–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či članice Radne grup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30800" y="1447920"/>
            <a:ext cx="686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Saradnja sa sedam ekonomskih škola u kojima postoji obrazovni profil</a:t>
            </a:r>
            <a:r>
              <a:rPr b="0" lang="sr-Latn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“Bankarski službenik”</a:t>
            </a:r>
            <a:r>
              <a:rPr b="0" lang="sr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838080" y="40496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5916600" y="4060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3"/>
          <a:stretch/>
        </p:blipFill>
        <p:spPr>
          <a:xfrm>
            <a:off x="3376440" y="4060800"/>
            <a:ext cx="2440080" cy="1832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1480" y="1598400"/>
            <a:ext cx="822672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nje za profesore i učenike trećeg razreda bankarskog profil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800600" cy="26668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4"/>
          <p:cNvSpPr/>
          <p:nvPr/>
        </p:nvSpPr>
        <p:spPr>
          <a:xfrm>
            <a:off x="609480" y="5859360"/>
            <a:ext cx="822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1143000"/>
            <a:ext cx="432576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drška u realizaciji događaja 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„Kako se primenjuju zakoni o zaštiti uzbunjivača</a:t>
            </a:r>
            <a:r>
              <a:rPr b="1" lang="sr-RS" sz="16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američka i srpska iskustva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“, u organizaciji Pištaljke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mart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 201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n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5181480" y="2647800"/>
            <a:ext cx="3237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Organizacija pet sastanaka sa temom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Borba protiv korupcije </a:t>
            </a:r>
            <a:r>
              <a:rPr b="1" lang="sr-CS" sz="1600" spc="-1" strike="noStrike">
                <a:solidFill>
                  <a:srgbClr val="063a4c"/>
                </a:solidFill>
                <a:latin typeface="Calibri"/>
              </a:rPr>
              <a:t>–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 kako mi to radimo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“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uz podršku Privredne komore Srb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4" descr="LN_SRB_LOGO_wide"/>
          <p:cNvPicPr/>
          <p:nvPr/>
        </p:nvPicPr>
        <p:blipFill>
          <a:blip r:embed="rId1"/>
          <a:stretch/>
        </p:blipFill>
        <p:spPr>
          <a:xfrm>
            <a:off x="7061040" y="6012000"/>
            <a:ext cx="2738520" cy="476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1066680" y="3836880"/>
            <a:ext cx="3657600" cy="2292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3"/>
          <a:srcRect l="0" t="19481" r="0" b="0"/>
          <a:stretch/>
        </p:blipFill>
        <p:spPr>
          <a:xfrm>
            <a:off x="5181480" y="1424160"/>
            <a:ext cx="3738600" cy="24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1920" y="1427040"/>
            <a:ext cx="506412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Učešće člana Upravnog odbora na: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Regionalnim konsultacijama o primeni UN Agende 2030. i podršci održivom razvoju za zemlje centralne i istočne Evrope, u organizaciji  - Regionalnog centra za zaštitu životne sredine – April 2016. godine u Mađarskoj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šnjem sastanku evropskih mreža GDUN (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Local European Networks (LNs) of the United Nations Global Compact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5" name="Picture 5" descr="C:\Users\mpavlovic\AppData\Local\Microsoft\Windows\Temporary Internet Files\Content.Outlook\6UKZ8P44\20160504_105800-1.jpg"/>
          <p:cNvPicPr/>
          <p:nvPr/>
        </p:nvPicPr>
        <p:blipFill>
          <a:blip r:embed="rId1"/>
          <a:stretch/>
        </p:blipFill>
        <p:spPr>
          <a:xfrm>
            <a:off x="422280" y="4203720"/>
            <a:ext cx="3352680" cy="2427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:\Users\mpavlovic\AppData\Local\Microsoft\Windows\Temporary Internet Files\Content.Outlook\6UKZ8P44\st andrea 3.jpg"/>
          <p:cNvPicPr/>
          <p:nvPr/>
        </p:nvPicPr>
        <p:blipFill>
          <a:blip r:embed="rId2"/>
          <a:stretch/>
        </p:blipFill>
        <p:spPr>
          <a:xfrm>
            <a:off x="4083120" y="4218120"/>
            <a:ext cx="3079800" cy="2423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:\Users\mpavlovic\AppData\Local\Microsoft\Windows\Temporary Internet Files\Content.Outlook\6UKZ8P44\st Andrea 1.jpg"/>
          <p:cNvPicPr/>
          <p:nvPr/>
        </p:nvPicPr>
        <p:blipFill>
          <a:blip r:embed="rId3"/>
          <a:stretch/>
        </p:blipFill>
        <p:spPr>
          <a:xfrm>
            <a:off x="5943600" y="1523880"/>
            <a:ext cx="2517840" cy="2347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 Bunic</cp:lastModifiedBy>
  <cp:lastPrinted>2015-12-11T09:59:19Z</cp:lastPrinted>
  <dcterms:modified xsi:type="dcterms:W3CDTF">2016-11-29T08:18:57Z</dcterms:modified>
  <cp:revision>604</cp:revision>
  <dc:subject/>
  <dc:title>PowerPoint-Präsentation</dc:title>
</cp:coreProperties>
</file>