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CB57-933F-47A9-B2C7-E478BA713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BF9-471D-4ECB-ACF9-DF05736A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210-6E3E-49B5-B491-658630D9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9831-70F5-4ECA-A2B9-E6D0F6D8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8E5-5AE2-4DB5-82B7-C2A21737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EAC-566F-4EF8-9A01-854728F6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452F-AA5D-4662-B38E-D90559FA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EA5-BAC7-4242-AF46-C16CA207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C10D-474C-4131-B232-8571AD65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B24E-62F4-4F54-9970-0219B1DB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DB7-0EEB-488F-B6C0-CE1AA75F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63B-8E2C-4301-BDD9-98DF2501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2725-01C3-486C-8C2B-E716B6BBE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62320" y="685800"/>
            <a:ext cx="426852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7200" y="25146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УНАПРЕЂЕНИ СТАЛНИ ДИЈАЛОГ ЕУ - СРБ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ило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праве за безбедност и здравље на рад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Београд 26.04.2012.год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rbija-mali-grb-2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23680" cy="1676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817560" cy="1081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295280" y="12952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права за безбедност и здравље на ра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094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Министарство рада и социјалне полити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Висока техничка школа струковних студија у Зрењанину – Здраво лице равнице  - Ризици су око нас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Агенција за хемикалије – Нови прописи у области класификације, обележавања и паковања хемикалиј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Институт за превентиву - 7.Међународна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Ex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трибин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XIX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Мајски сусрет заштите Србиј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Унија послодаваца Србије - Безбедност и здравље на раду у дрвопрерађивачкој индустриј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Европска конференција на тему достојанстеног рад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Савез самосталних синдиката Србије -  Савез самосталних синдиката Војводине «Искуства синдиката и других социјалних партнера и других институција у системском уређивању осигурања од повреда на раду, професионалних обољења и обољења у вези са радом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Пројекат «Изградња партнерства за смањење неформалне економије у Србији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Висока школа струковних студија –Београдска политехника – У сусрет европским интеграцијама у области безбедности и здравља на раду у заштити животне средин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и међународни сусрет студената екологије и заштите животне средине – Заштитијада 2011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CAB-6A91-4588-8C98-B3C5240742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ети  подзаконски пропис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.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годин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описи које је донела Влада Републике Србије </a:t>
            </a:r>
            <a:r>
              <a:rPr b="1" lang="sr-C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 складу са НПИ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1. Уредба о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евентивним мерама за безбедан и здрав рад при експлоатацији минералних сировина дубинским бушотинама</a:t>
            </a:r>
            <a:r>
              <a:rPr b="1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</a:t>
            </a:r>
            <a:r>
              <a:rPr b="1" lang="sr-Latn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„Службени гласник РС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”</a:t>
            </a:r>
            <a:r>
              <a:rPr b="1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број 61/10),</a:t>
            </a:r>
            <a:r>
              <a:rPr b="0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склађивање са: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путство</a:t>
            </a:r>
            <a:r>
              <a:rPr b="0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број 92/91/ЕЕЗ Европског парламента и Савета о минимуму захтева за побољшање безбедности и здравља на раду запослених на вађењу минералних сировина у дубинским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бушотинам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2. Уредба о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евентивним мерама за безбедан и здрав </a:t>
            </a:r>
            <a:r>
              <a:rPr b="1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рад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и подземној и површинској експлоатацији минералних сировина</a:t>
            </a:r>
            <a:r>
              <a:rPr b="1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</a:t>
            </a:r>
            <a:r>
              <a:rPr b="1" lang="sr-Latn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„Службени гласник РС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”</a:t>
            </a:r>
            <a:r>
              <a:rPr b="1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број 65/10),</a:t>
            </a:r>
            <a:r>
              <a:rPr b="0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склађивање са: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путство</a:t>
            </a:r>
            <a:r>
              <a:rPr b="0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број 92/104/ЕЕЗ Европског парламента и Савета о минимуму захтева за побољшање безбедности и здравља на раду запослених  на површинским и дубинским коповима индустрије минерала</a:t>
            </a:r>
            <a:r>
              <a:rPr b="0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3C42-703A-4B91-B4A8-F559D6BDD6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Уредба 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тивним мерама за безбедан и здрав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 на пловилима која обављају риболов 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Службени гласник Р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рој 70/10)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склађивање с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тств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рој 93/103/ЕЗ Европског парламента и Савета о минимуму захтева безбедности и здравља на раду при раду на пловилима за улов рибе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E9E-7636-4B88-A9AD-0AF51C454F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описи које је доне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инистарство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 складу са НПИ</a:t>
            </a:r>
            <a:r>
              <a:rPr b="1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Правилник о обезбеђивању ознака за безбедност и здравље на раду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„Службени гласник Р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”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број 95/10),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склађивање са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Упутство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 Савет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број 92/58/ЕЕЗ о минимуму захтева з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обезбеђивање ознака за безбедност и/или здравље запослених на рад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авилник о превентивним мерама за безбедан и здрав рад при излагању биолошким штетностима (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Службени гласник Р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рој 96/10),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клађивање са: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тством број 2000/54/ЕЗ Европског парламента и Савета о заштити запослених од ризика због изложености биолошким агенсима на радном месту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2C0-C266-41E9-AC08-02995AB6546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ети  подзаконски пропис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годин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ик о превентивним мерама за безбедан и здрав рад при излагањ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брацијам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,,Службени гласник Р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број 9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1)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нспонован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тство број 2002/44/ЕЗ Европског парламента и Савета о минимуму заштите запослених од ризика насталих услед излагања физичким штетностима (вибрације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ик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ревентивним мерама за безбедан и здрав рад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 излагању буцу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„Службени гласник РС”, број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96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анспонова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тство број 200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ЕЗ Европског парламента и Савет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ези са излагањем запослених ризицима проузрокованим физичким факторима-бук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0E25-9877-4AE6-B2BB-54AF220DC70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ик о превентивним мерама за безбедан и здрав рад при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агању карциногенима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мутагенима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,,Службени гласник Р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96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11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новано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тство број 2004/37/ЕЗ број Европског парламента и Савета о заштити запослених од ризика везаних за излагање карциногенима или мутагенима на радном месту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2FC7-FEA4-4D23-8507-5EC11FC87A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ане активности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ношењу прописа у складу са НПИ за 201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одину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дба о превентивним мерама за безбедан и здрав рад услед ризика од експлозивних атмосфер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се транспонуј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тство бр. 1999/92/ЕЗ Европског парламента и Савета о минимуму захтева за побољшање безбедности и здравља на рад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слених изложених ризику услед експлозије гасо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ик о превентивним мерама за безбедан и здрав рад при излагању физичким штетностима - електромагнетна зраче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јим се транспонуј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тство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2004/40/ЕЗ Европског парламента и Савета о минимуму заштите запослених од ризика насталих услед излагања физичким штетностима (електромагнетна зрачења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BD0D-3E07-4811-ABE5-347CBE7741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ник о превентивним мерама за безбедан и здрав рад при излагању физичким штетностима – вештачка оптичка зрачењ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м се транспонуј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утством број 2006/25/ЕЗ Европског парламента и Савета о минимуму заштит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слених од ризика насталих услед излагања физичким штетностим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ештачка оптичка зрачења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5B8-30A6-47F9-9E1C-B6A4B10D39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е активности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7617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2011.годин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а ј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ествовала н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ше семинара, радионица за послодавце, запослен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њихове представник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 циљу развијања културе рада и прмоције безбедности и здравља на раду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 и то: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Регионална привредна комора Крагујевац – Трибина нових прописа у грађевинарству – Уредба о безбедности и здрављу на раду на привременим или покретним градилиштим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Регионална привредна комора Ниш и Нишавски управни округ Владе Републике Србије – Саветовање о примени Уредбе о безбедности и здрављу на раду на привременим или покретним градилиштим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Савез самосталних синдиката Србије  -  Савез самосталних синдиката Војводине – семинар у области безбедности и здрављу на рад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Дан савеза заштите на раду Војводин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5992-CA6B-4283-9056-6A5AC1B482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5T16:06:05Z</dcterms:created>
  <dc:creator>Simo Kosic</dc:creator>
  <dc:description/>
  <dc:language>en-US</dc:language>
  <cp:lastModifiedBy>mira.bozic</cp:lastModifiedBy>
  <dcterms:modified xsi:type="dcterms:W3CDTF">2012-04-09T14:07:53Z</dcterms:modified>
  <cp:revision>73</cp:revision>
  <dc:subject/>
  <dc:title>PowerPoint Presentation</dc:title>
</cp:coreProperties>
</file>