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155-B096-41B9-B31C-55F88923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510-8BA2-4F5A-9244-822C73E5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1EB-A4C1-4A13-BD77-F3405392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BE2-76AB-4DE1-BFD7-C6780D3D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C4E-519A-4F74-8146-AA0D7435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8A3B-63CA-4BF9-83BC-09E5FBA8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F6C-3E55-497B-BB50-29D82E84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1FD-CEEB-4841-85E9-603DCE2C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315-0460-4A68-B922-D95C5776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838-1FB5-40C3-9294-582891DA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A10-E255-4271-9C8F-3D4DFC91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612-65D8-4615-AC69-9E4478E3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D3CB-ACDB-4CBC-89AF-110E49FE7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426852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УНАПРЕЂЕНИ СТАЛНИ ДИЈАЛОГ ЕУ - СРБ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ило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праве за безбедност и здравље на рад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Београд 26.04.2012.год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rbija-mali-grb-2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23680" cy="1676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817560" cy="108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1295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права за безбедност и здравље на ра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09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инистарство рада и социјалне полити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Висока техничка школа струковних студија у Зрењанину – Здраво лице равнице  - Ризици су око на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Агенција за хемикалије – Нови прописи у области класификације, обележавања и паковања хемикалиј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Институт за превентиву - 7.Међународна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Ex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трибин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XIX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Мајски сусрет заштите Србиј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Унија послодаваца Србије - Безбедност и здравље на раду у дрвопрерађивачкој индустриј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Европска конференција на тему достојанстеног рад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Савез самосталних синдиката Србије -  Савез самосталних синдиката Војводине «Искуства синдиката и других социјалних партнера и других институција у системском уређивању осигурања од повреда на раду, професионалних обољења и обољења у вези са радо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Пројекат «Изградња партнерства за смањење неформалне економије у Србији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Висока школа струковних студија –Београдска политехника – У сусрет европским интеграцијама у области безбедности и здравља на раду у заштити животне средин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 међународни сусрет студената екологије и заштите животне средине – Заштитијада 201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A63-284C-4531-ABA0-48797FAFBD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ти  подзаконски пропис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год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описи које је донела Влада Републике Србије </a:t>
            </a:r>
            <a:r>
              <a:rPr b="1" lang="sr-C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 складу са НПИ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. Уредба о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евентивним мерама за безбедан и здрав рад при експлоатацији минералних сировина дубинским бушотинама</a:t>
            </a:r>
            <a:r>
              <a:rPr b="1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„Службени гласник РС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”</a:t>
            </a:r>
            <a:r>
              <a:rPr b="1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број 61/10),</a:t>
            </a:r>
            <a:r>
              <a:rPr b="0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склађивање са: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путство</a:t>
            </a:r>
            <a:r>
              <a:rPr b="0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број 92/91/ЕЕЗ Европског парламента и Савета о минимуму захтева за побољшање безбедности и здравља на раду запослених на вађењу минералних сировина у дубинским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бушотинам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. Уредба о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евентивним мерама за безбедан и здрав </a:t>
            </a:r>
            <a:r>
              <a:rPr b="1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рад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и подземној и површинској експлоатацији минералних сировина</a:t>
            </a:r>
            <a:r>
              <a:rPr b="1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„Службени гласник РС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”</a:t>
            </a:r>
            <a:r>
              <a:rPr b="1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број 65/10),</a:t>
            </a:r>
            <a:r>
              <a:rPr b="0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склађивање са: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путство</a:t>
            </a:r>
            <a:r>
              <a:rPr b="0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број 92/104/ЕЕЗ Европског парламента и Савета о минимуму захтева за побољшање безбедности и здравља на раду запослених  на површинским и дубинским коповима индустрије минерала</a:t>
            </a:r>
            <a:r>
              <a:rPr b="0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B78-930E-4D1E-92BC-941ED97549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редба 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тивним мерама за безбедан и здрав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на пловилима која обављају риболов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Службени гласник Р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рој 70/10)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клађивање 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ј 93/103/ЕЗ Европског парламента и Савета о минимуму захтева безбедности и здравља на раду при раду на пловилима за улов рибе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F02-6042-4772-A880-01AB434A98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описи које је доне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нистарство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 складу са НПИ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Правилник о обезбеђивању ознака за безбедност и здравље на раду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„Службени гласник Р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”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број 95/10),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склађивање са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утств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 Саве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број 92/58/ЕЕЗ о минимуму захтева з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обезбеђивање ознака за безбедност и/или здравље запослених на рад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авилник о превентивним мерама за безбедан и здрав рад при излагању биолошким штетностима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Службени гласник Р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рој 96/10),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клађивање са: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ом број 2000/54/ЕЗ Европског парламента и Савета о заштити запослених од ризика због изложености биолошким агенсима на радном месту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19D7-6940-4EE9-9230-13C8AAAF6A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ти  подзаконски пропис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годи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 о превентивним мерама за безбедан и здрав рад при излагањ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ција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,,Службени гласник Р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број 9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1)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нспонован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о број 2002/44/ЕЗ Европског парламента и Савета о минимуму заштите запослених од ризика насталих услед излагања физичким штетностима (вибрације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ревентивним мерама за безбедан и здрав рад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 излагању буцу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„Службени гласник РС”, број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нспонова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о број 200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ЕЗ Европског парламента и Савет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ези са излагањем запослених ризицима проузрокованим физичким факторима-бу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F2C-37BA-45F2-AEC5-DC72784153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 о превентивним мерама за безбедан и здрав рад при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гању карциногенима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мутагенима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,,Службени гласник Р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9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1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новано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о број 2004/37/ЕЗ број Европског парламента и Савета о заштити запослених од ризика везаних за излагање карциногенима или мутагенима на радном месту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414-D253-4454-AFEE-AA0790571B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активности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ношењу прописа у складу са НПИ за 201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одину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дба о превентивним мерама за безбедан и здрав рад услед ризика од експлозивних атмосфер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се транспонуј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о бр. 1999/92/ЕЗ Европског парламента и Савета о минимуму захтева за побољшање безбедности и здравља на рад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слених изложених ризику услед експлозије гасо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 о превентивним мерама за безбедан и здрав рад при излагању физичким штетностима - електромагнетна зраче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им се транспонуј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2004/40/ЕЗ Европског парламента и Савета о минимуму заштите запослених од ризика насталих услед излагања физичким штетностима (електромагнетна зрачења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8430-6743-4884-A28E-94F9C6BA89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 о превентивним мерама за безбедан и здрав рад при излагању физичким штетностима – вештачка оптичка зрачењ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м се транспонуј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ом број 2006/25/ЕЗ Европског парламента и Савета о минимуму заштит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слених од ризика насталих услед излагања физичким штетностим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штачка оптичка зрачењ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EDD-6501-4C61-BB90-63A2046BD5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активности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2011.годин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а ј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ствовала 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ше семинара, радионица за послодавце, запослен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њихове представни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 циљу развијања културе рада и прмоције безбедности и здравља на рад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и то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Регионална привредна комора Крагујевац – Трибина нових прописа у грађевинарству – Уредба о безбедности и здрављу на раду на привременим или покретним градилиштим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Регионална привредна комора Ниш и Нишавски управни округ Владе Републике Србије – Саветовање о примени Уредбе о безбедности и здрављу на раду на привременим или покретним градилиштим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Савез самосталних синдиката Србије  -  Савез самосталних синдиката Војводине – семинар у области безбедности и здрављу на рад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Дан савеза заштите на раду Војводин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31F-35D9-4300-8587-38F5439528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6:06:05Z</dcterms:created>
  <dc:creator>Simo Kosic</dc:creator>
  <dc:description/>
  <dc:language>en-US</dc:language>
  <cp:lastModifiedBy>mira.bozic</cp:lastModifiedBy>
  <dcterms:modified xsi:type="dcterms:W3CDTF">2012-04-09T14:07:53Z</dcterms:modified>
  <cp:revision>73</cp:revision>
  <dc:subject/>
  <dc:title>PowerPoint Presentation</dc:title>
</cp:coreProperties>
</file>