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0C3-1282-4A09-8955-93E31AFB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7D1F-9928-4BEF-AEF2-02A549E1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E95F-0D74-4AC4-B0FC-5A8A5B76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D9AF-3D06-4AB6-A868-B5D953BCB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4DE-0BE1-4E2F-8525-CB9C866B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D5D3-07F6-4182-86DA-AEA3D1FE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8C67-EB02-42CA-ABD2-75C08DA6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5CF1-63B7-4B3B-8920-22D62765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D59-852F-46F8-B7A4-27A39309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6856-ED96-4C89-9C31-3ADDC4DB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8BF-E927-4A14-9723-1AD1745F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61CB-908D-4390-A0FA-EB516226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7289-F332-4C67-AB5C-C8CC1D185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533520"/>
            <a:ext cx="426888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2120" y="1295280"/>
            <a:ext cx="7619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rbija-mali-grb-2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823680" cy="1676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001000" y="838080"/>
            <a:ext cx="817560" cy="1081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609480"/>
            <a:ext cx="419112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инистарство рад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 социјалне полити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права за безбедност и здравље на рад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2895480"/>
            <a:ext cx="777240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ЦИОНИ ПЛ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СПРОВОЂЕЊЕ СТРАТЕГ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И И ЗДРАВЉА НА РАДУ У РЕПУБЛИЦИ СРБИЈ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ИОД ОД 2009. ДО 2012. ГОДИН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Београд, 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.год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5486400"/>
            <a:ext cx="37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685800" y="533520"/>
          <a:ext cx="8153280" cy="61498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676520"/>
                <a:gridCol w="1295280"/>
              </a:tblGrid>
              <a:tr h="247176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.1. Обезбедити информaције запосленима о дискриминацији и злостављању на радном мест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са добром и лошом пракс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запослених и послодаваца који су информисани о препознавању дискриминације и злостављања на радном мест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Сектор за рад, Управа за родну равноправност, Сектор за рад, ИР, УПС, СССС, УГС „Независност”, Службе медицине рада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Родна равноправнос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Обезбедити информације запосленима о родној равноправно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са добром и лошом пракс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запослених и послодаваца који су информисани о родној равноправно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Управа за родну равноправност, УПС, СССС, УГС „Независност”, Сектор за рад, ИР, Службе медицине рада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. Безбедност производа, која се односи на опрему, машине и друга средства за рад и заштиту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3319-2CC3-45FE-ADFB-3DB76A45C8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52280" y="152280"/>
          <a:ext cx="8686800" cy="6504120"/>
        </p:xfrm>
        <a:graphic>
          <a:graphicData uri="http://schemas.openxmlformats.org/drawingml/2006/table">
            <a:tbl>
              <a:tblPr/>
              <a:tblGrid>
                <a:gridCol w="962280"/>
                <a:gridCol w="1831680"/>
                <a:gridCol w="1473480"/>
                <a:gridCol w="1473120"/>
                <a:gridCol w="1473120"/>
                <a:gridCol w="1473120"/>
              </a:tblGrid>
              <a:tr h="16315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.1. Обезбедити информације о значају поштовања стандарда и акредитације у светлу друштвено одговорног послова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а знања о добробити од увођења стандарда, акредитације у друштвено одговорном пословањ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 број привредних субјеката који поштују стандард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арство економије и регионалног развоја, Агенција за акредитацију, Завод за стандардизациј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. Безбедност услуга, а нарочито услуга одржавања и поправке опреме, машина и других средстава за ра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.1. Обезбедити информације о значају поштовања стандарда и акредитације у светлу друштвено одговорног послова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а знања о добробити од увођења стандарда и акредитације у друштвено одговорном пословаањ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 број привредних субјеката који поштују стандард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старство економије и регионалног развоја, Агенција за акредитацију, Завод за стандардизациј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Промовисање културе превенције и добре праксе у област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1.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вођењ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пања које ће за циљ имати промоцију културе превенц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ње кампа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игнут виши ниво културе у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образовне институције, фондови за пензијско и инвалидско осигурање, невладине организације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6813-0F60-42CA-B6C3-308DB2F6986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304920" y="228600"/>
          <a:ext cx="8534160" cy="644832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2360"/>
                <a:gridCol w="1422360"/>
                <a:gridCol w="2008080"/>
                <a:gridCol w="836640"/>
              </a:tblGrid>
              <a:tr h="1751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2. Програм едукације ученика и студената у сарадњи са образовним институцијама и послодавци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ње кампа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игнут виши ниво знања из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образовне институције, фондови за пензијско и инвалидско осигурање, невладине организације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. Покретање иницијативе код Министарства просвете за увођење образовног предмета Безбедност и здравље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еђени образовни профили и области код којих ће се увести овај предмет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5 средњих стручних школа уведен као оглед предмет Безбедност и здравље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Министарство просвете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.Обележавање дана БЗР Републике Србије и увођење награде за добру пракс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рђен дан БРЗ у Републици Србији и уставновљени критеријуми за награђивање добре пракс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ћан број учесника у обележавању дана БЗР и повећан број привредних друштава са добром праксо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ССС, УГС „Независност”, УПС, невладине организације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.го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Давање иницијатива за увођење законских предпоставки у смислу дефинисањ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. Анализа трошкова за спровођење мера  БЗР код 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упитник и прикупљени одговори 300 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рђен проценат издвајања финансијских средстава за примену мера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друга министарства, ИР, СЕС, СССС, УГС „Независност”, УП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45B8-58E3-4ABE-B800-FBF03CCD1E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80880" y="228600"/>
          <a:ext cx="8458200" cy="6402240"/>
        </p:xfrm>
        <a:graphic>
          <a:graphicData uri="http://schemas.openxmlformats.org/drawingml/2006/table">
            <a:tbl>
              <a:tblPr/>
              <a:tblGrid>
                <a:gridCol w="1447920"/>
                <a:gridCol w="1903320"/>
                <a:gridCol w="1038240"/>
                <a:gridCol w="1355760"/>
                <a:gridCol w="1951200"/>
                <a:gridCol w="761760"/>
              </a:tblGrid>
              <a:tr h="1860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јских и буџетских ресурса у област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. Анализа исплаћених надокнад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време одсуствовања са посла због повреда на раду или професионалних болести, за надокнаде штете код суда и сл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упитник и прикупљени одговори 300 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рђен проценат издвајања финансијских средстава за исплаћене надокнад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друга министарства, ИР, СЕС, СССС, УГС „Независност”, УП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. Сагледавање економског аспекта примене транспонованих прописа ЕУ  код послодавц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упитник и прикупљени одговори 300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рђен проценат издвајања финансијских средстава за примену нових пропис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друга министарства, ИР, СЕС, СССС, УГС „Независност”, УП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 Покретање иницијативе за оснивање референтне лаборатор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1. Покретање иницијативе за израду пројекта: „Оснивање Референтне лабораторије” и образовање радног тима за израду пројек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 радни тим за израду пројек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ђен пројекат: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„Оснивање Референтне лабораторије”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МЗ, Институт за медицину рада Србије „др Драгомир Карајовић”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Покретање иницијативе за оснивање „Центра за едукациј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Израда анализе о могућностима оснивања Центра за едукациј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а радна група за израду анализ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ђена анализа о могућностима оснивања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„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 за едукациј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и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F27-227E-40D2-A837-2E11F51E85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85800" y="685800"/>
          <a:ext cx="7772400" cy="54100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1554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Сарадња у области безбедности и здравља на раду (даља сарадња на међународном нивоу и на националном нивоу побољшана и унапређена међуресорска сарадња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Развијање сарадње са МОР-ом, Европском агенцијом за БЗР, СЗО и др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ње тимова за рад по појединим питањим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јена сарадња  с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-ом, Европском агенцијом за БЗР, СЗ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и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Побољшати  сарадњу са земљама у региону по питању послова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ње тимова за рад по појединим питањи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ољшана сарадња са земљама у регион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. Побољшати  међусекторску и међуресорску сарадњу у делу процеса придруживања у Е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ње тимова за заједнички рад по појединим питањим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бољашана међуресорска и међусекторска сарадњ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и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D35-EC1A-4F58-89E7-5222F77E96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5800" y="228600"/>
          <a:ext cx="7772400" cy="6238800"/>
        </p:xfrm>
        <a:graphic>
          <a:graphicData uri="http://schemas.openxmlformats.org/drawingml/2006/table">
            <a:tbl>
              <a:tblPr/>
              <a:tblGrid>
                <a:gridCol w="1523880"/>
                <a:gridCol w="1067040"/>
                <a:gridCol w="1295280"/>
                <a:gridCol w="1295280"/>
                <a:gridCol w="1295640"/>
                <a:gridCol w="1295280"/>
              </a:tblGrid>
              <a:tr h="9889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шти циљ: унапређење и очување здравља радно активног становништва, односно унапређење услова рада рад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ечавања повреда на раду и професионалних болести и болести у вези са радом и њиховог свођења на најмању могућ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у, односно отклањање професионалних ризик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јединачни циљев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катор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кивани резулта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сиоци активности и учесниц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ков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Успостављање, одржавање, прогресивно развијање и периодично ревидирање система безбедности и здравља на раду у консултацији са репрезентативним организацијама послодаваца и запослених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Формирање радне групе за израду анализе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анови радне груп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на радна група за израду анализе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, СССС, УГС „Независност”, УПС, САВЕТ ЗА БЗР, невладине организације 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т 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према плана анализе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а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план анализе примене закона и подзаконских ака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, СССС, УГС „Независност”, УПС, САВЕТ ЗА БЗР, невладине организације  и друга министарства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Јун 2010.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6312-C30D-4054-A1B3-75985FCBE1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5800" y="228600"/>
          <a:ext cx="7772400" cy="64004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1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Анализа односно утврђивање примене Закона о безбедности и здрављу на раду и подзаконских аката који обезбеђују функционисање Закон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ње примене Закона о безбедности и здрављу на раду и подзаконских пропис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чињен извештај са предлогом измена и допуна Закона о безбедности и здрављу на раду и подзаконских пропис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анови радне груп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1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5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оношење закона, подзаконских прописа, колективних уговора, општих и других аката о безбедности и здрављу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рема и усаглашавање са правним тековинама ЕУ и иновирање прописа у област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 усаглашености Закона о безбедности и здрављу на раду и  подзаконских прописа са упутствима Е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аглашен Закон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безбедности и  здрављу на раду и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саглашени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одзаконски прописи са упутствима Е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, СЕС, СССС, УГС „Независност”, УПС и друга минист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 Учествовање у поступку преговарања при закључивању посебних колективних уговора јавних предузећа</a:t>
                      </a:r>
                      <a:r>
                        <a:rPr b="0" lang="sr-CS" sz="1200" spc="-1" strike="noStrike">
                          <a:solidFill>
                            <a:srgbClr val="ff66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колективних уговора код послодава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јање социјалног дијалога у област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закључених колективних угово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 и друга  надлежна министарства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С, послодавци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авет за БЗР у сарадњи са репрезентативним синдикати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4BA-479D-4CFA-BEF5-8E0ABFB06C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685800" y="228600"/>
          <a:ext cx="7772400" cy="64771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3972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ајање механизама и процедура за спровођење прописа о безбедности и здрављу на раду (интегрисана инспекција рада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 Формирање радне груп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за израду методологије интегрисаног инспекцијског надзора у области радних односа 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анови радне груп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ана радна група за израду методологије интегрисаног инспекцијског надзора у области радних односа и безбедности и здравља на ра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И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Израда методологија за интегрисани инспекцијски надзор у области радних односа 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војена методологија интегрисаног инспекцијског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ју примењују инспектори рад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ремљана методологија за интегрисани инспекцијски надзор у области радних односа и безбедност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И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. Реализација обуке свих инспектора рада за интегрисани инспекцијски надз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инспекто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а који ј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хађао и савладао обуку з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гриса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цијс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дзо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ка сви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пекто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а за интегрисани инспекцијски надзо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области рад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са и безбедности и и здрављ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И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9DE7-8940-4B02-94FC-D6CCAA7698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80880" y="152280"/>
          <a:ext cx="8534520" cy="6478560"/>
        </p:xfrm>
        <a:graphic>
          <a:graphicData uri="http://schemas.openxmlformats.org/drawingml/2006/table">
            <a:tbl>
              <a:tblPr/>
              <a:tblGrid>
                <a:gridCol w="1422360"/>
                <a:gridCol w="1625760"/>
                <a:gridCol w="1219320"/>
                <a:gridCol w="1422360"/>
                <a:gridCol w="1422360"/>
                <a:gridCol w="142236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. Информисање социјалних партнера о интегрисаном инспекцијском надзор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одржаних округлих столова и семинара за социјалне партнер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и округли столови и семинари за социјалне партнере на тему интегрисаног инспекцијског надзо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ИР, СССС, УГС „Независност”, УП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вођење посебног осигурања од повреда на раду и професионалних болест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Организовање семинара ради упознавања са искуствима земаља чланица ЕУ у области осигурања од повред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са искуствима земаља чланица ЕУ у области осигурања од повреда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ни семинар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САВЕТ ЗА БЗР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.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Предложити образовање радне групе за израду Нацрта закона о осигурању од повреда на раду и професионалних болести ради накнаде штет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жени чланови радне груп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а радна груп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 УГС „Независност”, УПС, САВЕТ ЗА БЗР, друга министарства и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Припремити  законски оквир којим се уређује осигурање од повреда на раду и професионалних болести ради накнаде штет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рава о Закону о осигурању од повреда на раду и професионалних болести ради накнаде штет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рађен текст Закона о осигурању од повреда на раду и професионалних болести ради накнаде шт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на груп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C18-6B5B-4D39-9E92-EF658E8129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685800" y="304920"/>
          <a:ext cx="7772400" cy="63244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26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Увођење информационог система у области безбедности и здравља на раду (регистар повреда на раду и професионалних болести и др.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. Анализа постојећег информационог систе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ње функционисања постојећег информационог систем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лог пројекта за увођење регистра повреда на раду и професионалних боле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МЗ и друга министарства, Републички завод здравственог осигурања, Републички фонд ПИО, Институт за медицину рада Србије „др Драгомир Карајовић”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ј 2010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Образовање одговарајућих трипартитних тела које чине представници државних органа, послодаваца и запослених одговорних за безбедност и здравље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. Образовање  сталних радних тела код локалних социјално-економских савет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јање социјалног дијалога у области безбедности и здравља на рад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а стална радна тела за БЗР у оквиру локалних СЕС-а следећих градова: Нови Сад, Београд, Крагујевац, Ниш и општине Суботиц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ИР, СЕС, СССС,УГС „Независност”, УПС и извршни органи јединице локалне самоуправ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.-2012.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Утврђивањ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Мала и средња предузећ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C5A9-758C-48AB-885D-66014D7DA6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304920"/>
          <a:ext cx="8153280" cy="6076800"/>
        </p:xfrm>
        <a:graphic>
          <a:graphicData uri="http://schemas.openxmlformats.org/drawingml/2006/table">
            <a:tbl>
              <a:tblPr/>
              <a:tblGrid>
                <a:gridCol w="1359000"/>
                <a:gridCol w="1358640"/>
                <a:gridCol w="1359000"/>
                <a:gridCol w="1359000"/>
                <a:gridCol w="1955880"/>
                <a:gridCol w="761760"/>
              </a:tblGrid>
              <a:tr h="1446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ритета у решавању проблематике везане за безбедност и здравље на рад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Организовање семинара за едукацију послодаваца малих предузећ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послодаваца са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-носилац,  учесници: Управа за БЗР, ИР, 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2.Организовање семинара за едукацију послодаваца средњих предузећа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послодаваца са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-носилац,  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6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Високоризични сектори (грађевинарство, дрвопрерађивачки, саобраћај, хемијска индустрија,  пољопривреда и сл.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Организовање семинара за едукацију запослених и послодаваца у делатности грађевинарств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02C-882E-4636-AD26-BB3D5664BE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04920" y="533520"/>
          <a:ext cx="8533800" cy="5562360"/>
        </p:xfrm>
        <a:graphic>
          <a:graphicData uri="http://schemas.openxmlformats.org/drawingml/2006/table">
            <a:tbl>
              <a:tblPr/>
              <a:tblGrid>
                <a:gridCol w="1422000"/>
                <a:gridCol w="1422720"/>
                <a:gridCol w="1422000"/>
                <a:gridCol w="1422360"/>
                <a:gridCol w="1757160"/>
                <a:gridCol w="1087560"/>
              </a:tblGrid>
              <a:tr h="1854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2. Организовање семинара за едукацију запослених и послодаваца у дрвопрерађивачком сектору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-носилац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3. Организовање семинара за едукацију запослених и послодаваца у делатности саобраћај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5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4. Организовање семинара за едукацију запослених и послодаваца у хемијској индустриј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127B-102D-40AB-ABD0-591786E8AF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85800" y="380880"/>
          <a:ext cx="8153280" cy="6391440"/>
        </p:xfrm>
        <a:graphic>
          <a:graphicData uri="http://schemas.openxmlformats.org/drawingml/2006/table">
            <a:tbl>
              <a:tblPr/>
              <a:tblGrid>
                <a:gridCol w="1359000"/>
                <a:gridCol w="1358640"/>
                <a:gridCol w="1359000"/>
                <a:gridCol w="1359000"/>
                <a:gridCol w="1917720"/>
                <a:gridCol w="799920"/>
              </a:tblGrid>
              <a:tr h="145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5. Организовање семинара за едукацију запослених и послодаваца у пољопривред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, обавезама и одговорностима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семинар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сници: Управа за БЗР,ИР,УПС, УГС „Независност”, СССС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9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Групе осетљивих запослених (труднице, млади, старији запослени, особе са инвалидитетом, инвалиди рада и др.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ње едукација за упознавање осетљивих група запослених са правима у области БЗ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знавање запослених и послодаваца са правима осетљивих запослених у области БЗ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ржано 5 едукациј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С, СССС, УГС „Независност”, -носилац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СП, УБЗР, Управа за родну равноправност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тор за рад, ИР, Службе медицине рада, невладине организациј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инуирано крај 2012. год.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. Дискриминација и злостављање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DC1D-7B99-4267-B4C2-A7DE7B62FB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5:43:59Z</dcterms:created>
  <dc:creator>Simo Kosic</dc:creator>
  <dc:description/>
  <dc:language>en-US</dc:language>
  <cp:lastModifiedBy>miodrag.l</cp:lastModifiedBy>
  <dcterms:modified xsi:type="dcterms:W3CDTF">2012-04-09T14:37:48Z</dcterms:modified>
  <cp:revision>41</cp:revision>
  <dc:subject/>
  <dc:title>mr</dc:title>
</cp:coreProperties>
</file>