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5C2-21D3-429C-9783-CDC36914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7AC-4CC4-435F-91CC-B629AD7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DAC-C666-41E0-9E7E-2D73C1FD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455-C0AA-4418-B3A1-CCE4EE7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D93-AAB9-4056-86A3-E3FD858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975-9831-4A53-85F7-67F4D846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CE6-1FCA-4337-AB9F-F06BFD5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C2D-0B4B-4ADD-9217-64E446B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7E3-4B05-4639-A10D-DD21D27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777-8086-468F-BB0D-CBA80D2C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84B-CC46-4F00-9C7A-2BE8468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D43-755D-491B-B4C0-ABDB9F7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14C-3103-4544-8ECF-C9BE879BB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26888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2952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rbija-mali-grb-2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2368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817560" cy="10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609480"/>
            <a:ext cx="4191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инистарство рад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социјалне поли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права за безбедност и здравље на р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895480"/>
            <a:ext cx="77724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ОНИ 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РОВОЂЕЊЕ СТРАТЕГ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И И ЗДРАВЉА НА РАДУ У РЕПУБЛИЦИ СРБИЈ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ОД 2009. ДО 2012. ГОДИ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еоград,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.г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486400"/>
            <a:ext cx="37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533520"/>
          <a:ext cx="8153280" cy="61498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676520"/>
                <a:gridCol w="1295280"/>
              </a:tblGrid>
              <a:tr h="2471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1. Обезбедити информaције запосленима о дискриминацији и злостављању на радном мес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добром и лош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послених и послодаваца који су информисани о препознавању дискриминације и злостављања на радном мес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Сектор за рад, Управа за родну равноправност, Сектор за рад, ИР, УПС, СССС, УГС „Независност”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Родна равноправнос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Обезбедити информације запосленима о родној равнопра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добром и лош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послених и послодаваца који су информисани о родној равнопра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Управа за родну равноправност, УПС, СССС, УГС „Независност”, Сектор за рад, ИР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. Безбедност производа, која се односи на опрему, машине и друга средства за рад и заштиту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A9C-AA1F-48B1-B88E-55A32F5B2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2280" y="152280"/>
          <a:ext cx="8686800" cy="6504120"/>
        </p:xfrm>
        <a:graphic>
          <a:graphicData uri="http://schemas.openxmlformats.org/drawingml/2006/table">
            <a:tbl>
              <a:tblPr/>
              <a:tblGrid>
                <a:gridCol w="962280"/>
                <a:gridCol w="1831680"/>
                <a:gridCol w="1473480"/>
                <a:gridCol w="1473120"/>
                <a:gridCol w="1473120"/>
                <a:gridCol w="1473120"/>
              </a:tblGrid>
              <a:tr h="163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.1. Обезбедити информације о значају поштовања стандарда и акредитације у светлу друштвено одговорног послов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а знања о добробити од увођења стандарда, акредитације у друштвено одговорном пословањ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привредних субјеката који поштују стандар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арство економије и регионалног развоја, Агенција за акредитацију, Завод за стандардиз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. Безбедност услуга, а нарочито услуга одржавања и поправке опреме, машина и других средстава за р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.1. Обезбедити информације о значају поштовања стандарда и акредитације у светлу друштвено одговорног послов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а знања о добробити од увођења стандарда и акредитације у друштвено одговорном пословаањ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привредних субјеката који поштују стандар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арство економије и регионалног развоја, Агенција за акредитацију, Завод за стандардиз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омовисање културе превенције и добре праксе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во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пања које ће за циљ имати промоцију културе превен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камп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т виши ниво културе у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образовне институције, фондови за пензијско и инвалидско осигурање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A91-EF80-46C6-9DE7-374F0ED4BD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228600"/>
          <a:ext cx="8534160" cy="644832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  <a:gridCol w="1422360"/>
                <a:gridCol w="2008080"/>
                <a:gridCol w="836640"/>
              </a:tblGrid>
              <a:tr h="175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. Програм едукације ученика и студената у сарадњи са образовним институцијама и послодавц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камп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т виши ниво знања из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образовне институције, фондови за пензијско и инвалидско осигурање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. Покретање иницијативе код Министарства просвете за увођење образовног предмет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еђени образовни профили и области код којих ће се увести овај предм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5 средњих стручних школа уведен као оглед предмет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Министарство просвете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.Обележавање дана БЗР Републике Србије и увођење награде за добру пракс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дан БРЗ у Републици Србији и уставновљени критеријуми за награђивање добре пракс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учесника у обележавању дана БЗР и повећан број привредних друштава са добр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ССС, УГС „Независност”, УПС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Давање иницијатива за увођење законских предпоставки у смислу дефинисањ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. Анализа трошкова за спровођење мера  БЗР код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примену мера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786-4FF2-44F8-9E50-AB07C2DB7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"/>
          <a:ext cx="8458200" cy="6402240"/>
        </p:xfrm>
        <a:graphic>
          <a:graphicData uri="http://schemas.openxmlformats.org/drawingml/2006/table">
            <a:tbl>
              <a:tblPr/>
              <a:tblGrid>
                <a:gridCol w="1447920"/>
                <a:gridCol w="1903320"/>
                <a:gridCol w="1038240"/>
                <a:gridCol w="1355760"/>
                <a:gridCol w="1951200"/>
                <a:gridCol w="761760"/>
              </a:tblGrid>
              <a:tr h="186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јских и буџетских ресурс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. Анализа исплаћених надокнад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реме одсуствовања са посла због повреда на раду или професионалних болести, за надокнаде штете код суда и сл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исплаћене надокна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. Сагледавање економског аспекта примене транспонованих прописа ЕУ  код послодавц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примену нових пропи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окретање иницијативе за оснивање референтне лаборатор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. Покретање иницијативе за израду пројекта: „Оснивање Референтне лабораторије” и образовање радног тима за израду пројек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 радни тим за израду пројек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 пројекат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Оснивање Референтне лабораторије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МЗ, Институт за медицину рада Србије „др Драгомир Карајовић”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Покретање иницијативе за оснивање „Центра за едукациј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Израда анализе о могућностима оснивања Центра за едук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радна група за израду анализ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а анализа о могућностима оснивања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за едукациј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3E0-2D84-4399-B391-14F7827D7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685800"/>
          <a:ext cx="7772400" cy="54100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55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Сарадња у области безбедности и здравља на раду (даља сарадња на међународном нивоу и на националном нивоу побољшана и унапређена међуресорска сарадња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Развијање сарадње са МОР-ом, Европском агенцијом за БЗР, СЗО и др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рад по појединим питањим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ена сарадња  с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-ом, Европском агенцијом за БЗР, СЗ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Побољшати  сарадњу са земљама у региону по питању послова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рад по појединим питањ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шана сарадња са земљама у регион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. Побољшати  међусекторску и међуресорску сарадњу у делу процеса придруживања у Е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заједнички рад по појединим питањим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ашана међуресорска и међусекторска сарад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98E-8D70-409F-9D61-8F2BF84D6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228600"/>
          <a:ext cx="7772400" cy="623880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295280"/>
                <a:gridCol w="1295280"/>
                <a:gridCol w="1295640"/>
                <a:gridCol w="1295280"/>
              </a:tblGrid>
              <a:tr h="988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 циљ: унапређење и очување здравља радно активног становништва, односно унапређење услова рада рад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ечавања повреда на раду и професионалних болести и болести у вези са радом и њиховог свођења на најмању могућ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у, односно отклањање професионалних риз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јединачни циљев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кивани резулта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оци активности и учес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ов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спостављање, одржавање, прогресивно развијање и периодично ревидирање система безбедности и здравља на раду у консултацији са репрезентативним организацијама послодаваца и запослени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Формирање радне групе за израду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на радна група за израду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СССС, УГС „Независност”, УПС, САВЕТ ЗА БЗР, невладине организације 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према плана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план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СССС, УГС „Независност”, УПС, САВЕТ ЗА БЗР, невладине организације  и друга министарст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ун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97F-BDCA-4928-A195-7D9FDDB42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228600"/>
          <a:ext cx="7772400" cy="64004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нализа односно утврђивање примене Закона о безбедности и здрављу на раду и подзаконских аката који обезбеђују функционисање Зако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е примене Закона о безбедности и здрављу на раду и подзаконских пропис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извештај са предлогом измена и допуна Закона о безбедности и здрављу на раду и подзаконских пропи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1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ношење закона, подзаконских прописа, колективних уговора, општих и других аката о безбедности и здрављу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а и усаглашавање са правним тековинама ЕУ и иновирање пропис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 усаглашености Закона о безбедности и здрављу на раду и  подзаконских прописа са упутствима Е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аглашен Зако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збедности и  здрављу на раду 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саглашени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дзаконски прописи са упутствима Е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, СЕС, СССС, УГС „Независност”, УПС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Учествовање у поступку преговарања при закључивању посебних колективних уговора јавних предузећа</a:t>
                      </a:r>
                      <a:r>
                        <a:rPr b="0" lang="sr-CS" sz="1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олективних уговора код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ање социјалног дијалог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кључених колективних угово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 и друга  надлежна министарств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послодавци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вет за БЗР у сарадњи са репрезентативним синдикат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22E-C56A-40DD-B353-81337099C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228600"/>
          <a:ext cx="7772400" cy="6477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397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ајање механизама и процедура за спровођење прописа о безбедности и здрављу на раду (интегрисана инспекција рада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Формирање радне груп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 израду методологије интегрисаног инспекцијског надзора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на радна група за израду методологије интегрисаног инспекцијског надзора у области радних односа и безбедности и здравља на р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Израда методологија за интегрисани инспекцијски надзор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јена методологија интегрисаног инспекцијског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у примењују инспектори рад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љана методологија за интегрисани инспекцијски надзор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Реализација обуке свих инспектора рада за интегрисани инспекцијски надз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инспект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који ј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ађао и савладао обуку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ис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циј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о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св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за интегрисани инспекцијски надз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области рад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са и безбедности 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870-BADF-4D65-BD30-88D800004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152280"/>
          <a:ext cx="8534520" cy="6478560"/>
        </p:xfrm>
        <a:graphic>
          <a:graphicData uri="http://schemas.openxmlformats.org/drawingml/2006/table">
            <a:tbl>
              <a:tblPr/>
              <a:tblGrid>
                <a:gridCol w="1422360"/>
                <a:gridCol w="1625760"/>
                <a:gridCol w="1219320"/>
                <a:gridCol w="1422360"/>
                <a:gridCol w="1422360"/>
                <a:gridCol w="14223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Информисање социјалних партнера о интегрисаном инспекцијском надзор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држаних округлих столова и семинара за социјалне партнер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и округли столови и семинари за социјалне партнере на тему интегрисаног инспекцијског надзо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вођење посебног осигурања од повреда на раду и професионалних боле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Организовање семинара ради упознавања са искуствима земаља чланица ЕУ у области осигурања од повред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искуствима земаља чланица ЕУ у области осигурања од повред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и семинар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САВЕТ ЗА БЗР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Предложити образовање радне групе за израду Нацрта закона о осигурању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 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радна груп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САВЕТ ЗА БЗР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Припремити  законски оквир којим се уређује осигурање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ава о Закону о осигурању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 текст Закона о осигурању од повреда на раду и професионалних болести ради накнаде шт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на груп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D40-7D74-4963-9509-B231B3590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304920"/>
          <a:ext cx="7772400" cy="6324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вођење информационог система у области безбедности и здравља на раду (регистар повреда на раду и професионалних болести и др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 Анализа постојећег информационог систе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е функционисања постојећег информационог систе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 пројекта за увођење регистра повреда на раду и професионалних боле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МЗ и друга министарства, Републички завод здравственог осигурања, Републички фонд ПИО, Институт за медицину рада Србије „др Драгомир Карајовић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бразовање одговарајућих трипартитних тела које чине представници државних органа, послодаваца и запослених одговорних з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. Образовање  сталних радних тела код локалних социјално-економских саве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ање социјалног дијалога у области безбедности и здравља на ра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стална радна тела за БЗР у оквиру локалних СЕС-а следећих градова: Нови Сад, Београд, Крагујевац, Ниш и општине Суботи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УГС „Независност”, УПС и извршни органи јединице локалне самоуправ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-2012.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Утврђи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Мала и средња предузећ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7C6-A1A8-4D9C-B4F2-C5A3B41AA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304920"/>
          <a:ext cx="8153280" cy="607680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955880"/>
                <a:gridCol w="761760"/>
              </a:tblGrid>
              <a:tr h="1446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а у решавању проблематике везане з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Организовање семинара за едукацију послодаваца малих предузећ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послодаваца са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-носилац,  учесници: Управа за БЗР, ИР, 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2.Организовање семинара за едукацију послодаваца средњих предузећа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послодаваца са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-носилац,  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Високоризични сектори (грађевинарство, дрвопрерађивачки, саобраћај, хемијска индустрија,  пољопривреда и сл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Организовање семинара за едукацију запослених и послодаваца у делатности грађевин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451-7155-4742-8577-6FADECFE9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533520"/>
          <a:ext cx="8533800" cy="556236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000"/>
                <a:gridCol w="1422360"/>
                <a:gridCol w="1757160"/>
                <a:gridCol w="1087560"/>
              </a:tblGrid>
              <a:tr h="1854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2. Организовање семинара за едукацију запослених и послодаваца у дрвопрерађивачком сектор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3. Организовање семинара за едукацију запослених и послодаваца у делатности саобраћај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4. Организовање семинара за едукацију запослених и послодаваца у хемијској индустриј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B08-C2B6-4A78-8F7C-599DD974A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5800" y="380880"/>
          <a:ext cx="8153280" cy="639144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917720"/>
                <a:gridCol w="799920"/>
              </a:tblGrid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5. Организовање семинара за едукацију запослених и послодаваца у пољопривред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Групе осетљивих запослених (труднице, млади, старији запослени, особе са инвалидитетом, инвалиди рада и др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едукација за упознавање осетљивих група запослених са правима у области БЗ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 осетљивих запослених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едукациј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Управа за родну равноправнос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тор за рад, ИР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 Дискриминација и злостављањ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120-60C4-4887-AB04-3D5802B0BF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5:43:59Z</dcterms:created>
  <dc:creator>Simo Kosic</dc:creator>
  <dc:description/>
  <dc:language>en-US</dc:language>
  <cp:lastModifiedBy>miodrag.l</cp:lastModifiedBy>
  <dcterms:modified xsi:type="dcterms:W3CDTF">2012-04-09T14:37:48Z</dcterms:modified>
  <cp:revision>41</cp:revision>
  <dc:subject/>
  <dc:title>mr</dc:title>
</cp:coreProperties>
</file>